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1F30-AE7E-4874-BCB9-39BEB067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8F9-7014-4230-9FF2-7FC4A21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4EB-A017-42D2-BEE4-6EA6A43A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369-662B-4176-8784-262B5A20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F954-93FD-492F-8F53-F4B94ECF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FCD4-0300-4E5B-B2F7-39793B66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3858-1B2E-4AF0-8E74-7F14BBF8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BE07-6933-4578-9BBA-8AFC2907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6DB5-E606-4007-81C5-A40BA5BD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FF6-78D3-4D26-B7F9-674611C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EEBB-6CBD-4280-9116-2D5C319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BE4-854F-4C58-8EFE-82827DD8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81B5-D01C-4710-8076-99D5EF8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0F7-0C15-4CAB-A7B6-8416D6D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2C03-C1E9-4CCF-B003-5CB5C2C7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C569-107E-4A24-9890-331DBFBD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568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14160" y="148428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684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568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14160" y="3778920"/>
            <a:ext cx="26460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623-3941-41AA-8215-D0570C85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02B-15F9-473A-B295-1F48AFC8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16F-4474-444D-BB37-4FAA695E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062-0877-4EBB-9F09-13FA091C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60280"/>
            <a:ext cx="820728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1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213-393C-4688-AD44-7CF6EB1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5DD-631A-4C5C-91F7-DBD1DD6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77892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8C1-B219-4558-85B4-CF2727F7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484280"/>
            <a:ext cx="40104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778920"/>
            <a:ext cx="82184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BF9-492E-46AD-A105-065C9BBC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539640" y="6308640"/>
            <a:ext cx="3616200" cy="107640"/>
            <a:chOff x="539640" y="6308640"/>
            <a:chExt cx="3616200" cy="107640"/>
          </a:xfrm>
        </p:grpSpPr>
        <p:sp>
          <p:nvSpPr>
            <p:cNvPr id="1" name="Freeform 33"/>
            <p:cNvSpPr/>
            <p:nvPr/>
          </p:nvSpPr>
          <p:spPr>
            <a:xfrm>
              <a:off x="2144520" y="6308640"/>
              <a:ext cx="2011320" cy="107640"/>
            </a:xfrm>
            <a:custGeom>
              <a:avLst/>
              <a:gdLst>
                <a:gd name="textAreaLeft" fmla="*/ 0 w 2011320"/>
                <a:gd name="textAreaRight" fmla="*/ 2011680 w 20113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2677" h="681">
                  <a:moveTo>
                    <a:pt x="371" y="94"/>
                  </a:moveTo>
                  <a:lnTo>
                    <a:pt x="371" y="12"/>
                  </a:lnTo>
                  <a:lnTo>
                    <a:pt x="0" y="12"/>
                  </a:lnTo>
                  <a:lnTo>
                    <a:pt x="0" y="669"/>
                  </a:lnTo>
                  <a:lnTo>
                    <a:pt x="95" y="669"/>
                  </a:lnTo>
                  <a:lnTo>
                    <a:pt x="95" y="369"/>
                  </a:lnTo>
                  <a:lnTo>
                    <a:pt x="346" y="369"/>
                  </a:lnTo>
                  <a:lnTo>
                    <a:pt x="346" y="285"/>
                  </a:lnTo>
                  <a:lnTo>
                    <a:pt x="95" y="285"/>
                  </a:lnTo>
                  <a:lnTo>
                    <a:pt x="95" y="94"/>
                  </a:lnTo>
                  <a:lnTo>
                    <a:pt x="371" y="94"/>
                  </a:lnTo>
                  <a:close/>
                  <a:moveTo>
                    <a:pt x="1104" y="340"/>
                  </a:moveTo>
                  <a:lnTo>
                    <a:pt x="1103" y="304"/>
                  </a:lnTo>
                  <a:lnTo>
                    <a:pt x="1099" y="270"/>
                  </a:lnTo>
                  <a:lnTo>
                    <a:pt x="1092" y="238"/>
                  </a:lnTo>
                  <a:lnTo>
                    <a:pt x="1083" y="207"/>
                  </a:lnTo>
                  <a:lnTo>
                    <a:pt x="1072" y="177"/>
                  </a:lnTo>
                  <a:lnTo>
                    <a:pt x="1058" y="149"/>
                  </a:lnTo>
                  <a:lnTo>
                    <a:pt x="1042" y="123"/>
                  </a:lnTo>
                  <a:lnTo>
                    <a:pt x="1023" y="98"/>
                  </a:lnTo>
                  <a:lnTo>
                    <a:pt x="1000" y="76"/>
                  </a:lnTo>
                  <a:lnTo>
                    <a:pt x="976" y="55"/>
                  </a:lnTo>
                  <a:lnTo>
                    <a:pt x="950" y="39"/>
                  </a:lnTo>
                  <a:lnTo>
                    <a:pt x="921" y="25"/>
                  </a:lnTo>
                  <a:lnTo>
                    <a:pt x="891" y="13"/>
                  </a:lnTo>
                  <a:lnTo>
                    <a:pt x="859" y="6"/>
                  </a:lnTo>
                  <a:lnTo>
                    <a:pt x="824" y="1"/>
                  </a:lnTo>
                  <a:lnTo>
                    <a:pt x="788" y="0"/>
                  </a:lnTo>
                  <a:lnTo>
                    <a:pt x="751" y="1"/>
                  </a:lnTo>
                  <a:lnTo>
                    <a:pt x="717" y="6"/>
                  </a:lnTo>
                  <a:lnTo>
                    <a:pt x="685" y="13"/>
                  </a:lnTo>
                  <a:lnTo>
                    <a:pt x="654" y="25"/>
                  </a:lnTo>
                  <a:lnTo>
                    <a:pt x="626" y="39"/>
                  </a:lnTo>
                  <a:lnTo>
                    <a:pt x="600" y="55"/>
                  </a:lnTo>
                  <a:lnTo>
                    <a:pt x="575" y="76"/>
                  </a:lnTo>
                  <a:lnTo>
                    <a:pt x="552" y="98"/>
                  </a:lnTo>
                  <a:lnTo>
                    <a:pt x="543" y="111"/>
                  </a:lnTo>
                  <a:lnTo>
                    <a:pt x="534" y="123"/>
                  </a:lnTo>
                  <a:lnTo>
                    <a:pt x="518" y="149"/>
                  </a:lnTo>
                  <a:lnTo>
                    <a:pt x="504" y="177"/>
                  </a:lnTo>
                  <a:lnTo>
                    <a:pt x="493" y="206"/>
                  </a:lnTo>
                  <a:lnTo>
                    <a:pt x="485" y="238"/>
                  </a:lnTo>
                  <a:lnTo>
                    <a:pt x="479" y="270"/>
                  </a:lnTo>
                  <a:lnTo>
                    <a:pt x="475" y="304"/>
                  </a:lnTo>
                  <a:lnTo>
                    <a:pt x="473" y="340"/>
                  </a:lnTo>
                  <a:lnTo>
                    <a:pt x="475" y="377"/>
                  </a:lnTo>
                  <a:lnTo>
                    <a:pt x="479" y="412"/>
                  </a:lnTo>
                  <a:lnTo>
                    <a:pt x="485" y="444"/>
                  </a:lnTo>
                  <a:lnTo>
                    <a:pt x="493" y="475"/>
                  </a:lnTo>
                  <a:lnTo>
                    <a:pt x="504" y="504"/>
                  </a:lnTo>
                  <a:lnTo>
                    <a:pt x="519" y="531"/>
                  </a:lnTo>
                  <a:lnTo>
                    <a:pt x="534" y="557"/>
                  </a:lnTo>
                  <a:lnTo>
                    <a:pt x="552" y="581"/>
                  </a:lnTo>
                  <a:lnTo>
                    <a:pt x="575" y="604"/>
                  </a:lnTo>
                  <a:lnTo>
                    <a:pt x="587" y="615"/>
                  </a:lnTo>
                  <a:lnTo>
                    <a:pt x="600" y="625"/>
                  </a:lnTo>
                  <a:lnTo>
                    <a:pt x="626" y="642"/>
                  </a:lnTo>
                  <a:lnTo>
                    <a:pt x="654" y="656"/>
                  </a:lnTo>
                  <a:lnTo>
                    <a:pt x="685" y="668"/>
                  </a:lnTo>
                  <a:lnTo>
                    <a:pt x="717" y="675"/>
                  </a:lnTo>
                  <a:lnTo>
                    <a:pt x="751" y="680"/>
                  </a:lnTo>
                  <a:lnTo>
                    <a:pt x="788" y="681"/>
                  </a:lnTo>
                  <a:lnTo>
                    <a:pt x="824" y="680"/>
                  </a:lnTo>
                  <a:lnTo>
                    <a:pt x="859" y="675"/>
                  </a:lnTo>
                  <a:lnTo>
                    <a:pt x="891" y="668"/>
                  </a:lnTo>
                  <a:lnTo>
                    <a:pt x="921" y="656"/>
                  </a:lnTo>
                  <a:lnTo>
                    <a:pt x="950" y="642"/>
                  </a:lnTo>
                  <a:lnTo>
                    <a:pt x="976" y="625"/>
                  </a:lnTo>
                  <a:lnTo>
                    <a:pt x="1000" y="604"/>
                  </a:lnTo>
                  <a:lnTo>
                    <a:pt x="1023" y="581"/>
                  </a:lnTo>
                  <a:lnTo>
                    <a:pt x="1033" y="569"/>
                  </a:lnTo>
                  <a:lnTo>
                    <a:pt x="1042" y="557"/>
                  </a:lnTo>
                  <a:lnTo>
                    <a:pt x="1058" y="531"/>
                  </a:lnTo>
                  <a:lnTo>
                    <a:pt x="1072" y="504"/>
                  </a:lnTo>
                  <a:lnTo>
                    <a:pt x="1083" y="474"/>
                  </a:lnTo>
                  <a:lnTo>
                    <a:pt x="1092" y="443"/>
                  </a:lnTo>
                  <a:lnTo>
                    <a:pt x="1099" y="411"/>
                  </a:lnTo>
                  <a:lnTo>
                    <a:pt x="1103" y="377"/>
                  </a:lnTo>
                  <a:lnTo>
                    <a:pt x="1104" y="340"/>
                  </a:lnTo>
                  <a:close/>
                  <a:moveTo>
                    <a:pt x="1004" y="340"/>
                  </a:moveTo>
                  <a:lnTo>
                    <a:pt x="1003" y="368"/>
                  </a:lnTo>
                  <a:lnTo>
                    <a:pt x="1001" y="394"/>
                  </a:lnTo>
                  <a:lnTo>
                    <a:pt x="996" y="419"/>
                  </a:lnTo>
                  <a:lnTo>
                    <a:pt x="990" y="442"/>
                  </a:lnTo>
                  <a:lnTo>
                    <a:pt x="982" y="465"/>
                  </a:lnTo>
                  <a:lnTo>
                    <a:pt x="972" y="485"/>
                  </a:lnTo>
                  <a:lnTo>
                    <a:pt x="961" y="505"/>
                  </a:lnTo>
                  <a:lnTo>
                    <a:pt x="948" y="523"/>
                  </a:lnTo>
                  <a:lnTo>
                    <a:pt x="933" y="541"/>
                  </a:lnTo>
                  <a:lnTo>
                    <a:pt x="915" y="556"/>
                  </a:lnTo>
                  <a:lnTo>
                    <a:pt x="898" y="568"/>
                  </a:lnTo>
                  <a:lnTo>
                    <a:pt x="878" y="579"/>
                  </a:lnTo>
                  <a:lnTo>
                    <a:pt x="858" y="587"/>
                  </a:lnTo>
                  <a:lnTo>
                    <a:pt x="835" y="593"/>
                  </a:lnTo>
                  <a:lnTo>
                    <a:pt x="813" y="596"/>
                  </a:lnTo>
                  <a:lnTo>
                    <a:pt x="788" y="597"/>
                  </a:lnTo>
                  <a:lnTo>
                    <a:pt x="763" y="596"/>
                  </a:lnTo>
                  <a:lnTo>
                    <a:pt x="740" y="593"/>
                  </a:lnTo>
                  <a:lnTo>
                    <a:pt x="729" y="590"/>
                  </a:lnTo>
                  <a:lnTo>
                    <a:pt x="718" y="587"/>
                  </a:lnTo>
                  <a:lnTo>
                    <a:pt x="698" y="579"/>
                  </a:lnTo>
                  <a:lnTo>
                    <a:pt x="678" y="568"/>
                  </a:lnTo>
                  <a:lnTo>
                    <a:pt x="660" y="556"/>
                  </a:lnTo>
                  <a:lnTo>
                    <a:pt x="652" y="549"/>
                  </a:lnTo>
                  <a:lnTo>
                    <a:pt x="644" y="541"/>
                  </a:lnTo>
                  <a:lnTo>
                    <a:pt x="628" y="523"/>
                  </a:lnTo>
                  <a:lnTo>
                    <a:pt x="615" y="505"/>
                  </a:lnTo>
                  <a:lnTo>
                    <a:pt x="603" y="485"/>
                  </a:lnTo>
                  <a:lnTo>
                    <a:pt x="593" y="465"/>
                  </a:lnTo>
                  <a:lnTo>
                    <a:pt x="585" y="442"/>
                  </a:lnTo>
                  <a:lnTo>
                    <a:pt x="579" y="419"/>
                  </a:lnTo>
                  <a:lnTo>
                    <a:pt x="574" y="394"/>
                  </a:lnTo>
                  <a:lnTo>
                    <a:pt x="572" y="368"/>
                  </a:lnTo>
                  <a:lnTo>
                    <a:pt x="571" y="340"/>
                  </a:lnTo>
                  <a:lnTo>
                    <a:pt x="572" y="313"/>
                  </a:lnTo>
                  <a:lnTo>
                    <a:pt x="574" y="288"/>
                  </a:lnTo>
                  <a:lnTo>
                    <a:pt x="579" y="263"/>
                  </a:lnTo>
                  <a:lnTo>
                    <a:pt x="585" y="240"/>
                  </a:lnTo>
                  <a:lnTo>
                    <a:pt x="593" y="217"/>
                  </a:lnTo>
                  <a:lnTo>
                    <a:pt x="603" y="197"/>
                  </a:lnTo>
                  <a:lnTo>
                    <a:pt x="615" y="176"/>
                  </a:lnTo>
                  <a:lnTo>
                    <a:pt x="628" y="159"/>
                  </a:lnTo>
                  <a:lnTo>
                    <a:pt x="644" y="140"/>
                  </a:lnTo>
                  <a:lnTo>
                    <a:pt x="661" y="126"/>
                  </a:lnTo>
                  <a:lnTo>
                    <a:pt x="678" y="113"/>
                  </a:lnTo>
                  <a:lnTo>
                    <a:pt x="698" y="102"/>
                  </a:lnTo>
                  <a:lnTo>
                    <a:pt x="718" y="94"/>
                  </a:lnTo>
                  <a:lnTo>
                    <a:pt x="740" y="88"/>
                  </a:lnTo>
                  <a:lnTo>
                    <a:pt x="763" y="85"/>
                  </a:lnTo>
                  <a:lnTo>
                    <a:pt x="788" y="84"/>
                  </a:lnTo>
                  <a:lnTo>
                    <a:pt x="813" y="85"/>
                  </a:lnTo>
                  <a:lnTo>
                    <a:pt x="835" y="88"/>
                  </a:lnTo>
                  <a:lnTo>
                    <a:pt x="857" y="94"/>
                  </a:lnTo>
                  <a:lnTo>
                    <a:pt x="877" y="102"/>
                  </a:lnTo>
                  <a:lnTo>
                    <a:pt x="897" y="113"/>
                  </a:lnTo>
                  <a:lnTo>
                    <a:pt x="915" y="126"/>
                  </a:lnTo>
                  <a:lnTo>
                    <a:pt x="931" y="140"/>
                  </a:lnTo>
                  <a:lnTo>
                    <a:pt x="948" y="159"/>
                  </a:lnTo>
                  <a:lnTo>
                    <a:pt x="961" y="176"/>
                  </a:lnTo>
                  <a:lnTo>
                    <a:pt x="972" y="197"/>
                  </a:lnTo>
                  <a:lnTo>
                    <a:pt x="982" y="217"/>
                  </a:lnTo>
                  <a:lnTo>
                    <a:pt x="990" y="240"/>
                  </a:lnTo>
                  <a:lnTo>
                    <a:pt x="996" y="263"/>
                  </a:lnTo>
                  <a:lnTo>
                    <a:pt x="1001" y="288"/>
                  </a:lnTo>
                  <a:lnTo>
                    <a:pt x="1003" y="313"/>
                  </a:lnTo>
                  <a:lnTo>
                    <a:pt x="1004" y="340"/>
                  </a:lnTo>
                  <a:close/>
                  <a:moveTo>
                    <a:pt x="1717" y="669"/>
                  </a:moveTo>
                  <a:lnTo>
                    <a:pt x="1717" y="585"/>
                  </a:lnTo>
                  <a:lnTo>
                    <a:pt x="1697" y="585"/>
                  </a:lnTo>
                  <a:lnTo>
                    <a:pt x="1689" y="584"/>
                  </a:lnTo>
                  <a:lnTo>
                    <a:pt x="1681" y="580"/>
                  </a:lnTo>
                  <a:lnTo>
                    <a:pt x="1671" y="572"/>
                  </a:lnTo>
                  <a:lnTo>
                    <a:pt x="1662" y="563"/>
                  </a:lnTo>
                  <a:lnTo>
                    <a:pt x="1644" y="536"/>
                  </a:lnTo>
                  <a:lnTo>
                    <a:pt x="1623" y="497"/>
                  </a:lnTo>
                  <a:lnTo>
                    <a:pt x="1598" y="444"/>
                  </a:lnTo>
                  <a:lnTo>
                    <a:pt x="1574" y="402"/>
                  </a:lnTo>
                  <a:lnTo>
                    <a:pt x="1552" y="370"/>
                  </a:lnTo>
                  <a:lnTo>
                    <a:pt x="1533" y="346"/>
                  </a:lnTo>
                  <a:lnTo>
                    <a:pt x="1564" y="331"/>
                  </a:lnTo>
                  <a:lnTo>
                    <a:pt x="1590" y="314"/>
                  </a:lnTo>
                  <a:lnTo>
                    <a:pt x="1613" y="296"/>
                  </a:lnTo>
                  <a:lnTo>
                    <a:pt x="1631" y="276"/>
                  </a:lnTo>
                  <a:lnTo>
                    <a:pt x="1645" y="255"/>
                  </a:lnTo>
                  <a:lnTo>
                    <a:pt x="1655" y="232"/>
                  </a:lnTo>
                  <a:lnTo>
                    <a:pt x="1661" y="208"/>
                  </a:lnTo>
                  <a:lnTo>
                    <a:pt x="1663" y="183"/>
                  </a:lnTo>
                  <a:lnTo>
                    <a:pt x="1662" y="164"/>
                  </a:lnTo>
                  <a:lnTo>
                    <a:pt x="1660" y="145"/>
                  </a:lnTo>
                  <a:lnTo>
                    <a:pt x="1655" y="128"/>
                  </a:lnTo>
                  <a:lnTo>
                    <a:pt x="1649" y="112"/>
                  </a:lnTo>
                  <a:lnTo>
                    <a:pt x="1641" y="97"/>
                  </a:lnTo>
                  <a:lnTo>
                    <a:pt x="1631" y="83"/>
                  </a:lnTo>
                  <a:lnTo>
                    <a:pt x="1619" y="70"/>
                  </a:lnTo>
                  <a:lnTo>
                    <a:pt x="1606" y="58"/>
                  </a:lnTo>
                  <a:lnTo>
                    <a:pt x="1591" y="47"/>
                  </a:lnTo>
                  <a:lnTo>
                    <a:pt x="1576" y="38"/>
                  </a:lnTo>
                  <a:lnTo>
                    <a:pt x="1559" y="30"/>
                  </a:lnTo>
                  <a:lnTo>
                    <a:pt x="1541" y="23"/>
                  </a:lnTo>
                  <a:lnTo>
                    <a:pt x="1523" y="18"/>
                  </a:lnTo>
                  <a:lnTo>
                    <a:pt x="1503" y="14"/>
                  </a:lnTo>
                  <a:lnTo>
                    <a:pt x="1461" y="12"/>
                  </a:lnTo>
                  <a:lnTo>
                    <a:pt x="1242" y="12"/>
                  </a:lnTo>
                  <a:lnTo>
                    <a:pt x="1242" y="669"/>
                  </a:lnTo>
                  <a:lnTo>
                    <a:pt x="1338" y="669"/>
                  </a:lnTo>
                  <a:lnTo>
                    <a:pt x="1338" y="378"/>
                  </a:lnTo>
                  <a:lnTo>
                    <a:pt x="1411" y="378"/>
                  </a:lnTo>
                  <a:lnTo>
                    <a:pt x="1423" y="379"/>
                  </a:lnTo>
                  <a:lnTo>
                    <a:pt x="1436" y="383"/>
                  </a:lnTo>
                  <a:lnTo>
                    <a:pt x="1448" y="389"/>
                  </a:lnTo>
                  <a:lnTo>
                    <a:pt x="1459" y="397"/>
                  </a:lnTo>
                  <a:lnTo>
                    <a:pt x="1470" y="408"/>
                  </a:lnTo>
                  <a:lnTo>
                    <a:pt x="1481" y="421"/>
                  </a:lnTo>
                  <a:lnTo>
                    <a:pt x="1491" y="436"/>
                  </a:lnTo>
                  <a:lnTo>
                    <a:pt x="1500" y="454"/>
                  </a:lnTo>
                  <a:lnTo>
                    <a:pt x="1568" y="593"/>
                  </a:lnTo>
                  <a:lnTo>
                    <a:pt x="1581" y="611"/>
                  </a:lnTo>
                  <a:lnTo>
                    <a:pt x="1594" y="627"/>
                  </a:lnTo>
                  <a:lnTo>
                    <a:pt x="1610" y="639"/>
                  </a:lnTo>
                  <a:lnTo>
                    <a:pt x="1625" y="650"/>
                  </a:lnTo>
                  <a:lnTo>
                    <a:pt x="1642" y="658"/>
                  </a:lnTo>
                  <a:lnTo>
                    <a:pt x="1659" y="665"/>
                  </a:lnTo>
                  <a:lnTo>
                    <a:pt x="1678" y="668"/>
                  </a:lnTo>
                  <a:lnTo>
                    <a:pt x="1697" y="669"/>
                  </a:lnTo>
                  <a:lnTo>
                    <a:pt x="1717" y="669"/>
                  </a:lnTo>
                  <a:close/>
                  <a:moveTo>
                    <a:pt x="1563" y="183"/>
                  </a:moveTo>
                  <a:lnTo>
                    <a:pt x="1561" y="205"/>
                  </a:lnTo>
                  <a:lnTo>
                    <a:pt x="1553" y="225"/>
                  </a:lnTo>
                  <a:lnTo>
                    <a:pt x="1548" y="234"/>
                  </a:lnTo>
                  <a:lnTo>
                    <a:pt x="1543" y="244"/>
                  </a:lnTo>
                  <a:lnTo>
                    <a:pt x="1536" y="253"/>
                  </a:lnTo>
                  <a:lnTo>
                    <a:pt x="1528" y="261"/>
                  </a:lnTo>
                  <a:lnTo>
                    <a:pt x="1509" y="276"/>
                  </a:lnTo>
                  <a:lnTo>
                    <a:pt x="1500" y="282"/>
                  </a:lnTo>
                  <a:lnTo>
                    <a:pt x="1490" y="287"/>
                  </a:lnTo>
                  <a:lnTo>
                    <a:pt x="1468" y="293"/>
                  </a:lnTo>
                  <a:lnTo>
                    <a:pt x="1445" y="295"/>
                  </a:lnTo>
                  <a:lnTo>
                    <a:pt x="1338" y="295"/>
                  </a:lnTo>
                  <a:lnTo>
                    <a:pt x="1338" y="94"/>
                  </a:lnTo>
                  <a:lnTo>
                    <a:pt x="1445" y="94"/>
                  </a:lnTo>
                  <a:lnTo>
                    <a:pt x="1467" y="95"/>
                  </a:lnTo>
                  <a:lnTo>
                    <a:pt x="1489" y="99"/>
                  </a:lnTo>
                  <a:lnTo>
                    <a:pt x="1507" y="106"/>
                  </a:lnTo>
                  <a:lnTo>
                    <a:pt x="1526" y="117"/>
                  </a:lnTo>
                  <a:lnTo>
                    <a:pt x="1541" y="130"/>
                  </a:lnTo>
                  <a:lnTo>
                    <a:pt x="1553" y="145"/>
                  </a:lnTo>
                  <a:lnTo>
                    <a:pt x="1560" y="164"/>
                  </a:lnTo>
                  <a:lnTo>
                    <a:pt x="1563" y="183"/>
                  </a:lnTo>
                  <a:close/>
                  <a:moveTo>
                    <a:pt x="2684" y="669"/>
                  </a:moveTo>
                  <a:lnTo>
                    <a:pt x="2684" y="12"/>
                  </a:lnTo>
                  <a:lnTo>
                    <a:pt x="2586" y="12"/>
                  </a:lnTo>
                  <a:lnTo>
                    <a:pt x="2586" y="281"/>
                  </a:lnTo>
                  <a:lnTo>
                    <a:pt x="2269" y="281"/>
                  </a:lnTo>
                  <a:lnTo>
                    <a:pt x="2269" y="12"/>
                  </a:lnTo>
                  <a:lnTo>
                    <a:pt x="2173" y="12"/>
                  </a:lnTo>
                  <a:lnTo>
                    <a:pt x="2173" y="669"/>
                  </a:lnTo>
                  <a:lnTo>
                    <a:pt x="2269" y="669"/>
                  </a:lnTo>
                  <a:lnTo>
                    <a:pt x="2269" y="365"/>
                  </a:lnTo>
                  <a:lnTo>
                    <a:pt x="2586" y="365"/>
                  </a:lnTo>
                  <a:lnTo>
                    <a:pt x="2586" y="669"/>
                  </a:lnTo>
                  <a:lnTo>
                    <a:pt x="2684" y="669"/>
                  </a:lnTo>
                  <a:close/>
                  <a:moveTo>
                    <a:pt x="3237" y="94"/>
                  </a:moveTo>
                  <a:lnTo>
                    <a:pt x="3237" y="12"/>
                  </a:lnTo>
                  <a:lnTo>
                    <a:pt x="2867" y="12"/>
                  </a:lnTo>
                  <a:lnTo>
                    <a:pt x="2867" y="669"/>
                  </a:lnTo>
                  <a:lnTo>
                    <a:pt x="3235" y="669"/>
                  </a:lnTo>
                  <a:lnTo>
                    <a:pt x="3235" y="585"/>
                  </a:lnTo>
                  <a:lnTo>
                    <a:pt x="2962" y="585"/>
                  </a:lnTo>
                  <a:lnTo>
                    <a:pt x="2962" y="369"/>
                  </a:lnTo>
                  <a:lnTo>
                    <a:pt x="3212" y="369"/>
                  </a:lnTo>
                  <a:lnTo>
                    <a:pt x="3212" y="285"/>
                  </a:lnTo>
                  <a:lnTo>
                    <a:pt x="2962" y="285"/>
                  </a:lnTo>
                  <a:lnTo>
                    <a:pt x="2962" y="94"/>
                  </a:lnTo>
                  <a:lnTo>
                    <a:pt x="3237" y="94"/>
                  </a:lnTo>
                  <a:close/>
                  <a:moveTo>
                    <a:pt x="3985" y="669"/>
                  </a:moveTo>
                  <a:lnTo>
                    <a:pt x="3698" y="12"/>
                  </a:lnTo>
                  <a:lnTo>
                    <a:pt x="3607" y="12"/>
                  </a:lnTo>
                  <a:lnTo>
                    <a:pt x="3320" y="669"/>
                  </a:lnTo>
                  <a:lnTo>
                    <a:pt x="3423" y="669"/>
                  </a:lnTo>
                  <a:lnTo>
                    <a:pt x="3491" y="501"/>
                  </a:lnTo>
                  <a:lnTo>
                    <a:pt x="3814" y="501"/>
                  </a:lnTo>
                  <a:lnTo>
                    <a:pt x="3882" y="669"/>
                  </a:lnTo>
                  <a:lnTo>
                    <a:pt x="3985" y="669"/>
                  </a:lnTo>
                  <a:close/>
                  <a:moveTo>
                    <a:pt x="3783" y="425"/>
                  </a:moveTo>
                  <a:lnTo>
                    <a:pt x="3523" y="425"/>
                  </a:lnTo>
                  <a:lnTo>
                    <a:pt x="3653" y="102"/>
                  </a:lnTo>
                  <a:lnTo>
                    <a:pt x="3783" y="425"/>
                  </a:lnTo>
                  <a:close/>
                  <a:moveTo>
                    <a:pt x="4455" y="669"/>
                  </a:moveTo>
                  <a:lnTo>
                    <a:pt x="4455" y="585"/>
                  </a:lnTo>
                  <a:lnTo>
                    <a:pt x="4186" y="585"/>
                  </a:lnTo>
                  <a:lnTo>
                    <a:pt x="4186" y="12"/>
                  </a:lnTo>
                  <a:lnTo>
                    <a:pt x="4090" y="12"/>
                  </a:lnTo>
                  <a:lnTo>
                    <a:pt x="4090" y="669"/>
                  </a:lnTo>
                  <a:lnTo>
                    <a:pt x="4455" y="669"/>
                  </a:lnTo>
                  <a:close/>
                  <a:moveTo>
                    <a:pt x="4996" y="94"/>
                  </a:moveTo>
                  <a:lnTo>
                    <a:pt x="4996" y="12"/>
                  </a:lnTo>
                  <a:lnTo>
                    <a:pt x="4500" y="12"/>
                  </a:lnTo>
                  <a:lnTo>
                    <a:pt x="4500" y="94"/>
                  </a:lnTo>
                  <a:lnTo>
                    <a:pt x="4700" y="94"/>
                  </a:lnTo>
                  <a:lnTo>
                    <a:pt x="4700" y="669"/>
                  </a:lnTo>
                  <a:lnTo>
                    <a:pt x="4796" y="669"/>
                  </a:lnTo>
                  <a:lnTo>
                    <a:pt x="4796" y="94"/>
                  </a:lnTo>
                  <a:lnTo>
                    <a:pt x="4996" y="94"/>
                  </a:lnTo>
                  <a:close/>
                  <a:moveTo>
                    <a:pt x="5619" y="669"/>
                  </a:moveTo>
                  <a:lnTo>
                    <a:pt x="5619" y="12"/>
                  </a:lnTo>
                  <a:lnTo>
                    <a:pt x="5522" y="12"/>
                  </a:lnTo>
                  <a:lnTo>
                    <a:pt x="5522" y="281"/>
                  </a:lnTo>
                  <a:lnTo>
                    <a:pt x="5203" y="281"/>
                  </a:lnTo>
                  <a:lnTo>
                    <a:pt x="5203" y="12"/>
                  </a:lnTo>
                  <a:lnTo>
                    <a:pt x="5108" y="12"/>
                  </a:lnTo>
                  <a:lnTo>
                    <a:pt x="5108" y="669"/>
                  </a:lnTo>
                  <a:lnTo>
                    <a:pt x="5203" y="669"/>
                  </a:lnTo>
                  <a:lnTo>
                    <a:pt x="5203" y="365"/>
                  </a:lnTo>
                  <a:lnTo>
                    <a:pt x="5522" y="365"/>
                  </a:lnTo>
                  <a:lnTo>
                    <a:pt x="5522" y="669"/>
                  </a:lnTo>
                  <a:lnTo>
                    <a:pt x="5619" y="669"/>
                  </a:lnTo>
                  <a:close/>
                  <a:moveTo>
                    <a:pt x="6721" y="669"/>
                  </a:moveTo>
                  <a:lnTo>
                    <a:pt x="6434" y="12"/>
                  </a:lnTo>
                  <a:lnTo>
                    <a:pt x="6342" y="12"/>
                  </a:lnTo>
                  <a:lnTo>
                    <a:pt x="6056" y="669"/>
                  </a:lnTo>
                  <a:lnTo>
                    <a:pt x="6159" y="669"/>
                  </a:lnTo>
                  <a:lnTo>
                    <a:pt x="6227" y="501"/>
                  </a:lnTo>
                  <a:lnTo>
                    <a:pt x="6549" y="501"/>
                  </a:lnTo>
                  <a:lnTo>
                    <a:pt x="6617" y="669"/>
                  </a:lnTo>
                  <a:lnTo>
                    <a:pt x="6721" y="669"/>
                  </a:lnTo>
                  <a:close/>
                  <a:moveTo>
                    <a:pt x="6519" y="425"/>
                  </a:moveTo>
                  <a:lnTo>
                    <a:pt x="6258" y="425"/>
                  </a:lnTo>
                  <a:lnTo>
                    <a:pt x="6388" y="102"/>
                  </a:lnTo>
                  <a:lnTo>
                    <a:pt x="6519" y="425"/>
                  </a:lnTo>
                  <a:close/>
                  <a:moveTo>
                    <a:pt x="7337" y="669"/>
                  </a:moveTo>
                  <a:lnTo>
                    <a:pt x="7337" y="12"/>
                  </a:lnTo>
                  <a:lnTo>
                    <a:pt x="7240" y="12"/>
                  </a:lnTo>
                  <a:lnTo>
                    <a:pt x="7240" y="538"/>
                  </a:lnTo>
                  <a:lnTo>
                    <a:pt x="7236" y="538"/>
                  </a:lnTo>
                  <a:lnTo>
                    <a:pt x="6950" y="12"/>
                  </a:lnTo>
                  <a:lnTo>
                    <a:pt x="6825" y="12"/>
                  </a:lnTo>
                  <a:lnTo>
                    <a:pt x="6825" y="669"/>
                  </a:lnTo>
                  <a:lnTo>
                    <a:pt x="6922" y="669"/>
                  </a:lnTo>
                  <a:lnTo>
                    <a:pt x="6922" y="142"/>
                  </a:lnTo>
                  <a:lnTo>
                    <a:pt x="6925" y="142"/>
                  </a:lnTo>
                  <a:lnTo>
                    <a:pt x="7212" y="669"/>
                  </a:lnTo>
                  <a:lnTo>
                    <a:pt x="7337" y="669"/>
                  </a:lnTo>
                  <a:close/>
                  <a:moveTo>
                    <a:pt x="8056" y="343"/>
                  </a:moveTo>
                  <a:lnTo>
                    <a:pt x="8055" y="309"/>
                  </a:lnTo>
                  <a:lnTo>
                    <a:pt x="8051" y="277"/>
                  </a:lnTo>
                  <a:lnTo>
                    <a:pt x="8044" y="246"/>
                  </a:lnTo>
                  <a:lnTo>
                    <a:pt x="8034" y="216"/>
                  </a:lnTo>
                  <a:lnTo>
                    <a:pt x="8022" y="188"/>
                  </a:lnTo>
                  <a:lnTo>
                    <a:pt x="8008" y="161"/>
                  </a:lnTo>
                  <a:lnTo>
                    <a:pt x="7990" y="135"/>
                  </a:lnTo>
                  <a:lnTo>
                    <a:pt x="7970" y="111"/>
                  </a:lnTo>
                  <a:lnTo>
                    <a:pt x="7947" y="88"/>
                  </a:lnTo>
                  <a:lnTo>
                    <a:pt x="7923" y="68"/>
                  </a:lnTo>
                  <a:lnTo>
                    <a:pt x="7896" y="51"/>
                  </a:lnTo>
                  <a:lnTo>
                    <a:pt x="7868" y="37"/>
                  </a:lnTo>
                  <a:lnTo>
                    <a:pt x="7839" y="26"/>
                  </a:lnTo>
                  <a:lnTo>
                    <a:pt x="7808" y="18"/>
                  </a:lnTo>
                  <a:lnTo>
                    <a:pt x="7775" y="13"/>
                  </a:lnTo>
                  <a:lnTo>
                    <a:pt x="7740" y="12"/>
                  </a:lnTo>
                  <a:lnTo>
                    <a:pt x="7509" y="12"/>
                  </a:lnTo>
                  <a:lnTo>
                    <a:pt x="7509" y="669"/>
                  </a:lnTo>
                  <a:lnTo>
                    <a:pt x="7740" y="669"/>
                  </a:lnTo>
                  <a:lnTo>
                    <a:pt x="7775" y="668"/>
                  </a:lnTo>
                  <a:lnTo>
                    <a:pt x="7808" y="663"/>
                  </a:lnTo>
                  <a:lnTo>
                    <a:pt x="7839" y="655"/>
                  </a:lnTo>
                  <a:lnTo>
                    <a:pt x="7868" y="645"/>
                  </a:lnTo>
                  <a:lnTo>
                    <a:pt x="7896" y="631"/>
                  </a:lnTo>
                  <a:lnTo>
                    <a:pt x="7923" y="614"/>
                  </a:lnTo>
                  <a:lnTo>
                    <a:pt x="7947" y="595"/>
                  </a:lnTo>
                  <a:lnTo>
                    <a:pt x="7970" y="572"/>
                  </a:lnTo>
                  <a:lnTo>
                    <a:pt x="7990" y="549"/>
                  </a:lnTo>
                  <a:lnTo>
                    <a:pt x="8008" y="523"/>
                  </a:lnTo>
                  <a:lnTo>
                    <a:pt x="8022" y="498"/>
                  </a:lnTo>
                  <a:lnTo>
                    <a:pt x="8034" y="469"/>
                  </a:lnTo>
                  <a:lnTo>
                    <a:pt x="8044" y="440"/>
                  </a:lnTo>
                  <a:lnTo>
                    <a:pt x="8051" y="409"/>
                  </a:lnTo>
                  <a:lnTo>
                    <a:pt x="8055" y="377"/>
                  </a:lnTo>
                  <a:lnTo>
                    <a:pt x="8056" y="343"/>
                  </a:lnTo>
                  <a:close/>
                  <a:moveTo>
                    <a:pt x="7961" y="343"/>
                  </a:moveTo>
                  <a:lnTo>
                    <a:pt x="7960" y="368"/>
                  </a:lnTo>
                  <a:lnTo>
                    <a:pt x="7956" y="391"/>
                  </a:lnTo>
                  <a:lnTo>
                    <a:pt x="7952" y="415"/>
                  </a:lnTo>
                  <a:lnTo>
                    <a:pt x="7945" y="436"/>
                  </a:lnTo>
                  <a:lnTo>
                    <a:pt x="7937" y="457"/>
                  </a:lnTo>
                  <a:lnTo>
                    <a:pt x="7927" y="476"/>
                  </a:lnTo>
                  <a:lnTo>
                    <a:pt x="7914" y="496"/>
                  </a:lnTo>
                  <a:lnTo>
                    <a:pt x="7900" y="513"/>
                  </a:lnTo>
                  <a:lnTo>
                    <a:pt x="7884" y="530"/>
                  </a:lnTo>
                  <a:lnTo>
                    <a:pt x="7866" y="545"/>
                  </a:lnTo>
                  <a:lnTo>
                    <a:pt x="7849" y="557"/>
                  </a:lnTo>
                  <a:lnTo>
                    <a:pt x="7829" y="567"/>
                  </a:lnTo>
                  <a:lnTo>
                    <a:pt x="7809" y="574"/>
                  </a:lnTo>
                  <a:lnTo>
                    <a:pt x="7787" y="581"/>
                  </a:lnTo>
                  <a:lnTo>
                    <a:pt x="7765" y="584"/>
                  </a:lnTo>
                  <a:lnTo>
                    <a:pt x="7740" y="585"/>
                  </a:lnTo>
                  <a:lnTo>
                    <a:pt x="7605" y="585"/>
                  </a:lnTo>
                  <a:lnTo>
                    <a:pt x="7605" y="96"/>
                  </a:lnTo>
                  <a:lnTo>
                    <a:pt x="7740" y="96"/>
                  </a:lnTo>
                  <a:lnTo>
                    <a:pt x="7765" y="97"/>
                  </a:lnTo>
                  <a:lnTo>
                    <a:pt x="7787" y="100"/>
                  </a:lnTo>
                  <a:lnTo>
                    <a:pt x="7809" y="106"/>
                  </a:lnTo>
                  <a:lnTo>
                    <a:pt x="7829" y="115"/>
                  </a:lnTo>
                  <a:lnTo>
                    <a:pt x="7849" y="125"/>
                  </a:lnTo>
                  <a:lnTo>
                    <a:pt x="7866" y="138"/>
                  </a:lnTo>
                  <a:lnTo>
                    <a:pt x="7884" y="154"/>
                  </a:lnTo>
                  <a:lnTo>
                    <a:pt x="7900" y="171"/>
                  </a:lnTo>
                  <a:lnTo>
                    <a:pt x="7927" y="209"/>
                  </a:lnTo>
                  <a:lnTo>
                    <a:pt x="7937" y="229"/>
                  </a:lnTo>
                  <a:lnTo>
                    <a:pt x="7945" y="250"/>
                  </a:lnTo>
                  <a:lnTo>
                    <a:pt x="7952" y="272"/>
                  </a:lnTo>
                  <a:lnTo>
                    <a:pt x="7956" y="295"/>
                  </a:lnTo>
                  <a:lnTo>
                    <a:pt x="7960" y="318"/>
                  </a:lnTo>
                  <a:lnTo>
                    <a:pt x="7961" y="343"/>
                  </a:lnTo>
                  <a:close/>
                  <a:moveTo>
                    <a:pt x="9395" y="12"/>
                  </a:moveTo>
                  <a:lnTo>
                    <a:pt x="9294" y="12"/>
                  </a:lnTo>
                  <a:lnTo>
                    <a:pt x="9134" y="554"/>
                  </a:lnTo>
                  <a:lnTo>
                    <a:pt x="9126" y="554"/>
                  </a:lnTo>
                  <a:lnTo>
                    <a:pt x="8987" y="12"/>
                  </a:lnTo>
                  <a:lnTo>
                    <a:pt x="8858" y="12"/>
                  </a:lnTo>
                  <a:lnTo>
                    <a:pt x="8720" y="554"/>
                  </a:lnTo>
                  <a:lnTo>
                    <a:pt x="8713" y="554"/>
                  </a:lnTo>
                  <a:lnTo>
                    <a:pt x="8552" y="12"/>
                  </a:lnTo>
                  <a:lnTo>
                    <a:pt x="8450" y="12"/>
                  </a:lnTo>
                  <a:lnTo>
                    <a:pt x="8655" y="669"/>
                  </a:lnTo>
                  <a:lnTo>
                    <a:pt x="8776" y="669"/>
                  </a:lnTo>
                  <a:lnTo>
                    <a:pt x="8921" y="98"/>
                  </a:lnTo>
                  <a:lnTo>
                    <a:pt x="8925" y="98"/>
                  </a:lnTo>
                  <a:lnTo>
                    <a:pt x="9069" y="669"/>
                  </a:lnTo>
                  <a:lnTo>
                    <a:pt x="9190" y="669"/>
                  </a:lnTo>
                  <a:lnTo>
                    <a:pt x="9395" y="12"/>
                  </a:lnTo>
                  <a:close/>
                  <a:moveTo>
                    <a:pt x="9873" y="94"/>
                  </a:moveTo>
                  <a:lnTo>
                    <a:pt x="9873" y="12"/>
                  </a:lnTo>
                  <a:lnTo>
                    <a:pt x="9503" y="12"/>
                  </a:lnTo>
                  <a:lnTo>
                    <a:pt x="9503" y="669"/>
                  </a:lnTo>
                  <a:lnTo>
                    <a:pt x="9871" y="669"/>
                  </a:lnTo>
                  <a:lnTo>
                    <a:pt x="9871" y="585"/>
                  </a:lnTo>
                  <a:lnTo>
                    <a:pt x="9598" y="585"/>
                  </a:lnTo>
                  <a:lnTo>
                    <a:pt x="9598" y="369"/>
                  </a:lnTo>
                  <a:lnTo>
                    <a:pt x="9848" y="369"/>
                  </a:lnTo>
                  <a:lnTo>
                    <a:pt x="9848" y="285"/>
                  </a:lnTo>
                  <a:lnTo>
                    <a:pt x="9598" y="285"/>
                  </a:lnTo>
                  <a:lnTo>
                    <a:pt x="9598" y="94"/>
                  </a:lnTo>
                  <a:lnTo>
                    <a:pt x="9873" y="94"/>
                  </a:lnTo>
                  <a:close/>
                  <a:moveTo>
                    <a:pt x="10398" y="669"/>
                  </a:moveTo>
                  <a:lnTo>
                    <a:pt x="10398" y="585"/>
                  </a:lnTo>
                  <a:lnTo>
                    <a:pt x="10129" y="585"/>
                  </a:lnTo>
                  <a:lnTo>
                    <a:pt x="10129" y="12"/>
                  </a:lnTo>
                  <a:lnTo>
                    <a:pt x="10033" y="12"/>
                  </a:lnTo>
                  <a:lnTo>
                    <a:pt x="10033" y="669"/>
                  </a:lnTo>
                  <a:lnTo>
                    <a:pt x="10398" y="669"/>
                  </a:lnTo>
                  <a:close/>
                  <a:moveTo>
                    <a:pt x="10889" y="94"/>
                  </a:moveTo>
                  <a:lnTo>
                    <a:pt x="10889" y="12"/>
                  </a:lnTo>
                  <a:lnTo>
                    <a:pt x="10518" y="12"/>
                  </a:lnTo>
                  <a:lnTo>
                    <a:pt x="10518" y="669"/>
                  </a:lnTo>
                  <a:lnTo>
                    <a:pt x="10613" y="669"/>
                  </a:lnTo>
                  <a:lnTo>
                    <a:pt x="10613" y="369"/>
                  </a:lnTo>
                  <a:lnTo>
                    <a:pt x="10864" y="369"/>
                  </a:lnTo>
                  <a:lnTo>
                    <a:pt x="10864" y="285"/>
                  </a:lnTo>
                  <a:lnTo>
                    <a:pt x="10613" y="285"/>
                  </a:lnTo>
                  <a:lnTo>
                    <a:pt x="10613" y="94"/>
                  </a:lnTo>
                  <a:lnTo>
                    <a:pt x="10889" y="94"/>
                  </a:lnTo>
                  <a:close/>
                  <a:moveTo>
                    <a:pt x="11580" y="669"/>
                  </a:moveTo>
                  <a:lnTo>
                    <a:pt x="11292" y="12"/>
                  </a:lnTo>
                  <a:lnTo>
                    <a:pt x="11201" y="12"/>
                  </a:lnTo>
                  <a:lnTo>
                    <a:pt x="10915" y="669"/>
                  </a:lnTo>
                  <a:lnTo>
                    <a:pt x="11017" y="669"/>
                  </a:lnTo>
                  <a:lnTo>
                    <a:pt x="11085" y="501"/>
                  </a:lnTo>
                  <a:lnTo>
                    <a:pt x="11408" y="501"/>
                  </a:lnTo>
                  <a:lnTo>
                    <a:pt x="11476" y="669"/>
                  </a:lnTo>
                  <a:lnTo>
                    <a:pt x="11580" y="669"/>
                  </a:lnTo>
                  <a:close/>
                  <a:moveTo>
                    <a:pt x="11377" y="425"/>
                  </a:moveTo>
                  <a:lnTo>
                    <a:pt x="11117" y="425"/>
                  </a:lnTo>
                  <a:lnTo>
                    <a:pt x="11247" y="102"/>
                  </a:lnTo>
                  <a:lnTo>
                    <a:pt x="11377" y="425"/>
                  </a:lnTo>
                  <a:close/>
                  <a:moveTo>
                    <a:pt x="12168" y="669"/>
                  </a:moveTo>
                  <a:lnTo>
                    <a:pt x="12168" y="585"/>
                  </a:lnTo>
                  <a:lnTo>
                    <a:pt x="12148" y="585"/>
                  </a:lnTo>
                  <a:lnTo>
                    <a:pt x="12140" y="584"/>
                  </a:lnTo>
                  <a:lnTo>
                    <a:pt x="12131" y="580"/>
                  </a:lnTo>
                  <a:lnTo>
                    <a:pt x="12123" y="572"/>
                  </a:lnTo>
                  <a:lnTo>
                    <a:pt x="12113" y="563"/>
                  </a:lnTo>
                  <a:lnTo>
                    <a:pt x="12094" y="536"/>
                  </a:lnTo>
                  <a:lnTo>
                    <a:pt x="12074" y="497"/>
                  </a:lnTo>
                  <a:lnTo>
                    <a:pt x="12048" y="444"/>
                  </a:lnTo>
                  <a:lnTo>
                    <a:pt x="12024" y="402"/>
                  </a:lnTo>
                  <a:lnTo>
                    <a:pt x="12003" y="370"/>
                  </a:lnTo>
                  <a:lnTo>
                    <a:pt x="11983" y="346"/>
                  </a:lnTo>
                  <a:lnTo>
                    <a:pt x="12014" y="331"/>
                  </a:lnTo>
                  <a:lnTo>
                    <a:pt x="12041" y="314"/>
                  </a:lnTo>
                  <a:lnTo>
                    <a:pt x="12063" y="296"/>
                  </a:lnTo>
                  <a:lnTo>
                    <a:pt x="12082" y="276"/>
                  </a:lnTo>
                  <a:lnTo>
                    <a:pt x="12096" y="255"/>
                  </a:lnTo>
                  <a:lnTo>
                    <a:pt x="12105" y="232"/>
                  </a:lnTo>
                  <a:lnTo>
                    <a:pt x="12111" y="208"/>
                  </a:lnTo>
                  <a:lnTo>
                    <a:pt x="12113" y="183"/>
                  </a:lnTo>
                  <a:lnTo>
                    <a:pt x="12113" y="164"/>
                  </a:lnTo>
                  <a:lnTo>
                    <a:pt x="12110" y="145"/>
                  </a:lnTo>
                  <a:lnTo>
                    <a:pt x="12106" y="128"/>
                  </a:lnTo>
                  <a:lnTo>
                    <a:pt x="12100" y="112"/>
                  </a:lnTo>
                  <a:lnTo>
                    <a:pt x="12092" y="97"/>
                  </a:lnTo>
                  <a:lnTo>
                    <a:pt x="12082" y="83"/>
                  </a:lnTo>
                  <a:lnTo>
                    <a:pt x="12070" y="70"/>
                  </a:lnTo>
                  <a:lnTo>
                    <a:pt x="12056" y="58"/>
                  </a:lnTo>
                  <a:lnTo>
                    <a:pt x="12042" y="47"/>
                  </a:lnTo>
                  <a:lnTo>
                    <a:pt x="12026" y="38"/>
                  </a:lnTo>
                  <a:lnTo>
                    <a:pt x="12010" y="30"/>
                  </a:lnTo>
                  <a:lnTo>
                    <a:pt x="11992" y="23"/>
                  </a:lnTo>
                  <a:lnTo>
                    <a:pt x="11973" y="18"/>
                  </a:lnTo>
                  <a:lnTo>
                    <a:pt x="11954" y="14"/>
                  </a:lnTo>
                  <a:lnTo>
                    <a:pt x="11912" y="12"/>
                  </a:lnTo>
                  <a:lnTo>
                    <a:pt x="11692" y="12"/>
                  </a:lnTo>
                  <a:lnTo>
                    <a:pt x="11692" y="669"/>
                  </a:lnTo>
                  <a:lnTo>
                    <a:pt x="11789" y="669"/>
                  </a:lnTo>
                  <a:lnTo>
                    <a:pt x="11789" y="378"/>
                  </a:lnTo>
                  <a:lnTo>
                    <a:pt x="11861" y="378"/>
                  </a:lnTo>
                  <a:lnTo>
                    <a:pt x="11875" y="379"/>
                  </a:lnTo>
                  <a:lnTo>
                    <a:pt x="11887" y="383"/>
                  </a:lnTo>
                  <a:lnTo>
                    <a:pt x="11898" y="389"/>
                  </a:lnTo>
                  <a:lnTo>
                    <a:pt x="11910" y="397"/>
                  </a:lnTo>
                  <a:lnTo>
                    <a:pt x="11921" y="408"/>
                  </a:lnTo>
                  <a:lnTo>
                    <a:pt x="11931" y="421"/>
                  </a:lnTo>
                  <a:lnTo>
                    <a:pt x="11941" y="436"/>
                  </a:lnTo>
                  <a:lnTo>
                    <a:pt x="11951" y="454"/>
                  </a:lnTo>
                  <a:lnTo>
                    <a:pt x="12018" y="593"/>
                  </a:lnTo>
                  <a:lnTo>
                    <a:pt x="12032" y="611"/>
                  </a:lnTo>
                  <a:lnTo>
                    <a:pt x="12045" y="627"/>
                  </a:lnTo>
                  <a:lnTo>
                    <a:pt x="12060" y="639"/>
                  </a:lnTo>
                  <a:lnTo>
                    <a:pt x="12076" y="650"/>
                  </a:lnTo>
                  <a:lnTo>
                    <a:pt x="12093" y="658"/>
                  </a:lnTo>
                  <a:lnTo>
                    <a:pt x="12110" y="665"/>
                  </a:lnTo>
                  <a:lnTo>
                    <a:pt x="12129" y="668"/>
                  </a:lnTo>
                  <a:lnTo>
                    <a:pt x="12148" y="669"/>
                  </a:lnTo>
                  <a:lnTo>
                    <a:pt x="12168" y="669"/>
                  </a:lnTo>
                  <a:close/>
                  <a:moveTo>
                    <a:pt x="12013" y="183"/>
                  </a:moveTo>
                  <a:lnTo>
                    <a:pt x="12011" y="205"/>
                  </a:lnTo>
                  <a:lnTo>
                    <a:pt x="12004" y="225"/>
                  </a:lnTo>
                  <a:lnTo>
                    <a:pt x="12000" y="234"/>
                  </a:lnTo>
                  <a:lnTo>
                    <a:pt x="11994" y="244"/>
                  </a:lnTo>
                  <a:lnTo>
                    <a:pt x="11986" y="253"/>
                  </a:lnTo>
                  <a:lnTo>
                    <a:pt x="11978" y="261"/>
                  </a:lnTo>
                  <a:lnTo>
                    <a:pt x="11960" y="276"/>
                  </a:lnTo>
                  <a:lnTo>
                    <a:pt x="11951" y="282"/>
                  </a:lnTo>
                  <a:lnTo>
                    <a:pt x="11940" y="287"/>
                  </a:lnTo>
                  <a:lnTo>
                    <a:pt x="11919" y="293"/>
                  </a:lnTo>
                  <a:lnTo>
                    <a:pt x="11896" y="295"/>
                  </a:lnTo>
                  <a:lnTo>
                    <a:pt x="11789" y="295"/>
                  </a:lnTo>
                  <a:lnTo>
                    <a:pt x="11789" y="94"/>
                  </a:lnTo>
                  <a:lnTo>
                    <a:pt x="11896" y="94"/>
                  </a:lnTo>
                  <a:lnTo>
                    <a:pt x="11919" y="95"/>
                  </a:lnTo>
                  <a:lnTo>
                    <a:pt x="11939" y="99"/>
                  </a:lnTo>
                  <a:lnTo>
                    <a:pt x="11959" y="106"/>
                  </a:lnTo>
                  <a:lnTo>
                    <a:pt x="11976" y="117"/>
                  </a:lnTo>
                  <a:lnTo>
                    <a:pt x="11993" y="130"/>
                  </a:lnTo>
                  <a:lnTo>
                    <a:pt x="12004" y="145"/>
                  </a:lnTo>
                  <a:lnTo>
                    <a:pt x="12011" y="164"/>
                  </a:lnTo>
                  <a:lnTo>
                    <a:pt x="12012" y="173"/>
                  </a:lnTo>
                  <a:lnTo>
                    <a:pt x="12013" y="183"/>
                  </a:lnTo>
                  <a:close/>
                  <a:moveTo>
                    <a:pt x="12677" y="94"/>
                  </a:moveTo>
                  <a:lnTo>
                    <a:pt x="12677" y="12"/>
                  </a:lnTo>
                  <a:lnTo>
                    <a:pt x="12307" y="12"/>
                  </a:lnTo>
                  <a:lnTo>
                    <a:pt x="12307" y="669"/>
                  </a:lnTo>
                  <a:lnTo>
                    <a:pt x="12675" y="669"/>
                  </a:lnTo>
                  <a:lnTo>
                    <a:pt x="12675" y="585"/>
                  </a:lnTo>
                  <a:lnTo>
                    <a:pt x="12402" y="585"/>
                  </a:lnTo>
                  <a:lnTo>
                    <a:pt x="12402" y="369"/>
                  </a:lnTo>
                  <a:lnTo>
                    <a:pt x="12652" y="369"/>
                  </a:lnTo>
                  <a:lnTo>
                    <a:pt x="12652" y="285"/>
                  </a:lnTo>
                  <a:lnTo>
                    <a:pt x="12402" y="285"/>
                  </a:lnTo>
                  <a:lnTo>
                    <a:pt x="12402" y="94"/>
                  </a:lnTo>
                  <a:lnTo>
                    <a:pt x="12677" y="94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34"/>
            <p:cNvSpPr/>
            <p:nvPr/>
          </p:nvSpPr>
          <p:spPr>
            <a:xfrm>
              <a:off x="539640" y="6308640"/>
              <a:ext cx="1531800" cy="107640"/>
            </a:xfrm>
            <a:custGeom>
              <a:avLst/>
              <a:gdLst>
                <a:gd name="textAreaLeft" fmla="*/ 0 w 1531800"/>
                <a:gd name="textAreaRight" fmla="*/ 1532160 w 15318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651" h="683">
                  <a:moveTo>
                    <a:pt x="511" y="671"/>
                  </a:moveTo>
                  <a:lnTo>
                    <a:pt x="511" y="14"/>
                  </a:lnTo>
                  <a:lnTo>
                    <a:pt x="415" y="14"/>
                  </a:lnTo>
                  <a:lnTo>
                    <a:pt x="415" y="540"/>
                  </a:lnTo>
                  <a:lnTo>
                    <a:pt x="411" y="540"/>
                  </a:lnTo>
                  <a:lnTo>
                    <a:pt x="125" y="14"/>
                  </a:lnTo>
                  <a:lnTo>
                    <a:pt x="0" y="14"/>
                  </a:lnTo>
                  <a:lnTo>
                    <a:pt x="0" y="671"/>
                  </a:lnTo>
                  <a:lnTo>
                    <a:pt x="96" y="671"/>
                  </a:lnTo>
                  <a:lnTo>
                    <a:pt x="96" y="144"/>
                  </a:lnTo>
                  <a:lnTo>
                    <a:pt x="99" y="144"/>
                  </a:lnTo>
                  <a:lnTo>
                    <a:pt x="386" y="671"/>
                  </a:lnTo>
                  <a:lnTo>
                    <a:pt x="511" y="671"/>
                  </a:lnTo>
                  <a:close/>
                  <a:moveTo>
                    <a:pt x="1280" y="671"/>
                  </a:moveTo>
                  <a:lnTo>
                    <a:pt x="993" y="14"/>
                  </a:lnTo>
                  <a:lnTo>
                    <a:pt x="901" y="14"/>
                  </a:lnTo>
                  <a:lnTo>
                    <a:pt x="615" y="671"/>
                  </a:lnTo>
                  <a:lnTo>
                    <a:pt x="717" y="671"/>
                  </a:lnTo>
                  <a:lnTo>
                    <a:pt x="786" y="503"/>
                  </a:lnTo>
                  <a:lnTo>
                    <a:pt x="1108" y="503"/>
                  </a:lnTo>
                  <a:lnTo>
                    <a:pt x="1176" y="671"/>
                  </a:lnTo>
                  <a:lnTo>
                    <a:pt x="1280" y="671"/>
                  </a:lnTo>
                  <a:close/>
                  <a:moveTo>
                    <a:pt x="1078" y="427"/>
                  </a:moveTo>
                  <a:lnTo>
                    <a:pt x="817" y="427"/>
                  </a:lnTo>
                  <a:lnTo>
                    <a:pt x="947" y="104"/>
                  </a:lnTo>
                  <a:lnTo>
                    <a:pt x="1078" y="427"/>
                  </a:lnTo>
                  <a:close/>
                  <a:moveTo>
                    <a:pt x="1752" y="96"/>
                  </a:moveTo>
                  <a:lnTo>
                    <a:pt x="1752" y="14"/>
                  </a:lnTo>
                  <a:lnTo>
                    <a:pt x="1255" y="14"/>
                  </a:lnTo>
                  <a:lnTo>
                    <a:pt x="1255" y="96"/>
                  </a:lnTo>
                  <a:lnTo>
                    <a:pt x="1455" y="96"/>
                  </a:lnTo>
                  <a:lnTo>
                    <a:pt x="1455" y="671"/>
                  </a:lnTo>
                  <a:lnTo>
                    <a:pt x="1551" y="671"/>
                  </a:lnTo>
                  <a:lnTo>
                    <a:pt x="1551" y="96"/>
                  </a:lnTo>
                  <a:lnTo>
                    <a:pt x="1752" y="96"/>
                  </a:lnTo>
                  <a:close/>
                  <a:moveTo>
                    <a:pt x="1978" y="671"/>
                  </a:moveTo>
                  <a:lnTo>
                    <a:pt x="1978" y="14"/>
                  </a:lnTo>
                  <a:lnTo>
                    <a:pt x="1882" y="14"/>
                  </a:lnTo>
                  <a:lnTo>
                    <a:pt x="1882" y="671"/>
                  </a:lnTo>
                  <a:lnTo>
                    <a:pt x="1978" y="671"/>
                  </a:lnTo>
                  <a:close/>
                  <a:moveTo>
                    <a:pt x="2754" y="342"/>
                  </a:moveTo>
                  <a:lnTo>
                    <a:pt x="2752" y="306"/>
                  </a:lnTo>
                  <a:lnTo>
                    <a:pt x="2749" y="272"/>
                  </a:lnTo>
                  <a:lnTo>
                    <a:pt x="2743" y="240"/>
                  </a:lnTo>
                  <a:lnTo>
                    <a:pt x="2734" y="209"/>
                  </a:lnTo>
                  <a:lnTo>
                    <a:pt x="2722" y="179"/>
                  </a:lnTo>
                  <a:lnTo>
                    <a:pt x="2708" y="151"/>
                  </a:lnTo>
                  <a:lnTo>
                    <a:pt x="2693" y="125"/>
                  </a:lnTo>
                  <a:lnTo>
                    <a:pt x="2673" y="100"/>
                  </a:lnTo>
                  <a:lnTo>
                    <a:pt x="2651" y="78"/>
                  </a:lnTo>
                  <a:lnTo>
                    <a:pt x="2626" y="57"/>
                  </a:lnTo>
                  <a:lnTo>
                    <a:pt x="2601" y="40"/>
                  </a:lnTo>
                  <a:lnTo>
                    <a:pt x="2572" y="27"/>
                  </a:lnTo>
                  <a:lnTo>
                    <a:pt x="2541" y="15"/>
                  </a:lnTo>
                  <a:lnTo>
                    <a:pt x="2509" y="8"/>
                  </a:lnTo>
                  <a:lnTo>
                    <a:pt x="2475" y="3"/>
                  </a:lnTo>
                  <a:lnTo>
                    <a:pt x="2439" y="2"/>
                  </a:lnTo>
                  <a:lnTo>
                    <a:pt x="2402" y="3"/>
                  </a:lnTo>
                  <a:lnTo>
                    <a:pt x="2368" y="8"/>
                  </a:lnTo>
                  <a:lnTo>
                    <a:pt x="2335" y="15"/>
                  </a:lnTo>
                  <a:lnTo>
                    <a:pt x="2304" y="27"/>
                  </a:lnTo>
                  <a:lnTo>
                    <a:pt x="2277" y="40"/>
                  </a:lnTo>
                  <a:lnTo>
                    <a:pt x="2250" y="57"/>
                  </a:lnTo>
                  <a:lnTo>
                    <a:pt x="2226" y="78"/>
                  </a:lnTo>
                  <a:lnTo>
                    <a:pt x="2203" y="100"/>
                  </a:lnTo>
                  <a:lnTo>
                    <a:pt x="2194" y="113"/>
                  </a:lnTo>
                  <a:lnTo>
                    <a:pt x="2185" y="125"/>
                  </a:lnTo>
                  <a:lnTo>
                    <a:pt x="2168" y="150"/>
                  </a:lnTo>
                  <a:lnTo>
                    <a:pt x="2155" y="178"/>
                  </a:lnTo>
                  <a:lnTo>
                    <a:pt x="2144" y="208"/>
                  </a:lnTo>
                  <a:lnTo>
                    <a:pt x="2135" y="240"/>
                  </a:lnTo>
                  <a:lnTo>
                    <a:pt x="2129" y="272"/>
                  </a:lnTo>
                  <a:lnTo>
                    <a:pt x="2125" y="306"/>
                  </a:lnTo>
                  <a:lnTo>
                    <a:pt x="2124" y="342"/>
                  </a:lnTo>
                  <a:lnTo>
                    <a:pt x="2125" y="379"/>
                  </a:lnTo>
                  <a:lnTo>
                    <a:pt x="2129" y="413"/>
                  </a:lnTo>
                  <a:lnTo>
                    <a:pt x="2135" y="445"/>
                  </a:lnTo>
                  <a:lnTo>
                    <a:pt x="2144" y="477"/>
                  </a:lnTo>
                  <a:lnTo>
                    <a:pt x="2155" y="506"/>
                  </a:lnTo>
                  <a:lnTo>
                    <a:pt x="2169" y="533"/>
                  </a:lnTo>
                  <a:lnTo>
                    <a:pt x="2185" y="559"/>
                  </a:lnTo>
                  <a:lnTo>
                    <a:pt x="2203" y="583"/>
                  </a:lnTo>
                  <a:lnTo>
                    <a:pt x="2226" y="606"/>
                  </a:lnTo>
                  <a:lnTo>
                    <a:pt x="2238" y="617"/>
                  </a:lnTo>
                  <a:lnTo>
                    <a:pt x="2250" y="627"/>
                  </a:lnTo>
                  <a:lnTo>
                    <a:pt x="2277" y="644"/>
                  </a:lnTo>
                  <a:lnTo>
                    <a:pt x="2304" y="658"/>
                  </a:lnTo>
                  <a:lnTo>
                    <a:pt x="2335" y="669"/>
                  </a:lnTo>
                  <a:lnTo>
                    <a:pt x="2368" y="677"/>
                  </a:lnTo>
                  <a:lnTo>
                    <a:pt x="2402" y="681"/>
                  </a:lnTo>
                  <a:lnTo>
                    <a:pt x="2439" y="683"/>
                  </a:lnTo>
                  <a:lnTo>
                    <a:pt x="2475" y="681"/>
                  </a:lnTo>
                  <a:lnTo>
                    <a:pt x="2509" y="677"/>
                  </a:lnTo>
                  <a:lnTo>
                    <a:pt x="2541" y="669"/>
                  </a:lnTo>
                  <a:lnTo>
                    <a:pt x="2572" y="658"/>
                  </a:lnTo>
                  <a:lnTo>
                    <a:pt x="2601" y="644"/>
                  </a:lnTo>
                  <a:lnTo>
                    <a:pt x="2626" y="627"/>
                  </a:lnTo>
                  <a:lnTo>
                    <a:pt x="2651" y="606"/>
                  </a:lnTo>
                  <a:lnTo>
                    <a:pt x="2673" y="583"/>
                  </a:lnTo>
                  <a:lnTo>
                    <a:pt x="2684" y="571"/>
                  </a:lnTo>
                  <a:lnTo>
                    <a:pt x="2693" y="559"/>
                  </a:lnTo>
                  <a:lnTo>
                    <a:pt x="2708" y="533"/>
                  </a:lnTo>
                  <a:lnTo>
                    <a:pt x="2722" y="506"/>
                  </a:lnTo>
                  <a:lnTo>
                    <a:pt x="2734" y="476"/>
                  </a:lnTo>
                  <a:lnTo>
                    <a:pt x="2743" y="445"/>
                  </a:lnTo>
                  <a:lnTo>
                    <a:pt x="2749" y="413"/>
                  </a:lnTo>
                  <a:lnTo>
                    <a:pt x="2752" y="379"/>
                  </a:lnTo>
                  <a:lnTo>
                    <a:pt x="2754" y="342"/>
                  </a:lnTo>
                  <a:close/>
                  <a:moveTo>
                    <a:pt x="2655" y="342"/>
                  </a:moveTo>
                  <a:lnTo>
                    <a:pt x="2654" y="370"/>
                  </a:lnTo>
                  <a:lnTo>
                    <a:pt x="2651" y="395"/>
                  </a:lnTo>
                  <a:lnTo>
                    <a:pt x="2647" y="421"/>
                  </a:lnTo>
                  <a:lnTo>
                    <a:pt x="2641" y="444"/>
                  </a:lnTo>
                  <a:lnTo>
                    <a:pt x="2632" y="466"/>
                  </a:lnTo>
                  <a:lnTo>
                    <a:pt x="2623" y="487"/>
                  </a:lnTo>
                  <a:lnTo>
                    <a:pt x="2612" y="507"/>
                  </a:lnTo>
                  <a:lnTo>
                    <a:pt x="2599" y="525"/>
                  </a:lnTo>
                  <a:lnTo>
                    <a:pt x="2583" y="543"/>
                  </a:lnTo>
                  <a:lnTo>
                    <a:pt x="2566" y="558"/>
                  </a:lnTo>
                  <a:lnTo>
                    <a:pt x="2548" y="570"/>
                  </a:lnTo>
                  <a:lnTo>
                    <a:pt x="2529" y="581"/>
                  </a:lnTo>
                  <a:lnTo>
                    <a:pt x="2508" y="589"/>
                  </a:lnTo>
                  <a:lnTo>
                    <a:pt x="2486" y="594"/>
                  </a:lnTo>
                  <a:lnTo>
                    <a:pt x="2463" y="598"/>
                  </a:lnTo>
                  <a:lnTo>
                    <a:pt x="2439" y="599"/>
                  </a:lnTo>
                  <a:lnTo>
                    <a:pt x="2414" y="598"/>
                  </a:lnTo>
                  <a:lnTo>
                    <a:pt x="2391" y="594"/>
                  </a:lnTo>
                  <a:lnTo>
                    <a:pt x="2379" y="592"/>
                  </a:lnTo>
                  <a:lnTo>
                    <a:pt x="2369" y="589"/>
                  </a:lnTo>
                  <a:lnTo>
                    <a:pt x="2348" y="581"/>
                  </a:lnTo>
                  <a:lnTo>
                    <a:pt x="2329" y="570"/>
                  </a:lnTo>
                  <a:lnTo>
                    <a:pt x="2311" y="558"/>
                  </a:lnTo>
                  <a:lnTo>
                    <a:pt x="2302" y="551"/>
                  </a:lnTo>
                  <a:lnTo>
                    <a:pt x="2294" y="543"/>
                  </a:lnTo>
                  <a:lnTo>
                    <a:pt x="2279" y="525"/>
                  </a:lnTo>
                  <a:lnTo>
                    <a:pt x="2265" y="507"/>
                  </a:lnTo>
                  <a:lnTo>
                    <a:pt x="2253" y="487"/>
                  </a:lnTo>
                  <a:lnTo>
                    <a:pt x="2244" y="466"/>
                  </a:lnTo>
                  <a:lnTo>
                    <a:pt x="2236" y="444"/>
                  </a:lnTo>
                  <a:lnTo>
                    <a:pt x="2230" y="421"/>
                  </a:lnTo>
                  <a:lnTo>
                    <a:pt x="2225" y="395"/>
                  </a:lnTo>
                  <a:lnTo>
                    <a:pt x="2222" y="370"/>
                  </a:lnTo>
                  <a:lnTo>
                    <a:pt x="2221" y="342"/>
                  </a:lnTo>
                  <a:lnTo>
                    <a:pt x="2222" y="315"/>
                  </a:lnTo>
                  <a:lnTo>
                    <a:pt x="2225" y="290"/>
                  </a:lnTo>
                  <a:lnTo>
                    <a:pt x="2230" y="265"/>
                  </a:lnTo>
                  <a:lnTo>
                    <a:pt x="2236" y="242"/>
                  </a:lnTo>
                  <a:lnTo>
                    <a:pt x="2244" y="219"/>
                  </a:lnTo>
                  <a:lnTo>
                    <a:pt x="2253" y="199"/>
                  </a:lnTo>
                  <a:lnTo>
                    <a:pt x="2265" y="178"/>
                  </a:lnTo>
                  <a:lnTo>
                    <a:pt x="2279" y="160"/>
                  </a:lnTo>
                  <a:lnTo>
                    <a:pt x="2294" y="142"/>
                  </a:lnTo>
                  <a:lnTo>
                    <a:pt x="2312" y="127"/>
                  </a:lnTo>
                  <a:lnTo>
                    <a:pt x="2329" y="115"/>
                  </a:lnTo>
                  <a:lnTo>
                    <a:pt x="2348" y="104"/>
                  </a:lnTo>
                  <a:lnTo>
                    <a:pt x="2369" y="96"/>
                  </a:lnTo>
                  <a:lnTo>
                    <a:pt x="2391" y="90"/>
                  </a:lnTo>
                  <a:lnTo>
                    <a:pt x="2414" y="87"/>
                  </a:lnTo>
                  <a:lnTo>
                    <a:pt x="2439" y="86"/>
                  </a:lnTo>
                  <a:lnTo>
                    <a:pt x="2462" y="87"/>
                  </a:lnTo>
                  <a:lnTo>
                    <a:pt x="2486" y="90"/>
                  </a:lnTo>
                  <a:lnTo>
                    <a:pt x="2507" y="96"/>
                  </a:lnTo>
                  <a:lnTo>
                    <a:pt x="2528" y="104"/>
                  </a:lnTo>
                  <a:lnTo>
                    <a:pt x="2547" y="115"/>
                  </a:lnTo>
                  <a:lnTo>
                    <a:pt x="2566" y="127"/>
                  </a:lnTo>
                  <a:lnTo>
                    <a:pt x="2582" y="142"/>
                  </a:lnTo>
                  <a:lnTo>
                    <a:pt x="2599" y="160"/>
                  </a:lnTo>
                  <a:lnTo>
                    <a:pt x="2612" y="178"/>
                  </a:lnTo>
                  <a:lnTo>
                    <a:pt x="2623" y="199"/>
                  </a:lnTo>
                  <a:lnTo>
                    <a:pt x="2632" y="219"/>
                  </a:lnTo>
                  <a:lnTo>
                    <a:pt x="2641" y="242"/>
                  </a:lnTo>
                  <a:lnTo>
                    <a:pt x="2647" y="265"/>
                  </a:lnTo>
                  <a:lnTo>
                    <a:pt x="2651" y="290"/>
                  </a:lnTo>
                  <a:lnTo>
                    <a:pt x="2654" y="315"/>
                  </a:lnTo>
                  <a:lnTo>
                    <a:pt x="2655" y="342"/>
                  </a:lnTo>
                  <a:close/>
                  <a:moveTo>
                    <a:pt x="3411" y="671"/>
                  </a:moveTo>
                  <a:lnTo>
                    <a:pt x="3411" y="14"/>
                  </a:lnTo>
                  <a:lnTo>
                    <a:pt x="3315" y="14"/>
                  </a:lnTo>
                  <a:lnTo>
                    <a:pt x="3315" y="540"/>
                  </a:lnTo>
                  <a:lnTo>
                    <a:pt x="3311" y="540"/>
                  </a:lnTo>
                  <a:lnTo>
                    <a:pt x="3025" y="14"/>
                  </a:lnTo>
                  <a:lnTo>
                    <a:pt x="2901" y="14"/>
                  </a:lnTo>
                  <a:lnTo>
                    <a:pt x="2901" y="671"/>
                  </a:lnTo>
                  <a:lnTo>
                    <a:pt x="2997" y="671"/>
                  </a:lnTo>
                  <a:lnTo>
                    <a:pt x="2997" y="144"/>
                  </a:lnTo>
                  <a:lnTo>
                    <a:pt x="2999" y="144"/>
                  </a:lnTo>
                  <a:lnTo>
                    <a:pt x="3287" y="671"/>
                  </a:lnTo>
                  <a:lnTo>
                    <a:pt x="3411" y="671"/>
                  </a:lnTo>
                  <a:close/>
                  <a:moveTo>
                    <a:pt x="4180" y="671"/>
                  </a:moveTo>
                  <a:lnTo>
                    <a:pt x="3893" y="14"/>
                  </a:lnTo>
                  <a:lnTo>
                    <a:pt x="3801" y="14"/>
                  </a:lnTo>
                  <a:lnTo>
                    <a:pt x="3516" y="671"/>
                  </a:lnTo>
                  <a:lnTo>
                    <a:pt x="3618" y="671"/>
                  </a:lnTo>
                  <a:lnTo>
                    <a:pt x="3686" y="503"/>
                  </a:lnTo>
                  <a:lnTo>
                    <a:pt x="4008" y="503"/>
                  </a:lnTo>
                  <a:lnTo>
                    <a:pt x="4077" y="671"/>
                  </a:lnTo>
                  <a:lnTo>
                    <a:pt x="4180" y="671"/>
                  </a:lnTo>
                  <a:close/>
                  <a:moveTo>
                    <a:pt x="3978" y="427"/>
                  </a:moveTo>
                  <a:lnTo>
                    <a:pt x="3717" y="427"/>
                  </a:lnTo>
                  <a:lnTo>
                    <a:pt x="3848" y="104"/>
                  </a:lnTo>
                  <a:lnTo>
                    <a:pt x="3978" y="427"/>
                  </a:lnTo>
                  <a:close/>
                  <a:moveTo>
                    <a:pt x="4650" y="671"/>
                  </a:moveTo>
                  <a:lnTo>
                    <a:pt x="4650" y="587"/>
                  </a:lnTo>
                  <a:lnTo>
                    <a:pt x="4380" y="587"/>
                  </a:lnTo>
                  <a:lnTo>
                    <a:pt x="4380" y="14"/>
                  </a:lnTo>
                  <a:lnTo>
                    <a:pt x="4285" y="14"/>
                  </a:lnTo>
                  <a:lnTo>
                    <a:pt x="4285" y="671"/>
                  </a:lnTo>
                  <a:lnTo>
                    <a:pt x="4650" y="671"/>
                  </a:lnTo>
                  <a:close/>
                  <a:moveTo>
                    <a:pt x="5160" y="671"/>
                  </a:moveTo>
                  <a:lnTo>
                    <a:pt x="5160" y="14"/>
                  </a:lnTo>
                  <a:lnTo>
                    <a:pt x="5065" y="14"/>
                  </a:lnTo>
                  <a:lnTo>
                    <a:pt x="5065" y="671"/>
                  </a:lnTo>
                  <a:lnTo>
                    <a:pt x="5160" y="671"/>
                  </a:lnTo>
                  <a:close/>
                  <a:moveTo>
                    <a:pt x="5875" y="671"/>
                  </a:moveTo>
                  <a:lnTo>
                    <a:pt x="5875" y="14"/>
                  </a:lnTo>
                  <a:lnTo>
                    <a:pt x="5779" y="14"/>
                  </a:lnTo>
                  <a:lnTo>
                    <a:pt x="5779" y="540"/>
                  </a:lnTo>
                  <a:lnTo>
                    <a:pt x="5775" y="540"/>
                  </a:lnTo>
                  <a:lnTo>
                    <a:pt x="5489" y="14"/>
                  </a:lnTo>
                  <a:lnTo>
                    <a:pt x="5364" y="14"/>
                  </a:lnTo>
                  <a:lnTo>
                    <a:pt x="5364" y="671"/>
                  </a:lnTo>
                  <a:lnTo>
                    <a:pt x="5460" y="671"/>
                  </a:lnTo>
                  <a:lnTo>
                    <a:pt x="5460" y="144"/>
                  </a:lnTo>
                  <a:lnTo>
                    <a:pt x="5463" y="144"/>
                  </a:lnTo>
                  <a:lnTo>
                    <a:pt x="5750" y="671"/>
                  </a:lnTo>
                  <a:lnTo>
                    <a:pt x="5875" y="671"/>
                  </a:lnTo>
                  <a:close/>
                  <a:moveTo>
                    <a:pt x="6423" y="494"/>
                  </a:moveTo>
                  <a:lnTo>
                    <a:pt x="6420" y="470"/>
                  </a:lnTo>
                  <a:lnTo>
                    <a:pt x="6417" y="448"/>
                  </a:lnTo>
                  <a:lnTo>
                    <a:pt x="6414" y="438"/>
                  </a:lnTo>
                  <a:lnTo>
                    <a:pt x="6411" y="428"/>
                  </a:lnTo>
                  <a:lnTo>
                    <a:pt x="6404" y="408"/>
                  </a:lnTo>
                  <a:lnTo>
                    <a:pt x="6393" y="389"/>
                  </a:lnTo>
                  <a:lnTo>
                    <a:pt x="6380" y="371"/>
                  </a:lnTo>
                  <a:lnTo>
                    <a:pt x="6365" y="353"/>
                  </a:lnTo>
                  <a:lnTo>
                    <a:pt x="6349" y="338"/>
                  </a:lnTo>
                  <a:lnTo>
                    <a:pt x="6302" y="308"/>
                  </a:lnTo>
                  <a:lnTo>
                    <a:pt x="6211" y="257"/>
                  </a:lnTo>
                  <a:lnTo>
                    <a:pt x="6194" y="247"/>
                  </a:lnTo>
                  <a:lnTo>
                    <a:pt x="6179" y="236"/>
                  </a:lnTo>
                  <a:lnTo>
                    <a:pt x="6165" y="227"/>
                  </a:lnTo>
                  <a:lnTo>
                    <a:pt x="6155" y="217"/>
                  </a:lnTo>
                  <a:lnTo>
                    <a:pt x="6147" y="207"/>
                  </a:lnTo>
                  <a:lnTo>
                    <a:pt x="6142" y="198"/>
                  </a:lnTo>
                  <a:lnTo>
                    <a:pt x="6138" y="187"/>
                  </a:lnTo>
                  <a:lnTo>
                    <a:pt x="6137" y="178"/>
                  </a:lnTo>
                  <a:lnTo>
                    <a:pt x="6139" y="160"/>
                  </a:lnTo>
                  <a:lnTo>
                    <a:pt x="6142" y="151"/>
                  </a:lnTo>
                  <a:lnTo>
                    <a:pt x="6145" y="143"/>
                  </a:lnTo>
                  <a:lnTo>
                    <a:pt x="6155" y="128"/>
                  </a:lnTo>
                  <a:lnTo>
                    <a:pt x="6168" y="113"/>
                  </a:lnTo>
                  <a:lnTo>
                    <a:pt x="6186" y="100"/>
                  </a:lnTo>
                  <a:lnTo>
                    <a:pt x="6195" y="95"/>
                  </a:lnTo>
                  <a:lnTo>
                    <a:pt x="6205" y="91"/>
                  </a:lnTo>
                  <a:lnTo>
                    <a:pt x="6227" y="85"/>
                  </a:lnTo>
                  <a:lnTo>
                    <a:pt x="6251" y="84"/>
                  </a:lnTo>
                  <a:lnTo>
                    <a:pt x="6272" y="86"/>
                  </a:lnTo>
                  <a:lnTo>
                    <a:pt x="6301" y="91"/>
                  </a:lnTo>
                  <a:lnTo>
                    <a:pt x="6382" y="115"/>
                  </a:lnTo>
                  <a:lnTo>
                    <a:pt x="6398" y="23"/>
                  </a:lnTo>
                  <a:lnTo>
                    <a:pt x="6361" y="13"/>
                  </a:lnTo>
                  <a:lnTo>
                    <a:pt x="6324" y="6"/>
                  </a:lnTo>
                  <a:lnTo>
                    <a:pt x="6287" y="1"/>
                  </a:lnTo>
                  <a:lnTo>
                    <a:pt x="6251" y="0"/>
                  </a:lnTo>
                  <a:lnTo>
                    <a:pt x="6211" y="2"/>
                  </a:lnTo>
                  <a:lnTo>
                    <a:pt x="6192" y="6"/>
                  </a:lnTo>
                  <a:lnTo>
                    <a:pt x="6174" y="10"/>
                  </a:lnTo>
                  <a:lnTo>
                    <a:pt x="6140" y="23"/>
                  </a:lnTo>
                  <a:lnTo>
                    <a:pt x="6123" y="33"/>
                  </a:lnTo>
                  <a:lnTo>
                    <a:pt x="6108" y="43"/>
                  </a:lnTo>
                  <a:lnTo>
                    <a:pt x="6092" y="56"/>
                  </a:lnTo>
                  <a:lnTo>
                    <a:pt x="6077" y="71"/>
                  </a:lnTo>
                  <a:lnTo>
                    <a:pt x="6065" y="85"/>
                  </a:lnTo>
                  <a:lnTo>
                    <a:pt x="6060" y="93"/>
                  </a:lnTo>
                  <a:lnTo>
                    <a:pt x="6056" y="101"/>
                  </a:lnTo>
                  <a:lnTo>
                    <a:pt x="6049" y="119"/>
                  </a:lnTo>
                  <a:lnTo>
                    <a:pt x="6042" y="138"/>
                  </a:lnTo>
                  <a:lnTo>
                    <a:pt x="6039" y="158"/>
                  </a:lnTo>
                  <a:lnTo>
                    <a:pt x="6038" y="178"/>
                  </a:lnTo>
                  <a:lnTo>
                    <a:pt x="6040" y="202"/>
                  </a:lnTo>
                  <a:lnTo>
                    <a:pt x="6046" y="224"/>
                  </a:lnTo>
                  <a:lnTo>
                    <a:pt x="6056" y="246"/>
                  </a:lnTo>
                  <a:lnTo>
                    <a:pt x="6070" y="267"/>
                  </a:lnTo>
                  <a:lnTo>
                    <a:pt x="6087" y="287"/>
                  </a:lnTo>
                  <a:lnTo>
                    <a:pt x="6109" y="306"/>
                  </a:lnTo>
                  <a:lnTo>
                    <a:pt x="6134" y="325"/>
                  </a:lnTo>
                  <a:lnTo>
                    <a:pt x="6163" y="341"/>
                  </a:lnTo>
                  <a:lnTo>
                    <a:pt x="6198" y="360"/>
                  </a:lnTo>
                  <a:lnTo>
                    <a:pt x="6232" y="377"/>
                  </a:lnTo>
                  <a:lnTo>
                    <a:pt x="6252" y="389"/>
                  </a:lnTo>
                  <a:lnTo>
                    <a:pt x="6270" y="400"/>
                  </a:lnTo>
                  <a:lnTo>
                    <a:pt x="6284" y="412"/>
                  </a:lnTo>
                  <a:lnTo>
                    <a:pt x="6295" y="424"/>
                  </a:lnTo>
                  <a:lnTo>
                    <a:pt x="6302" y="431"/>
                  </a:lnTo>
                  <a:lnTo>
                    <a:pt x="6308" y="439"/>
                  </a:lnTo>
                  <a:lnTo>
                    <a:pt x="6317" y="457"/>
                  </a:lnTo>
                  <a:lnTo>
                    <a:pt x="6322" y="474"/>
                  </a:lnTo>
                  <a:lnTo>
                    <a:pt x="6324" y="494"/>
                  </a:lnTo>
                  <a:lnTo>
                    <a:pt x="6321" y="515"/>
                  </a:lnTo>
                  <a:lnTo>
                    <a:pt x="6314" y="535"/>
                  </a:lnTo>
                  <a:lnTo>
                    <a:pt x="6302" y="553"/>
                  </a:lnTo>
                  <a:lnTo>
                    <a:pt x="6293" y="561"/>
                  </a:lnTo>
                  <a:lnTo>
                    <a:pt x="6284" y="568"/>
                  </a:lnTo>
                  <a:lnTo>
                    <a:pt x="6263" y="582"/>
                  </a:lnTo>
                  <a:lnTo>
                    <a:pt x="6251" y="587"/>
                  </a:lnTo>
                  <a:lnTo>
                    <a:pt x="6239" y="591"/>
                  </a:lnTo>
                  <a:lnTo>
                    <a:pt x="6211" y="597"/>
                  </a:lnTo>
                  <a:lnTo>
                    <a:pt x="6182" y="599"/>
                  </a:lnTo>
                  <a:lnTo>
                    <a:pt x="6149" y="597"/>
                  </a:lnTo>
                  <a:lnTo>
                    <a:pt x="6117" y="591"/>
                  </a:lnTo>
                  <a:lnTo>
                    <a:pt x="6087" y="581"/>
                  </a:lnTo>
                  <a:lnTo>
                    <a:pt x="6060" y="566"/>
                  </a:lnTo>
                  <a:lnTo>
                    <a:pt x="6046" y="656"/>
                  </a:lnTo>
                  <a:lnTo>
                    <a:pt x="6088" y="671"/>
                  </a:lnTo>
                  <a:lnTo>
                    <a:pt x="6116" y="678"/>
                  </a:lnTo>
                  <a:lnTo>
                    <a:pt x="6128" y="680"/>
                  </a:lnTo>
                  <a:lnTo>
                    <a:pt x="6144" y="682"/>
                  </a:lnTo>
                  <a:lnTo>
                    <a:pt x="6182" y="683"/>
                  </a:lnTo>
                  <a:lnTo>
                    <a:pt x="6228" y="680"/>
                  </a:lnTo>
                  <a:lnTo>
                    <a:pt x="6249" y="677"/>
                  </a:lnTo>
                  <a:lnTo>
                    <a:pt x="6270" y="673"/>
                  </a:lnTo>
                  <a:lnTo>
                    <a:pt x="6289" y="667"/>
                  </a:lnTo>
                  <a:lnTo>
                    <a:pt x="6308" y="659"/>
                  </a:lnTo>
                  <a:lnTo>
                    <a:pt x="6325" y="651"/>
                  </a:lnTo>
                  <a:lnTo>
                    <a:pt x="6342" y="641"/>
                  </a:lnTo>
                  <a:lnTo>
                    <a:pt x="6361" y="628"/>
                  </a:lnTo>
                  <a:lnTo>
                    <a:pt x="6377" y="612"/>
                  </a:lnTo>
                  <a:lnTo>
                    <a:pt x="6391" y="596"/>
                  </a:lnTo>
                  <a:lnTo>
                    <a:pt x="6402" y="579"/>
                  </a:lnTo>
                  <a:lnTo>
                    <a:pt x="6411" y="559"/>
                  </a:lnTo>
                  <a:lnTo>
                    <a:pt x="6417" y="539"/>
                  </a:lnTo>
                  <a:lnTo>
                    <a:pt x="6420" y="517"/>
                  </a:lnTo>
                  <a:lnTo>
                    <a:pt x="6423" y="494"/>
                  </a:lnTo>
                  <a:close/>
                  <a:moveTo>
                    <a:pt x="7013" y="96"/>
                  </a:moveTo>
                  <a:lnTo>
                    <a:pt x="7013" y="14"/>
                  </a:lnTo>
                  <a:lnTo>
                    <a:pt x="6516" y="14"/>
                  </a:lnTo>
                  <a:lnTo>
                    <a:pt x="6516" y="96"/>
                  </a:lnTo>
                  <a:lnTo>
                    <a:pt x="6716" y="96"/>
                  </a:lnTo>
                  <a:lnTo>
                    <a:pt x="6716" y="671"/>
                  </a:lnTo>
                  <a:lnTo>
                    <a:pt x="6812" y="671"/>
                  </a:lnTo>
                  <a:lnTo>
                    <a:pt x="6812" y="96"/>
                  </a:lnTo>
                  <a:lnTo>
                    <a:pt x="7013" y="96"/>
                  </a:lnTo>
                  <a:close/>
                  <a:moveTo>
                    <a:pt x="7238" y="671"/>
                  </a:moveTo>
                  <a:lnTo>
                    <a:pt x="7238" y="14"/>
                  </a:lnTo>
                  <a:lnTo>
                    <a:pt x="7143" y="14"/>
                  </a:lnTo>
                  <a:lnTo>
                    <a:pt x="7143" y="671"/>
                  </a:lnTo>
                  <a:lnTo>
                    <a:pt x="7238" y="671"/>
                  </a:lnTo>
                  <a:close/>
                  <a:moveTo>
                    <a:pt x="7867" y="96"/>
                  </a:moveTo>
                  <a:lnTo>
                    <a:pt x="7867" y="14"/>
                  </a:lnTo>
                  <a:lnTo>
                    <a:pt x="7370" y="14"/>
                  </a:lnTo>
                  <a:lnTo>
                    <a:pt x="7370" y="96"/>
                  </a:lnTo>
                  <a:lnTo>
                    <a:pt x="7570" y="96"/>
                  </a:lnTo>
                  <a:lnTo>
                    <a:pt x="7570" y="671"/>
                  </a:lnTo>
                  <a:lnTo>
                    <a:pt x="7666" y="671"/>
                  </a:lnTo>
                  <a:lnTo>
                    <a:pt x="7666" y="96"/>
                  </a:lnTo>
                  <a:lnTo>
                    <a:pt x="7867" y="96"/>
                  </a:lnTo>
                  <a:close/>
                  <a:moveTo>
                    <a:pt x="8512" y="398"/>
                  </a:moveTo>
                  <a:lnTo>
                    <a:pt x="8512" y="14"/>
                  </a:lnTo>
                  <a:lnTo>
                    <a:pt x="8415" y="14"/>
                  </a:lnTo>
                  <a:lnTo>
                    <a:pt x="8415" y="414"/>
                  </a:lnTo>
                  <a:lnTo>
                    <a:pt x="8412" y="454"/>
                  </a:lnTo>
                  <a:lnTo>
                    <a:pt x="8405" y="488"/>
                  </a:lnTo>
                  <a:lnTo>
                    <a:pt x="8400" y="504"/>
                  </a:lnTo>
                  <a:lnTo>
                    <a:pt x="8393" y="519"/>
                  </a:lnTo>
                  <a:lnTo>
                    <a:pt x="8386" y="533"/>
                  </a:lnTo>
                  <a:lnTo>
                    <a:pt x="8377" y="546"/>
                  </a:lnTo>
                  <a:lnTo>
                    <a:pt x="8365" y="559"/>
                  </a:lnTo>
                  <a:lnTo>
                    <a:pt x="8353" y="569"/>
                  </a:lnTo>
                  <a:lnTo>
                    <a:pt x="8340" y="579"/>
                  </a:lnTo>
                  <a:lnTo>
                    <a:pt x="8325" y="586"/>
                  </a:lnTo>
                  <a:lnTo>
                    <a:pt x="8294" y="596"/>
                  </a:lnTo>
                  <a:lnTo>
                    <a:pt x="8275" y="598"/>
                  </a:lnTo>
                  <a:lnTo>
                    <a:pt x="8257" y="599"/>
                  </a:lnTo>
                  <a:lnTo>
                    <a:pt x="8220" y="596"/>
                  </a:lnTo>
                  <a:lnTo>
                    <a:pt x="8203" y="592"/>
                  </a:lnTo>
                  <a:lnTo>
                    <a:pt x="8188" y="586"/>
                  </a:lnTo>
                  <a:lnTo>
                    <a:pt x="8174" y="579"/>
                  </a:lnTo>
                  <a:lnTo>
                    <a:pt x="8160" y="569"/>
                  </a:lnTo>
                  <a:lnTo>
                    <a:pt x="8148" y="558"/>
                  </a:lnTo>
                  <a:lnTo>
                    <a:pt x="8137" y="546"/>
                  </a:lnTo>
                  <a:lnTo>
                    <a:pt x="8119" y="519"/>
                  </a:lnTo>
                  <a:lnTo>
                    <a:pt x="8112" y="504"/>
                  </a:lnTo>
                  <a:lnTo>
                    <a:pt x="8107" y="488"/>
                  </a:lnTo>
                  <a:lnTo>
                    <a:pt x="8102" y="471"/>
                  </a:lnTo>
                  <a:lnTo>
                    <a:pt x="8099" y="454"/>
                  </a:lnTo>
                  <a:lnTo>
                    <a:pt x="8098" y="434"/>
                  </a:lnTo>
                  <a:lnTo>
                    <a:pt x="8097" y="414"/>
                  </a:lnTo>
                  <a:lnTo>
                    <a:pt x="8097" y="14"/>
                  </a:lnTo>
                  <a:lnTo>
                    <a:pt x="8001" y="14"/>
                  </a:lnTo>
                  <a:lnTo>
                    <a:pt x="8001" y="398"/>
                  </a:lnTo>
                  <a:lnTo>
                    <a:pt x="8003" y="427"/>
                  </a:lnTo>
                  <a:lnTo>
                    <a:pt x="8005" y="456"/>
                  </a:lnTo>
                  <a:lnTo>
                    <a:pt x="8010" y="482"/>
                  </a:lnTo>
                  <a:lnTo>
                    <a:pt x="8016" y="508"/>
                  </a:lnTo>
                  <a:lnTo>
                    <a:pt x="8023" y="531"/>
                  </a:lnTo>
                  <a:lnTo>
                    <a:pt x="8033" y="554"/>
                  </a:lnTo>
                  <a:lnTo>
                    <a:pt x="8045" y="574"/>
                  </a:lnTo>
                  <a:lnTo>
                    <a:pt x="8057" y="594"/>
                  </a:lnTo>
                  <a:lnTo>
                    <a:pt x="8074" y="615"/>
                  </a:lnTo>
                  <a:lnTo>
                    <a:pt x="8095" y="633"/>
                  </a:lnTo>
                  <a:lnTo>
                    <a:pt x="8116" y="648"/>
                  </a:lnTo>
                  <a:lnTo>
                    <a:pt x="8129" y="655"/>
                  </a:lnTo>
                  <a:lnTo>
                    <a:pt x="8141" y="660"/>
                  </a:lnTo>
                  <a:lnTo>
                    <a:pt x="8166" y="671"/>
                  </a:lnTo>
                  <a:lnTo>
                    <a:pt x="8194" y="678"/>
                  </a:lnTo>
                  <a:lnTo>
                    <a:pt x="8224" y="682"/>
                  </a:lnTo>
                  <a:lnTo>
                    <a:pt x="8257" y="683"/>
                  </a:lnTo>
                  <a:lnTo>
                    <a:pt x="8288" y="682"/>
                  </a:lnTo>
                  <a:lnTo>
                    <a:pt x="8318" y="678"/>
                  </a:lnTo>
                  <a:lnTo>
                    <a:pt x="8346" y="671"/>
                  </a:lnTo>
                  <a:lnTo>
                    <a:pt x="8372" y="660"/>
                  </a:lnTo>
                  <a:lnTo>
                    <a:pt x="8396" y="648"/>
                  </a:lnTo>
                  <a:lnTo>
                    <a:pt x="8407" y="641"/>
                  </a:lnTo>
                  <a:lnTo>
                    <a:pt x="8417" y="633"/>
                  </a:lnTo>
                  <a:lnTo>
                    <a:pt x="8428" y="625"/>
                  </a:lnTo>
                  <a:lnTo>
                    <a:pt x="8438" y="615"/>
                  </a:lnTo>
                  <a:lnTo>
                    <a:pt x="8455" y="594"/>
                  </a:lnTo>
                  <a:lnTo>
                    <a:pt x="8469" y="574"/>
                  </a:lnTo>
                  <a:lnTo>
                    <a:pt x="8480" y="554"/>
                  </a:lnTo>
                  <a:lnTo>
                    <a:pt x="8490" y="531"/>
                  </a:lnTo>
                  <a:lnTo>
                    <a:pt x="8498" y="508"/>
                  </a:lnTo>
                  <a:lnTo>
                    <a:pt x="8505" y="482"/>
                  </a:lnTo>
                  <a:lnTo>
                    <a:pt x="8509" y="456"/>
                  </a:lnTo>
                  <a:lnTo>
                    <a:pt x="8512" y="427"/>
                  </a:lnTo>
                  <a:lnTo>
                    <a:pt x="8512" y="398"/>
                  </a:lnTo>
                  <a:close/>
                  <a:moveTo>
                    <a:pt x="9143" y="96"/>
                  </a:moveTo>
                  <a:lnTo>
                    <a:pt x="9143" y="14"/>
                  </a:lnTo>
                  <a:lnTo>
                    <a:pt x="8646" y="14"/>
                  </a:lnTo>
                  <a:lnTo>
                    <a:pt x="8646" y="96"/>
                  </a:lnTo>
                  <a:lnTo>
                    <a:pt x="8847" y="96"/>
                  </a:lnTo>
                  <a:lnTo>
                    <a:pt x="8847" y="671"/>
                  </a:lnTo>
                  <a:lnTo>
                    <a:pt x="8943" y="671"/>
                  </a:lnTo>
                  <a:lnTo>
                    <a:pt x="8943" y="96"/>
                  </a:lnTo>
                  <a:lnTo>
                    <a:pt x="9143" y="96"/>
                  </a:lnTo>
                  <a:close/>
                  <a:moveTo>
                    <a:pt x="9651" y="96"/>
                  </a:moveTo>
                  <a:lnTo>
                    <a:pt x="9651" y="14"/>
                  </a:lnTo>
                  <a:lnTo>
                    <a:pt x="9281" y="14"/>
                  </a:lnTo>
                  <a:lnTo>
                    <a:pt x="9281" y="671"/>
                  </a:lnTo>
                  <a:lnTo>
                    <a:pt x="9649" y="671"/>
                  </a:lnTo>
                  <a:lnTo>
                    <a:pt x="9649" y="587"/>
                  </a:lnTo>
                  <a:lnTo>
                    <a:pt x="9377" y="587"/>
                  </a:lnTo>
                  <a:lnTo>
                    <a:pt x="9377" y="371"/>
                  </a:lnTo>
                  <a:lnTo>
                    <a:pt x="9627" y="371"/>
                  </a:lnTo>
                  <a:lnTo>
                    <a:pt x="9627" y="287"/>
                  </a:lnTo>
                  <a:lnTo>
                    <a:pt x="9377" y="287"/>
                  </a:lnTo>
                  <a:lnTo>
                    <a:pt x="9377" y="96"/>
                  </a:lnTo>
                  <a:lnTo>
                    <a:pt x="9651" y="96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" name="Picture 23" descr="THL_helmi_BIG_rgb"/>
          <p:cNvPicPr/>
          <p:nvPr/>
        </p:nvPicPr>
        <p:blipFill>
          <a:blip r:embed="rId2"/>
          <a:stretch/>
        </p:blipFill>
        <p:spPr>
          <a:xfrm>
            <a:off x="7888320" y="566100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0" y="6561000"/>
            <a:ext cx="9144000" cy="29700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F21-E183-40CE-AEDF-949A4C01FF32}" type="datetime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201-434E-4302-846E-0B183E02F16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2"/>
          <p:cNvGrpSpPr/>
          <p:nvPr/>
        </p:nvGrpSpPr>
        <p:grpSpPr>
          <a:xfrm>
            <a:off x="1241280" y="3645000"/>
            <a:ext cx="6661440" cy="198360"/>
            <a:chOff x="1241280" y="3645000"/>
            <a:chExt cx="6661440" cy="198360"/>
          </a:xfrm>
        </p:grpSpPr>
        <p:sp>
          <p:nvSpPr>
            <p:cNvPr id="47" name="Freeform 13"/>
            <p:cNvSpPr/>
            <p:nvPr/>
          </p:nvSpPr>
          <p:spPr>
            <a:xfrm>
              <a:off x="4195800" y="3645000"/>
              <a:ext cx="3706920" cy="198360"/>
            </a:xfrm>
            <a:custGeom>
              <a:avLst/>
              <a:gdLst>
                <a:gd name="textAreaLeft" fmla="*/ 0 w 3706920"/>
                <a:gd name="textAreaRight" fmla="*/ 3707280 w 3706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476" h="133">
                  <a:moveTo>
                    <a:pt x="72" y="18"/>
                  </a:moveTo>
                  <a:lnTo>
                    <a:pt x="72" y="2"/>
                  </a:lnTo>
                  <a:lnTo>
                    <a:pt x="0" y="2"/>
                  </a:lnTo>
                  <a:lnTo>
                    <a:pt x="0" y="130"/>
                  </a:lnTo>
                  <a:lnTo>
                    <a:pt x="18" y="130"/>
                  </a:lnTo>
                  <a:lnTo>
                    <a:pt x="18" y="72"/>
                  </a:lnTo>
                  <a:lnTo>
                    <a:pt x="67" y="72"/>
                  </a:lnTo>
                  <a:lnTo>
                    <a:pt x="67" y="55"/>
                  </a:lnTo>
                  <a:lnTo>
                    <a:pt x="18" y="55"/>
                  </a:lnTo>
                  <a:lnTo>
                    <a:pt x="18" y="18"/>
                  </a:lnTo>
                  <a:lnTo>
                    <a:pt x="72" y="18"/>
                  </a:lnTo>
                  <a:close/>
                  <a:moveTo>
                    <a:pt x="215" y="66"/>
                  </a:moveTo>
                  <a:lnTo>
                    <a:pt x="215" y="59"/>
                  </a:lnTo>
                  <a:lnTo>
                    <a:pt x="214" y="52"/>
                  </a:lnTo>
                  <a:lnTo>
                    <a:pt x="213" y="46"/>
                  </a:lnTo>
                  <a:lnTo>
                    <a:pt x="211" y="40"/>
                  </a:lnTo>
                  <a:lnTo>
                    <a:pt x="209" y="34"/>
                  </a:lnTo>
                  <a:lnTo>
                    <a:pt x="206" y="29"/>
                  </a:lnTo>
                  <a:lnTo>
                    <a:pt x="203" y="24"/>
                  </a:lnTo>
                  <a:lnTo>
                    <a:pt x="199" y="19"/>
                  </a:lnTo>
                  <a:lnTo>
                    <a:pt x="195" y="14"/>
                  </a:lnTo>
                  <a:lnTo>
                    <a:pt x="190" y="11"/>
                  </a:lnTo>
                  <a:lnTo>
                    <a:pt x="185" y="7"/>
                  </a:lnTo>
                  <a:lnTo>
                    <a:pt x="179" y="5"/>
                  </a:lnTo>
                  <a:lnTo>
                    <a:pt x="173" y="2"/>
                  </a:lnTo>
                  <a:lnTo>
                    <a:pt x="167" y="1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3" y="2"/>
                  </a:lnTo>
                  <a:lnTo>
                    <a:pt x="127" y="5"/>
                  </a:lnTo>
                  <a:lnTo>
                    <a:pt x="122" y="7"/>
                  </a:lnTo>
                  <a:lnTo>
                    <a:pt x="117" y="11"/>
                  </a:lnTo>
                  <a:lnTo>
                    <a:pt x="112" y="14"/>
                  </a:lnTo>
                  <a:lnTo>
                    <a:pt x="107" y="19"/>
                  </a:lnTo>
                  <a:lnTo>
                    <a:pt x="104" y="24"/>
                  </a:lnTo>
                  <a:lnTo>
                    <a:pt x="101" y="29"/>
                  </a:lnTo>
                  <a:lnTo>
                    <a:pt x="98" y="34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3" y="52"/>
                  </a:lnTo>
                  <a:lnTo>
                    <a:pt x="92" y="59"/>
                  </a:lnTo>
                  <a:lnTo>
                    <a:pt x="92" y="66"/>
                  </a:lnTo>
                  <a:lnTo>
                    <a:pt x="92" y="73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6" y="92"/>
                  </a:lnTo>
                  <a:lnTo>
                    <a:pt x="98" y="98"/>
                  </a:lnTo>
                  <a:lnTo>
                    <a:pt x="101" y="104"/>
                  </a:lnTo>
                  <a:lnTo>
                    <a:pt x="104" y="109"/>
                  </a:lnTo>
                  <a:lnTo>
                    <a:pt x="107" y="113"/>
                  </a:lnTo>
                  <a:lnTo>
                    <a:pt x="112" y="118"/>
                  </a:lnTo>
                  <a:lnTo>
                    <a:pt x="117" y="122"/>
                  </a:lnTo>
                  <a:lnTo>
                    <a:pt x="122" y="125"/>
                  </a:lnTo>
                  <a:lnTo>
                    <a:pt x="127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46" y="132"/>
                  </a:lnTo>
                  <a:lnTo>
                    <a:pt x="153" y="133"/>
                  </a:lnTo>
                  <a:lnTo>
                    <a:pt x="160" y="132"/>
                  </a:lnTo>
                  <a:lnTo>
                    <a:pt x="167" y="132"/>
                  </a:lnTo>
                  <a:lnTo>
                    <a:pt x="173" y="130"/>
                  </a:lnTo>
                  <a:lnTo>
                    <a:pt x="179" y="128"/>
                  </a:lnTo>
                  <a:lnTo>
                    <a:pt x="185" y="125"/>
                  </a:lnTo>
                  <a:lnTo>
                    <a:pt x="190" y="122"/>
                  </a:lnTo>
                  <a:lnTo>
                    <a:pt x="195" y="118"/>
                  </a:lnTo>
                  <a:lnTo>
                    <a:pt x="199" y="113"/>
                  </a:lnTo>
                  <a:lnTo>
                    <a:pt x="203" y="109"/>
                  </a:lnTo>
                  <a:lnTo>
                    <a:pt x="206" y="103"/>
                  </a:lnTo>
                  <a:lnTo>
                    <a:pt x="209" y="98"/>
                  </a:lnTo>
                  <a:lnTo>
                    <a:pt x="211" y="92"/>
                  </a:lnTo>
                  <a:lnTo>
                    <a:pt x="213" y="86"/>
                  </a:lnTo>
                  <a:lnTo>
                    <a:pt x="214" y="80"/>
                  </a:lnTo>
                  <a:lnTo>
                    <a:pt x="215" y="73"/>
                  </a:lnTo>
                  <a:lnTo>
                    <a:pt x="215" y="66"/>
                  </a:lnTo>
                  <a:close/>
                  <a:moveTo>
                    <a:pt x="196" y="66"/>
                  </a:moveTo>
                  <a:lnTo>
                    <a:pt x="195" y="72"/>
                  </a:lnTo>
                  <a:lnTo>
                    <a:pt x="195" y="77"/>
                  </a:lnTo>
                  <a:lnTo>
                    <a:pt x="193" y="86"/>
                  </a:lnTo>
                  <a:lnTo>
                    <a:pt x="191" y="90"/>
                  </a:lnTo>
                  <a:lnTo>
                    <a:pt x="189" y="95"/>
                  </a:lnTo>
                  <a:lnTo>
                    <a:pt x="184" y="102"/>
                  </a:lnTo>
                  <a:lnTo>
                    <a:pt x="181" y="105"/>
                  </a:lnTo>
                  <a:lnTo>
                    <a:pt x="178" y="108"/>
                  </a:lnTo>
                  <a:lnTo>
                    <a:pt x="175" y="111"/>
                  </a:lnTo>
                  <a:lnTo>
                    <a:pt x="171" y="113"/>
                  </a:lnTo>
                  <a:lnTo>
                    <a:pt x="167" y="114"/>
                  </a:lnTo>
                  <a:lnTo>
                    <a:pt x="163" y="115"/>
                  </a:lnTo>
                  <a:lnTo>
                    <a:pt x="158" y="116"/>
                  </a:lnTo>
                  <a:lnTo>
                    <a:pt x="153" y="116"/>
                  </a:lnTo>
                  <a:lnTo>
                    <a:pt x="149" y="116"/>
                  </a:lnTo>
                  <a:lnTo>
                    <a:pt x="144" y="115"/>
                  </a:lnTo>
                  <a:lnTo>
                    <a:pt x="140" y="114"/>
                  </a:lnTo>
                  <a:lnTo>
                    <a:pt x="136" y="113"/>
                  </a:lnTo>
                  <a:lnTo>
                    <a:pt x="132" y="111"/>
                  </a:lnTo>
                  <a:lnTo>
                    <a:pt x="128" y="108"/>
                  </a:lnTo>
                  <a:lnTo>
                    <a:pt x="125" y="105"/>
                  </a:lnTo>
                  <a:lnTo>
                    <a:pt x="122" y="102"/>
                  </a:lnTo>
                  <a:lnTo>
                    <a:pt x="120" y="98"/>
                  </a:lnTo>
                  <a:lnTo>
                    <a:pt x="117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2" y="81"/>
                  </a:lnTo>
                  <a:lnTo>
                    <a:pt x="112" y="77"/>
                  </a:lnTo>
                  <a:lnTo>
                    <a:pt x="111" y="72"/>
                  </a:lnTo>
                  <a:lnTo>
                    <a:pt x="111" y="66"/>
                  </a:lnTo>
                  <a:lnTo>
                    <a:pt x="111" y="61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5" y="42"/>
                  </a:lnTo>
                  <a:lnTo>
                    <a:pt x="117" y="38"/>
                  </a:lnTo>
                  <a:lnTo>
                    <a:pt x="122" y="31"/>
                  </a:lnTo>
                  <a:lnTo>
                    <a:pt x="125" y="27"/>
                  </a:lnTo>
                  <a:lnTo>
                    <a:pt x="128" y="24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8"/>
                  </a:lnTo>
                  <a:lnTo>
                    <a:pt x="144" y="17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8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71" y="20"/>
                  </a:lnTo>
                  <a:lnTo>
                    <a:pt x="175" y="22"/>
                  </a:lnTo>
                  <a:lnTo>
                    <a:pt x="178" y="24"/>
                  </a:lnTo>
                  <a:lnTo>
                    <a:pt x="181" y="27"/>
                  </a:lnTo>
                  <a:lnTo>
                    <a:pt x="184" y="31"/>
                  </a:lnTo>
                  <a:lnTo>
                    <a:pt x="187" y="34"/>
                  </a:lnTo>
                  <a:lnTo>
                    <a:pt x="189" y="38"/>
                  </a:lnTo>
                  <a:lnTo>
                    <a:pt x="191" y="42"/>
                  </a:lnTo>
                  <a:lnTo>
                    <a:pt x="193" y="46"/>
                  </a:lnTo>
                  <a:lnTo>
                    <a:pt x="194" y="51"/>
                  </a:lnTo>
                  <a:lnTo>
                    <a:pt x="195" y="56"/>
                  </a:lnTo>
                  <a:lnTo>
                    <a:pt x="195" y="61"/>
                  </a:lnTo>
                  <a:lnTo>
                    <a:pt x="196" y="66"/>
                  </a:lnTo>
                  <a:close/>
                  <a:moveTo>
                    <a:pt x="336" y="130"/>
                  </a:moveTo>
                  <a:lnTo>
                    <a:pt x="336" y="114"/>
                  </a:lnTo>
                  <a:lnTo>
                    <a:pt x="332" y="114"/>
                  </a:lnTo>
                  <a:lnTo>
                    <a:pt x="330" y="114"/>
                  </a:lnTo>
                  <a:lnTo>
                    <a:pt x="329" y="113"/>
                  </a:lnTo>
                  <a:lnTo>
                    <a:pt x="327" y="112"/>
                  </a:lnTo>
                  <a:lnTo>
                    <a:pt x="325" y="110"/>
                  </a:lnTo>
                  <a:lnTo>
                    <a:pt x="321" y="104"/>
                  </a:lnTo>
                  <a:lnTo>
                    <a:pt x="317" y="97"/>
                  </a:lnTo>
                  <a:lnTo>
                    <a:pt x="312" y="87"/>
                  </a:lnTo>
                  <a:lnTo>
                    <a:pt x="308" y="78"/>
                  </a:lnTo>
                  <a:lnTo>
                    <a:pt x="304" y="72"/>
                  </a:lnTo>
                  <a:lnTo>
                    <a:pt x="300" y="67"/>
                  </a:lnTo>
                  <a:lnTo>
                    <a:pt x="306" y="64"/>
                  </a:lnTo>
                  <a:lnTo>
                    <a:pt x="311" y="61"/>
                  </a:lnTo>
                  <a:lnTo>
                    <a:pt x="315" y="58"/>
                  </a:lnTo>
                  <a:lnTo>
                    <a:pt x="319" y="54"/>
                  </a:lnTo>
                  <a:lnTo>
                    <a:pt x="322" y="50"/>
                  </a:lnTo>
                  <a:lnTo>
                    <a:pt x="324" y="45"/>
                  </a:lnTo>
                  <a:lnTo>
                    <a:pt x="325" y="40"/>
                  </a:lnTo>
                  <a:lnTo>
                    <a:pt x="325" y="35"/>
                  </a:lnTo>
                  <a:lnTo>
                    <a:pt x="325" y="32"/>
                  </a:lnTo>
                  <a:lnTo>
                    <a:pt x="324" y="28"/>
                  </a:lnTo>
                  <a:lnTo>
                    <a:pt x="322" y="22"/>
                  </a:lnTo>
                  <a:lnTo>
                    <a:pt x="321" y="19"/>
                  </a:lnTo>
                  <a:lnTo>
                    <a:pt x="319" y="16"/>
                  </a:lnTo>
                  <a:lnTo>
                    <a:pt x="317" y="13"/>
                  </a:lnTo>
                  <a:lnTo>
                    <a:pt x="314" y="11"/>
                  </a:lnTo>
                  <a:lnTo>
                    <a:pt x="308" y="7"/>
                  </a:lnTo>
                  <a:lnTo>
                    <a:pt x="305" y="6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6" y="2"/>
                  </a:lnTo>
                  <a:lnTo>
                    <a:pt x="242" y="2"/>
                  </a:lnTo>
                  <a:lnTo>
                    <a:pt x="242" y="130"/>
                  </a:lnTo>
                  <a:lnTo>
                    <a:pt x="262" y="130"/>
                  </a:lnTo>
                  <a:lnTo>
                    <a:pt x="262" y="74"/>
                  </a:lnTo>
                  <a:lnTo>
                    <a:pt x="276" y="74"/>
                  </a:lnTo>
                  <a:lnTo>
                    <a:pt x="278" y="74"/>
                  </a:lnTo>
                  <a:lnTo>
                    <a:pt x="281" y="75"/>
                  </a:lnTo>
                  <a:lnTo>
                    <a:pt x="283" y="76"/>
                  </a:lnTo>
                  <a:lnTo>
                    <a:pt x="285" y="77"/>
                  </a:lnTo>
                  <a:lnTo>
                    <a:pt x="289" y="82"/>
                  </a:lnTo>
                  <a:lnTo>
                    <a:pt x="293" y="88"/>
                  </a:lnTo>
                  <a:lnTo>
                    <a:pt x="307" y="116"/>
                  </a:lnTo>
                  <a:lnTo>
                    <a:pt x="309" y="119"/>
                  </a:lnTo>
                  <a:lnTo>
                    <a:pt x="312" y="122"/>
                  </a:lnTo>
                  <a:lnTo>
                    <a:pt x="315" y="125"/>
                  </a:lnTo>
                  <a:lnTo>
                    <a:pt x="318" y="127"/>
                  </a:lnTo>
                  <a:lnTo>
                    <a:pt x="321" y="128"/>
                  </a:lnTo>
                  <a:lnTo>
                    <a:pt x="324" y="129"/>
                  </a:lnTo>
                  <a:lnTo>
                    <a:pt x="328" y="130"/>
                  </a:lnTo>
                  <a:lnTo>
                    <a:pt x="332" y="130"/>
                  </a:lnTo>
                  <a:lnTo>
                    <a:pt x="336" y="130"/>
                  </a:lnTo>
                  <a:close/>
                  <a:moveTo>
                    <a:pt x="305" y="35"/>
                  </a:moveTo>
                  <a:lnTo>
                    <a:pt x="305" y="40"/>
                  </a:lnTo>
                  <a:lnTo>
                    <a:pt x="304" y="44"/>
                  </a:lnTo>
                  <a:lnTo>
                    <a:pt x="302" y="47"/>
                  </a:lnTo>
                  <a:lnTo>
                    <a:pt x="299" y="51"/>
                  </a:lnTo>
                  <a:lnTo>
                    <a:pt x="295" y="54"/>
                  </a:lnTo>
                  <a:lnTo>
                    <a:pt x="291" y="56"/>
                  </a:lnTo>
                  <a:lnTo>
                    <a:pt x="287" y="57"/>
                  </a:lnTo>
                  <a:lnTo>
                    <a:pt x="283" y="57"/>
                  </a:lnTo>
                  <a:lnTo>
                    <a:pt x="262" y="57"/>
                  </a:lnTo>
                  <a:lnTo>
                    <a:pt x="262" y="18"/>
                  </a:lnTo>
                  <a:lnTo>
                    <a:pt x="283" y="18"/>
                  </a:lnTo>
                  <a:lnTo>
                    <a:pt x="287" y="18"/>
                  </a:lnTo>
                  <a:lnTo>
                    <a:pt x="291" y="19"/>
                  </a:lnTo>
                  <a:lnTo>
                    <a:pt x="295" y="21"/>
                  </a:lnTo>
                  <a:lnTo>
                    <a:pt x="298" y="23"/>
                  </a:lnTo>
                  <a:lnTo>
                    <a:pt x="301" y="25"/>
                  </a:lnTo>
                  <a:lnTo>
                    <a:pt x="304" y="28"/>
                  </a:lnTo>
                  <a:lnTo>
                    <a:pt x="305" y="32"/>
                  </a:lnTo>
                  <a:lnTo>
                    <a:pt x="305" y="35"/>
                  </a:lnTo>
                  <a:close/>
                  <a:moveTo>
                    <a:pt x="524" y="130"/>
                  </a:moveTo>
                  <a:lnTo>
                    <a:pt x="524" y="2"/>
                  </a:lnTo>
                  <a:lnTo>
                    <a:pt x="505" y="2"/>
                  </a:lnTo>
                  <a:lnTo>
                    <a:pt x="505" y="55"/>
                  </a:lnTo>
                  <a:lnTo>
                    <a:pt x="443" y="55"/>
                  </a:lnTo>
                  <a:lnTo>
                    <a:pt x="443" y="2"/>
                  </a:lnTo>
                  <a:lnTo>
                    <a:pt x="425" y="2"/>
                  </a:lnTo>
                  <a:lnTo>
                    <a:pt x="425" y="130"/>
                  </a:lnTo>
                  <a:lnTo>
                    <a:pt x="443" y="130"/>
                  </a:lnTo>
                  <a:lnTo>
                    <a:pt x="443" y="71"/>
                  </a:lnTo>
                  <a:lnTo>
                    <a:pt x="505" y="71"/>
                  </a:lnTo>
                  <a:lnTo>
                    <a:pt x="505" y="130"/>
                  </a:lnTo>
                  <a:lnTo>
                    <a:pt x="524" y="130"/>
                  </a:lnTo>
                  <a:close/>
                  <a:moveTo>
                    <a:pt x="632" y="18"/>
                  </a:moveTo>
                  <a:lnTo>
                    <a:pt x="632" y="2"/>
                  </a:lnTo>
                  <a:lnTo>
                    <a:pt x="560" y="2"/>
                  </a:lnTo>
                  <a:lnTo>
                    <a:pt x="560" y="130"/>
                  </a:lnTo>
                  <a:lnTo>
                    <a:pt x="632" y="130"/>
                  </a:lnTo>
                  <a:lnTo>
                    <a:pt x="632" y="114"/>
                  </a:lnTo>
                  <a:lnTo>
                    <a:pt x="579" y="114"/>
                  </a:lnTo>
                  <a:lnTo>
                    <a:pt x="579" y="72"/>
                  </a:lnTo>
                  <a:lnTo>
                    <a:pt x="628" y="72"/>
                  </a:lnTo>
                  <a:lnTo>
                    <a:pt x="628" y="55"/>
                  </a:lnTo>
                  <a:lnTo>
                    <a:pt x="579" y="55"/>
                  </a:lnTo>
                  <a:lnTo>
                    <a:pt x="579" y="18"/>
                  </a:lnTo>
                  <a:lnTo>
                    <a:pt x="632" y="18"/>
                  </a:lnTo>
                  <a:close/>
                  <a:moveTo>
                    <a:pt x="778" y="130"/>
                  </a:moveTo>
                  <a:lnTo>
                    <a:pt x="722" y="2"/>
                  </a:lnTo>
                  <a:lnTo>
                    <a:pt x="704" y="2"/>
                  </a:lnTo>
                  <a:lnTo>
                    <a:pt x="649" y="130"/>
                  </a:lnTo>
                  <a:lnTo>
                    <a:pt x="669" y="130"/>
                  </a:lnTo>
                  <a:lnTo>
                    <a:pt x="682" y="98"/>
                  </a:lnTo>
                  <a:lnTo>
                    <a:pt x="745" y="98"/>
                  </a:lnTo>
                  <a:lnTo>
                    <a:pt x="758" y="130"/>
                  </a:lnTo>
                  <a:lnTo>
                    <a:pt x="778" y="130"/>
                  </a:lnTo>
                  <a:close/>
                  <a:moveTo>
                    <a:pt x="739" y="83"/>
                  </a:moveTo>
                  <a:lnTo>
                    <a:pt x="688" y="83"/>
                  </a:lnTo>
                  <a:lnTo>
                    <a:pt x="713" y="20"/>
                  </a:lnTo>
                  <a:lnTo>
                    <a:pt x="739" y="83"/>
                  </a:lnTo>
                  <a:close/>
                  <a:moveTo>
                    <a:pt x="870" y="130"/>
                  </a:moveTo>
                  <a:lnTo>
                    <a:pt x="870" y="114"/>
                  </a:lnTo>
                  <a:lnTo>
                    <a:pt x="817" y="114"/>
                  </a:lnTo>
                  <a:lnTo>
                    <a:pt x="817" y="2"/>
                  </a:lnTo>
                  <a:lnTo>
                    <a:pt x="799" y="2"/>
                  </a:lnTo>
                  <a:lnTo>
                    <a:pt x="799" y="130"/>
                  </a:lnTo>
                  <a:lnTo>
                    <a:pt x="870" y="130"/>
                  </a:lnTo>
                  <a:close/>
                  <a:moveTo>
                    <a:pt x="976" y="18"/>
                  </a:moveTo>
                  <a:lnTo>
                    <a:pt x="976" y="2"/>
                  </a:lnTo>
                  <a:lnTo>
                    <a:pt x="879" y="2"/>
                  </a:lnTo>
                  <a:lnTo>
                    <a:pt x="879" y="18"/>
                  </a:lnTo>
                  <a:lnTo>
                    <a:pt x="918" y="18"/>
                  </a:lnTo>
                  <a:lnTo>
                    <a:pt x="918" y="130"/>
                  </a:lnTo>
                  <a:lnTo>
                    <a:pt x="937" y="130"/>
                  </a:lnTo>
                  <a:lnTo>
                    <a:pt x="937" y="18"/>
                  </a:lnTo>
                  <a:lnTo>
                    <a:pt x="976" y="18"/>
                  </a:lnTo>
                  <a:close/>
                  <a:moveTo>
                    <a:pt x="1097" y="130"/>
                  </a:moveTo>
                  <a:lnTo>
                    <a:pt x="1097" y="2"/>
                  </a:lnTo>
                  <a:lnTo>
                    <a:pt x="1078" y="2"/>
                  </a:lnTo>
                  <a:lnTo>
                    <a:pt x="1078" y="55"/>
                  </a:lnTo>
                  <a:lnTo>
                    <a:pt x="1016" y="55"/>
                  </a:lnTo>
                  <a:lnTo>
                    <a:pt x="1016" y="2"/>
                  </a:lnTo>
                  <a:lnTo>
                    <a:pt x="998" y="2"/>
                  </a:lnTo>
                  <a:lnTo>
                    <a:pt x="998" y="130"/>
                  </a:lnTo>
                  <a:lnTo>
                    <a:pt x="1016" y="130"/>
                  </a:lnTo>
                  <a:lnTo>
                    <a:pt x="1016" y="71"/>
                  </a:lnTo>
                  <a:lnTo>
                    <a:pt x="1078" y="71"/>
                  </a:lnTo>
                  <a:lnTo>
                    <a:pt x="1078" y="130"/>
                  </a:lnTo>
                  <a:lnTo>
                    <a:pt x="1097" y="130"/>
                  </a:lnTo>
                  <a:close/>
                  <a:moveTo>
                    <a:pt x="1312" y="130"/>
                  </a:moveTo>
                  <a:lnTo>
                    <a:pt x="1256" y="2"/>
                  </a:lnTo>
                  <a:lnTo>
                    <a:pt x="1238" y="2"/>
                  </a:lnTo>
                  <a:lnTo>
                    <a:pt x="1183" y="130"/>
                  </a:lnTo>
                  <a:lnTo>
                    <a:pt x="1203" y="130"/>
                  </a:lnTo>
                  <a:lnTo>
                    <a:pt x="1216" y="98"/>
                  </a:lnTo>
                  <a:lnTo>
                    <a:pt x="1279" y="98"/>
                  </a:lnTo>
                  <a:lnTo>
                    <a:pt x="1292" y="130"/>
                  </a:lnTo>
                  <a:lnTo>
                    <a:pt x="1312" y="130"/>
                  </a:lnTo>
                  <a:close/>
                  <a:moveTo>
                    <a:pt x="1273" y="83"/>
                  </a:moveTo>
                  <a:lnTo>
                    <a:pt x="1222" y="83"/>
                  </a:lnTo>
                  <a:lnTo>
                    <a:pt x="1247" y="20"/>
                  </a:lnTo>
                  <a:lnTo>
                    <a:pt x="1273" y="83"/>
                  </a:lnTo>
                  <a:close/>
                  <a:moveTo>
                    <a:pt x="1432" y="130"/>
                  </a:moveTo>
                  <a:lnTo>
                    <a:pt x="1432" y="2"/>
                  </a:lnTo>
                  <a:lnTo>
                    <a:pt x="1414" y="2"/>
                  </a:lnTo>
                  <a:lnTo>
                    <a:pt x="1414" y="105"/>
                  </a:lnTo>
                  <a:lnTo>
                    <a:pt x="1413" y="105"/>
                  </a:lnTo>
                  <a:lnTo>
                    <a:pt x="1357" y="2"/>
                  </a:lnTo>
                  <a:lnTo>
                    <a:pt x="1333" y="2"/>
                  </a:lnTo>
                  <a:lnTo>
                    <a:pt x="1333" y="130"/>
                  </a:lnTo>
                  <a:lnTo>
                    <a:pt x="1352" y="130"/>
                  </a:lnTo>
                  <a:lnTo>
                    <a:pt x="1352" y="28"/>
                  </a:lnTo>
                  <a:lnTo>
                    <a:pt x="1408" y="130"/>
                  </a:lnTo>
                  <a:lnTo>
                    <a:pt x="1432" y="130"/>
                  </a:lnTo>
                  <a:close/>
                  <a:moveTo>
                    <a:pt x="1573" y="67"/>
                  </a:moveTo>
                  <a:lnTo>
                    <a:pt x="1573" y="60"/>
                  </a:lnTo>
                  <a:lnTo>
                    <a:pt x="1572" y="54"/>
                  </a:lnTo>
                  <a:lnTo>
                    <a:pt x="1571" y="48"/>
                  </a:lnTo>
                  <a:lnTo>
                    <a:pt x="1569" y="42"/>
                  </a:lnTo>
                  <a:lnTo>
                    <a:pt x="1566" y="36"/>
                  </a:lnTo>
                  <a:lnTo>
                    <a:pt x="1564" y="31"/>
                  </a:lnTo>
                  <a:lnTo>
                    <a:pt x="1560" y="26"/>
                  </a:lnTo>
                  <a:lnTo>
                    <a:pt x="1556" y="21"/>
                  </a:lnTo>
                  <a:lnTo>
                    <a:pt x="1552" y="17"/>
                  </a:lnTo>
                  <a:lnTo>
                    <a:pt x="1547" y="13"/>
                  </a:lnTo>
                  <a:lnTo>
                    <a:pt x="1542" y="10"/>
                  </a:lnTo>
                  <a:lnTo>
                    <a:pt x="1536" y="7"/>
                  </a:lnTo>
                  <a:lnTo>
                    <a:pt x="1531" y="5"/>
                  </a:lnTo>
                  <a:lnTo>
                    <a:pt x="1524" y="3"/>
                  </a:lnTo>
                  <a:lnTo>
                    <a:pt x="1518" y="2"/>
                  </a:lnTo>
                  <a:lnTo>
                    <a:pt x="1511" y="2"/>
                  </a:lnTo>
                  <a:lnTo>
                    <a:pt x="1466" y="2"/>
                  </a:lnTo>
                  <a:lnTo>
                    <a:pt x="1466" y="130"/>
                  </a:lnTo>
                  <a:lnTo>
                    <a:pt x="1511" y="130"/>
                  </a:lnTo>
                  <a:lnTo>
                    <a:pt x="1518" y="130"/>
                  </a:lnTo>
                  <a:lnTo>
                    <a:pt x="1524" y="129"/>
                  </a:lnTo>
                  <a:lnTo>
                    <a:pt x="1531" y="128"/>
                  </a:lnTo>
                  <a:lnTo>
                    <a:pt x="1536" y="126"/>
                  </a:lnTo>
                  <a:lnTo>
                    <a:pt x="1542" y="123"/>
                  </a:lnTo>
                  <a:lnTo>
                    <a:pt x="1547" y="120"/>
                  </a:lnTo>
                  <a:lnTo>
                    <a:pt x="1552" y="116"/>
                  </a:lnTo>
                  <a:lnTo>
                    <a:pt x="1556" y="112"/>
                  </a:lnTo>
                  <a:lnTo>
                    <a:pt x="1560" y="107"/>
                  </a:lnTo>
                  <a:lnTo>
                    <a:pt x="1564" y="102"/>
                  </a:lnTo>
                  <a:lnTo>
                    <a:pt x="1566" y="97"/>
                  </a:lnTo>
                  <a:lnTo>
                    <a:pt x="1568" y="94"/>
                  </a:lnTo>
                  <a:lnTo>
                    <a:pt x="1569" y="91"/>
                  </a:lnTo>
                  <a:lnTo>
                    <a:pt x="1571" y="86"/>
                  </a:lnTo>
                  <a:lnTo>
                    <a:pt x="1572" y="80"/>
                  </a:lnTo>
                  <a:lnTo>
                    <a:pt x="1573" y="73"/>
                  </a:lnTo>
                  <a:lnTo>
                    <a:pt x="1573" y="67"/>
                  </a:lnTo>
                  <a:close/>
                  <a:moveTo>
                    <a:pt x="1554" y="67"/>
                  </a:moveTo>
                  <a:lnTo>
                    <a:pt x="1554" y="72"/>
                  </a:lnTo>
                  <a:lnTo>
                    <a:pt x="1554" y="76"/>
                  </a:lnTo>
                  <a:lnTo>
                    <a:pt x="1553" y="81"/>
                  </a:lnTo>
                  <a:lnTo>
                    <a:pt x="1551" y="85"/>
                  </a:lnTo>
                  <a:lnTo>
                    <a:pt x="1550" y="89"/>
                  </a:lnTo>
                  <a:lnTo>
                    <a:pt x="1548" y="93"/>
                  </a:lnTo>
                  <a:lnTo>
                    <a:pt x="1543" y="100"/>
                  </a:lnTo>
                  <a:lnTo>
                    <a:pt x="1539" y="103"/>
                  </a:lnTo>
                  <a:lnTo>
                    <a:pt x="1536" y="106"/>
                  </a:lnTo>
                  <a:lnTo>
                    <a:pt x="1532" y="109"/>
                  </a:lnTo>
                  <a:lnTo>
                    <a:pt x="1529" y="110"/>
                  </a:lnTo>
                  <a:lnTo>
                    <a:pt x="1525" y="112"/>
                  </a:lnTo>
                  <a:lnTo>
                    <a:pt x="1520" y="113"/>
                  </a:lnTo>
                  <a:lnTo>
                    <a:pt x="1511" y="114"/>
                  </a:lnTo>
                  <a:lnTo>
                    <a:pt x="1485" y="114"/>
                  </a:lnTo>
                  <a:lnTo>
                    <a:pt x="1485" y="18"/>
                  </a:lnTo>
                  <a:lnTo>
                    <a:pt x="1511" y="18"/>
                  </a:lnTo>
                  <a:lnTo>
                    <a:pt x="1516" y="19"/>
                  </a:lnTo>
                  <a:lnTo>
                    <a:pt x="1520" y="19"/>
                  </a:lnTo>
                  <a:lnTo>
                    <a:pt x="1525" y="21"/>
                  </a:lnTo>
                  <a:lnTo>
                    <a:pt x="1529" y="22"/>
                  </a:lnTo>
                  <a:lnTo>
                    <a:pt x="1532" y="24"/>
                  </a:lnTo>
                  <a:lnTo>
                    <a:pt x="1536" y="27"/>
                  </a:lnTo>
                  <a:lnTo>
                    <a:pt x="1539" y="30"/>
                  </a:lnTo>
                  <a:lnTo>
                    <a:pt x="1543" y="33"/>
                  </a:lnTo>
                  <a:lnTo>
                    <a:pt x="1545" y="37"/>
                  </a:lnTo>
                  <a:lnTo>
                    <a:pt x="1548" y="41"/>
                  </a:lnTo>
                  <a:lnTo>
                    <a:pt x="1550" y="44"/>
                  </a:lnTo>
                  <a:lnTo>
                    <a:pt x="1551" y="49"/>
                  </a:lnTo>
                  <a:lnTo>
                    <a:pt x="1553" y="53"/>
                  </a:lnTo>
                  <a:lnTo>
                    <a:pt x="1554" y="57"/>
                  </a:lnTo>
                  <a:lnTo>
                    <a:pt x="1554" y="62"/>
                  </a:lnTo>
                  <a:lnTo>
                    <a:pt x="1554" y="67"/>
                  </a:lnTo>
                  <a:close/>
                  <a:moveTo>
                    <a:pt x="1835" y="2"/>
                  </a:moveTo>
                  <a:lnTo>
                    <a:pt x="1816" y="2"/>
                  </a:lnTo>
                  <a:lnTo>
                    <a:pt x="1784" y="108"/>
                  </a:lnTo>
                  <a:lnTo>
                    <a:pt x="1783" y="108"/>
                  </a:lnTo>
                  <a:lnTo>
                    <a:pt x="1756" y="2"/>
                  </a:lnTo>
                  <a:lnTo>
                    <a:pt x="1730" y="2"/>
                  </a:lnTo>
                  <a:lnTo>
                    <a:pt x="1703" y="108"/>
                  </a:lnTo>
                  <a:lnTo>
                    <a:pt x="1701" y="108"/>
                  </a:lnTo>
                  <a:lnTo>
                    <a:pt x="1670" y="2"/>
                  </a:lnTo>
                  <a:lnTo>
                    <a:pt x="1650" y="2"/>
                  </a:lnTo>
                  <a:lnTo>
                    <a:pt x="1690" y="130"/>
                  </a:lnTo>
                  <a:lnTo>
                    <a:pt x="1714" y="130"/>
                  </a:lnTo>
                  <a:lnTo>
                    <a:pt x="1743" y="19"/>
                  </a:lnTo>
                  <a:lnTo>
                    <a:pt x="1744" y="19"/>
                  </a:lnTo>
                  <a:lnTo>
                    <a:pt x="1772" y="130"/>
                  </a:lnTo>
                  <a:lnTo>
                    <a:pt x="1795" y="130"/>
                  </a:lnTo>
                  <a:lnTo>
                    <a:pt x="1835" y="2"/>
                  </a:lnTo>
                  <a:close/>
                  <a:moveTo>
                    <a:pt x="1929" y="18"/>
                  </a:moveTo>
                  <a:lnTo>
                    <a:pt x="1929" y="2"/>
                  </a:lnTo>
                  <a:lnTo>
                    <a:pt x="1856" y="2"/>
                  </a:lnTo>
                  <a:lnTo>
                    <a:pt x="1856" y="130"/>
                  </a:lnTo>
                  <a:lnTo>
                    <a:pt x="1928" y="130"/>
                  </a:lnTo>
                  <a:lnTo>
                    <a:pt x="1928" y="114"/>
                  </a:lnTo>
                  <a:lnTo>
                    <a:pt x="1875" y="114"/>
                  </a:lnTo>
                  <a:lnTo>
                    <a:pt x="1875" y="72"/>
                  </a:lnTo>
                  <a:lnTo>
                    <a:pt x="1924" y="72"/>
                  </a:lnTo>
                  <a:lnTo>
                    <a:pt x="1924" y="55"/>
                  </a:lnTo>
                  <a:lnTo>
                    <a:pt x="1875" y="55"/>
                  </a:lnTo>
                  <a:lnTo>
                    <a:pt x="1875" y="18"/>
                  </a:lnTo>
                  <a:lnTo>
                    <a:pt x="1929" y="18"/>
                  </a:lnTo>
                  <a:close/>
                  <a:moveTo>
                    <a:pt x="2031" y="130"/>
                  </a:moveTo>
                  <a:lnTo>
                    <a:pt x="2031" y="114"/>
                  </a:lnTo>
                  <a:lnTo>
                    <a:pt x="1978" y="114"/>
                  </a:lnTo>
                  <a:lnTo>
                    <a:pt x="1978" y="2"/>
                  </a:lnTo>
                  <a:lnTo>
                    <a:pt x="1960" y="2"/>
                  </a:lnTo>
                  <a:lnTo>
                    <a:pt x="1960" y="130"/>
                  </a:lnTo>
                  <a:lnTo>
                    <a:pt x="2031" y="130"/>
                  </a:lnTo>
                  <a:close/>
                  <a:moveTo>
                    <a:pt x="2127" y="18"/>
                  </a:moveTo>
                  <a:lnTo>
                    <a:pt x="2127" y="2"/>
                  </a:lnTo>
                  <a:lnTo>
                    <a:pt x="2055" y="2"/>
                  </a:lnTo>
                  <a:lnTo>
                    <a:pt x="2055" y="130"/>
                  </a:lnTo>
                  <a:lnTo>
                    <a:pt x="2073" y="130"/>
                  </a:lnTo>
                  <a:lnTo>
                    <a:pt x="2073" y="72"/>
                  </a:lnTo>
                  <a:lnTo>
                    <a:pt x="2122" y="72"/>
                  </a:lnTo>
                  <a:lnTo>
                    <a:pt x="2122" y="55"/>
                  </a:lnTo>
                  <a:lnTo>
                    <a:pt x="2073" y="55"/>
                  </a:lnTo>
                  <a:lnTo>
                    <a:pt x="2073" y="18"/>
                  </a:lnTo>
                  <a:lnTo>
                    <a:pt x="2127" y="18"/>
                  </a:lnTo>
                  <a:close/>
                  <a:moveTo>
                    <a:pt x="2262" y="130"/>
                  </a:moveTo>
                  <a:lnTo>
                    <a:pt x="2206" y="2"/>
                  </a:lnTo>
                  <a:lnTo>
                    <a:pt x="2188" y="2"/>
                  </a:lnTo>
                  <a:lnTo>
                    <a:pt x="2132" y="130"/>
                  </a:lnTo>
                  <a:lnTo>
                    <a:pt x="2152" y="130"/>
                  </a:lnTo>
                  <a:lnTo>
                    <a:pt x="2165" y="98"/>
                  </a:lnTo>
                  <a:lnTo>
                    <a:pt x="2228" y="98"/>
                  </a:lnTo>
                  <a:lnTo>
                    <a:pt x="2242" y="130"/>
                  </a:lnTo>
                  <a:lnTo>
                    <a:pt x="2262" y="130"/>
                  </a:lnTo>
                  <a:close/>
                  <a:moveTo>
                    <a:pt x="2222" y="83"/>
                  </a:moveTo>
                  <a:lnTo>
                    <a:pt x="2171" y="83"/>
                  </a:lnTo>
                  <a:lnTo>
                    <a:pt x="2197" y="20"/>
                  </a:lnTo>
                  <a:lnTo>
                    <a:pt x="2222" y="83"/>
                  </a:lnTo>
                  <a:close/>
                  <a:moveTo>
                    <a:pt x="2377" y="130"/>
                  </a:moveTo>
                  <a:lnTo>
                    <a:pt x="2377" y="114"/>
                  </a:lnTo>
                  <a:lnTo>
                    <a:pt x="2373" y="114"/>
                  </a:lnTo>
                  <a:lnTo>
                    <a:pt x="2371" y="114"/>
                  </a:lnTo>
                  <a:lnTo>
                    <a:pt x="2369" y="113"/>
                  </a:lnTo>
                  <a:lnTo>
                    <a:pt x="2368" y="112"/>
                  </a:lnTo>
                  <a:lnTo>
                    <a:pt x="2366" y="110"/>
                  </a:lnTo>
                  <a:lnTo>
                    <a:pt x="2362" y="104"/>
                  </a:lnTo>
                  <a:lnTo>
                    <a:pt x="2358" y="97"/>
                  </a:lnTo>
                  <a:lnTo>
                    <a:pt x="2353" y="87"/>
                  </a:lnTo>
                  <a:lnTo>
                    <a:pt x="2349" y="78"/>
                  </a:lnTo>
                  <a:lnTo>
                    <a:pt x="2344" y="72"/>
                  </a:lnTo>
                  <a:lnTo>
                    <a:pt x="2341" y="67"/>
                  </a:lnTo>
                  <a:lnTo>
                    <a:pt x="2347" y="64"/>
                  </a:lnTo>
                  <a:lnTo>
                    <a:pt x="2352" y="61"/>
                  </a:lnTo>
                  <a:lnTo>
                    <a:pt x="2356" y="58"/>
                  </a:lnTo>
                  <a:lnTo>
                    <a:pt x="2360" y="54"/>
                  </a:lnTo>
                  <a:lnTo>
                    <a:pt x="2362" y="50"/>
                  </a:lnTo>
                  <a:lnTo>
                    <a:pt x="2364" y="45"/>
                  </a:lnTo>
                  <a:lnTo>
                    <a:pt x="2366" y="40"/>
                  </a:lnTo>
                  <a:lnTo>
                    <a:pt x="2366" y="35"/>
                  </a:lnTo>
                  <a:lnTo>
                    <a:pt x="2366" y="32"/>
                  </a:lnTo>
                  <a:lnTo>
                    <a:pt x="2365" y="28"/>
                  </a:lnTo>
                  <a:lnTo>
                    <a:pt x="2363" y="22"/>
                  </a:lnTo>
                  <a:lnTo>
                    <a:pt x="2362" y="19"/>
                  </a:lnTo>
                  <a:lnTo>
                    <a:pt x="2360" y="16"/>
                  </a:lnTo>
                  <a:lnTo>
                    <a:pt x="2357" y="13"/>
                  </a:lnTo>
                  <a:lnTo>
                    <a:pt x="2355" y="11"/>
                  </a:lnTo>
                  <a:lnTo>
                    <a:pt x="2349" y="7"/>
                  </a:lnTo>
                  <a:lnTo>
                    <a:pt x="2346" y="6"/>
                  </a:lnTo>
                  <a:lnTo>
                    <a:pt x="2342" y="4"/>
                  </a:lnTo>
                  <a:lnTo>
                    <a:pt x="2335" y="3"/>
                  </a:lnTo>
                  <a:lnTo>
                    <a:pt x="2327" y="2"/>
                  </a:lnTo>
                  <a:lnTo>
                    <a:pt x="2284" y="2"/>
                  </a:lnTo>
                  <a:lnTo>
                    <a:pt x="2284" y="130"/>
                  </a:lnTo>
                  <a:lnTo>
                    <a:pt x="2303" y="130"/>
                  </a:lnTo>
                  <a:lnTo>
                    <a:pt x="2303" y="74"/>
                  </a:lnTo>
                  <a:lnTo>
                    <a:pt x="2317" y="74"/>
                  </a:lnTo>
                  <a:lnTo>
                    <a:pt x="2319" y="74"/>
                  </a:lnTo>
                  <a:lnTo>
                    <a:pt x="2322" y="75"/>
                  </a:lnTo>
                  <a:lnTo>
                    <a:pt x="2324" y="76"/>
                  </a:lnTo>
                  <a:lnTo>
                    <a:pt x="2326" y="77"/>
                  </a:lnTo>
                  <a:lnTo>
                    <a:pt x="2330" y="82"/>
                  </a:lnTo>
                  <a:lnTo>
                    <a:pt x="2334" y="88"/>
                  </a:lnTo>
                  <a:lnTo>
                    <a:pt x="2347" y="116"/>
                  </a:lnTo>
                  <a:lnTo>
                    <a:pt x="2350" y="119"/>
                  </a:lnTo>
                  <a:lnTo>
                    <a:pt x="2353" y="122"/>
                  </a:lnTo>
                  <a:lnTo>
                    <a:pt x="2356" y="125"/>
                  </a:lnTo>
                  <a:lnTo>
                    <a:pt x="2359" y="127"/>
                  </a:lnTo>
                  <a:lnTo>
                    <a:pt x="2362" y="128"/>
                  </a:lnTo>
                  <a:lnTo>
                    <a:pt x="2365" y="129"/>
                  </a:lnTo>
                  <a:lnTo>
                    <a:pt x="2369" y="130"/>
                  </a:lnTo>
                  <a:lnTo>
                    <a:pt x="2373" y="130"/>
                  </a:lnTo>
                  <a:lnTo>
                    <a:pt x="2377" y="130"/>
                  </a:lnTo>
                  <a:close/>
                  <a:moveTo>
                    <a:pt x="2346" y="35"/>
                  </a:moveTo>
                  <a:lnTo>
                    <a:pt x="2346" y="40"/>
                  </a:lnTo>
                  <a:lnTo>
                    <a:pt x="2345" y="44"/>
                  </a:lnTo>
                  <a:lnTo>
                    <a:pt x="2342" y="47"/>
                  </a:lnTo>
                  <a:lnTo>
                    <a:pt x="2339" y="51"/>
                  </a:lnTo>
                  <a:lnTo>
                    <a:pt x="2336" y="54"/>
                  </a:lnTo>
                  <a:lnTo>
                    <a:pt x="2332" y="56"/>
                  </a:lnTo>
                  <a:lnTo>
                    <a:pt x="2328" y="57"/>
                  </a:lnTo>
                  <a:lnTo>
                    <a:pt x="2323" y="57"/>
                  </a:lnTo>
                  <a:lnTo>
                    <a:pt x="2303" y="57"/>
                  </a:lnTo>
                  <a:lnTo>
                    <a:pt x="2303" y="18"/>
                  </a:lnTo>
                  <a:lnTo>
                    <a:pt x="2323" y="18"/>
                  </a:lnTo>
                  <a:lnTo>
                    <a:pt x="2328" y="18"/>
                  </a:lnTo>
                  <a:lnTo>
                    <a:pt x="2332" y="19"/>
                  </a:lnTo>
                  <a:lnTo>
                    <a:pt x="2336" y="21"/>
                  </a:lnTo>
                  <a:lnTo>
                    <a:pt x="2339" y="23"/>
                  </a:lnTo>
                  <a:lnTo>
                    <a:pt x="2342" y="25"/>
                  </a:lnTo>
                  <a:lnTo>
                    <a:pt x="2344" y="28"/>
                  </a:lnTo>
                  <a:lnTo>
                    <a:pt x="2346" y="32"/>
                  </a:lnTo>
                  <a:lnTo>
                    <a:pt x="2346" y="35"/>
                  </a:lnTo>
                  <a:close/>
                  <a:moveTo>
                    <a:pt x="2476" y="18"/>
                  </a:moveTo>
                  <a:lnTo>
                    <a:pt x="2476" y="2"/>
                  </a:lnTo>
                  <a:lnTo>
                    <a:pt x="2404" y="2"/>
                  </a:lnTo>
                  <a:lnTo>
                    <a:pt x="2404" y="130"/>
                  </a:lnTo>
                  <a:lnTo>
                    <a:pt x="2476" y="130"/>
                  </a:lnTo>
                  <a:lnTo>
                    <a:pt x="2476" y="114"/>
                  </a:lnTo>
                  <a:lnTo>
                    <a:pt x="2422" y="114"/>
                  </a:lnTo>
                  <a:lnTo>
                    <a:pt x="2422" y="72"/>
                  </a:lnTo>
                  <a:lnTo>
                    <a:pt x="2471" y="72"/>
                  </a:lnTo>
                  <a:lnTo>
                    <a:pt x="2471" y="55"/>
                  </a:lnTo>
                  <a:lnTo>
                    <a:pt x="2422" y="55"/>
                  </a:lnTo>
                  <a:lnTo>
                    <a:pt x="2422" y="18"/>
                  </a:lnTo>
                  <a:lnTo>
                    <a:pt x="2476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4"/>
            <p:cNvSpPr/>
            <p:nvPr/>
          </p:nvSpPr>
          <p:spPr>
            <a:xfrm>
              <a:off x="1241280" y="3645000"/>
              <a:ext cx="2820960" cy="198360"/>
            </a:xfrm>
            <a:custGeom>
              <a:avLst/>
              <a:gdLst>
                <a:gd name="textAreaLeft" fmla="*/ 0 w 2820960"/>
                <a:gd name="textAreaRight" fmla="*/ 2821320 w 2820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885" h="133">
                  <a:moveTo>
                    <a:pt x="100" y="131"/>
                  </a:moveTo>
                  <a:lnTo>
                    <a:pt x="100" y="2"/>
                  </a:lnTo>
                  <a:lnTo>
                    <a:pt x="81" y="2"/>
                  </a:lnTo>
                  <a:lnTo>
                    <a:pt x="81" y="105"/>
                  </a:lnTo>
                  <a:lnTo>
                    <a:pt x="80" y="105"/>
                  </a:lnTo>
                  <a:lnTo>
                    <a:pt x="24" y="2"/>
                  </a:lnTo>
                  <a:lnTo>
                    <a:pt x="0" y="2"/>
                  </a:lnTo>
                  <a:lnTo>
                    <a:pt x="0" y="131"/>
                  </a:lnTo>
                  <a:lnTo>
                    <a:pt x="19" y="131"/>
                  </a:lnTo>
                  <a:lnTo>
                    <a:pt x="19" y="28"/>
                  </a:lnTo>
                  <a:lnTo>
                    <a:pt x="76" y="131"/>
                  </a:lnTo>
                  <a:lnTo>
                    <a:pt x="100" y="131"/>
                  </a:lnTo>
                  <a:close/>
                  <a:moveTo>
                    <a:pt x="250" y="131"/>
                  </a:moveTo>
                  <a:lnTo>
                    <a:pt x="194" y="2"/>
                  </a:lnTo>
                  <a:lnTo>
                    <a:pt x="176" y="2"/>
                  </a:lnTo>
                  <a:lnTo>
                    <a:pt x="120" y="131"/>
                  </a:lnTo>
                  <a:lnTo>
                    <a:pt x="140" y="131"/>
                  </a:lnTo>
                  <a:lnTo>
                    <a:pt x="153" y="98"/>
                  </a:lnTo>
                  <a:lnTo>
                    <a:pt x="216" y="98"/>
                  </a:lnTo>
                  <a:lnTo>
                    <a:pt x="230" y="131"/>
                  </a:lnTo>
                  <a:lnTo>
                    <a:pt x="250" y="131"/>
                  </a:lnTo>
                  <a:close/>
                  <a:moveTo>
                    <a:pt x="210" y="83"/>
                  </a:moveTo>
                  <a:lnTo>
                    <a:pt x="160" y="83"/>
                  </a:lnTo>
                  <a:lnTo>
                    <a:pt x="185" y="20"/>
                  </a:lnTo>
                  <a:lnTo>
                    <a:pt x="210" y="83"/>
                  </a:lnTo>
                  <a:close/>
                  <a:moveTo>
                    <a:pt x="342" y="18"/>
                  </a:moveTo>
                  <a:lnTo>
                    <a:pt x="342" y="2"/>
                  </a:lnTo>
                  <a:lnTo>
                    <a:pt x="245" y="2"/>
                  </a:lnTo>
                  <a:lnTo>
                    <a:pt x="245" y="18"/>
                  </a:lnTo>
                  <a:lnTo>
                    <a:pt x="284" y="18"/>
                  </a:lnTo>
                  <a:lnTo>
                    <a:pt x="284" y="131"/>
                  </a:lnTo>
                  <a:lnTo>
                    <a:pt x="303" y="131"/>
                  </a:lnTo>
                  <a:lnTo>
                    <a:pt x="303" y="18"/>
                  </a:lnTo>
                  <a:lnTo>
                    <a:pt x="342" y="18"/>
                  </a:lnTo>
                  <a:close/>
                  <a:moveTo>
                    <a:pt x="386" y="131"/>
                  </a:moveTo>
                  <a:lnTo>
                    <a:pt x="386" y="2"/>
                  </a:lnTo>
                  <a:lnTo>
                    <a:pt x="368" y="2"/>
                  </a:lnTo>
                  <a:lnTo>
                    <a:pt x="368" y="131"/>
                  </a:lnTo>
                  <a:lnTo>
                    <a:pt x="386" y="131"/>
                  </a:lnTo>
                  <a:close/>
                  <a:moveTo>
                    <a:pt x="538" y="67"/>
                  </a:moveTo>
                  <a:lnTo>
                    <a:pt x="537" y="60"/>
                  </a:lnTo>
                  <a:lnTo>
                    <a:pt x="537" y="53"/>
                  </a:lnTo>
                  <a:lnTo>
                    <a:pt x="535" y="46"/>
                  </a:lnTo>
                  <a:lnTo>
                    <a:pt x="534" y="40"/>
                  </a:lnTo>
                  <a:lnTo>
                    <a:pt x="531" y="35"/>
                  </a:lnTo>
                  <a:lnTo>
                    <a:pt x="529" y="29"/>
                  </a:lnTo>
                  <a:lnTo>
                    <a:pt x="526" y="24"/>
                  </a:lnTo>
                  <a:lnTo>
                    <a:pt x="522" y="19"/>
                  </a:lnTo>
                  <a:lnTo>
                    <a:pt x="518" y="15"/>
                  </a:lnTo>
                  <a:lnTo>
                    <a:pt x="513" y="11"/>
                  </a:lnTo>
                  <a:lnTo>
                    <a:pt x="508" y="8"/>
                  </a:lnTo>
                  <a:lnTo>
                    <a:pt x="502" y="5"/>
                  </a:lnTo>
                  <a:lnTo>
                    <a:pt x="496" y="3"/>
                  </a:lnTo>
                  <a:lnTo>
                    <a:pt x="490" y="1"/>
                  </a:lnTo>
                  <a:lnTo>
                    <a:pt x="483" y="0"/>
                  </a:lnTo>
                  <a:lnTo>
                    <a:pt x="476" y="0"/>
                  </a:lnTo>
                  <a:lnTo>
                    <a:pt x="469" y="0"/>
                  </a:lnTo>
                  <a:lnTo>
                    <a:pt x="462" y="1"/>
                  </a:lnTo>
                  <a:lnTo>
                    <a:pt x="456" y="3"/>
                  </a:lnTo>
                  <a:lnTo>
                    <a:pt x="450" y="5"/>
                  </a:lnTo>
                  <a:lnTo>
                    <a:pt x="444" y="8"/>
                  </a:lnTo>
                  <a:lnTo>
                    <a:pt x="439" y="11"/>
                  </a:lnTo>
                  <a:lnTo>
                    <a:pt x="435" y="15"/>
                  </a:lnTo>
                  <a:lnTo>
                    <a:pt x="430" y="19"/>
                  </a:lnTo>
                  <a:lnTo>
                    <a:pt x="427" y="24"/>
                  </a:lnTo>
                  <a:lnTo>
                    <a:pt x="423" y="29"/>
                  </a:lnTo>
                  <a:lnTo>
                    <a:pt x="421" y="35"/>
                  </a:lnTo>
                  <a:lnTo>
                    <a:pt x="419" y="40"/>
                  </a:lnTo>
                  <a:lnTo>
                    <a:pt x="417" y="46"/>
                  </a:lnTo>
                  <a:lnTo>
                    <a:pt x="416" y="53"/>
                  </a:lnTo>
                  <a:lnTo>
                    <a:pt x="415" y="60"/>
                  </a:lnTo>
                  <a:lnTo>
                    <a:pt x="415" y="67"/>
                  </a:lnTo>
                  <a:lnTo>
                    <a:pt x="415" y="74"/>
                  </a:lnTo>
                  <a:lnTo>
                    <a:pt x="416" y="80"/>
                  </a:lnTo>
                  <a:lnTo>
                    <a:pt x="417" y="87"/>
                  </a:lnTo>
                  <a:lnTo>
                    <a:pt x="419" y="93"/>
                  </a:lnTo>
                  <a:lnTo>
                    <a:pt x="421" y="99"/>
                  </a:lnTo>
                  <a:lnTo>
                    <a:pt x="423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5" y="118"/>
                  </a:lnTo>
                  <a:lnTo>
                    <a:pt x="439" y="122"/>
                  </a:lnTo>
                  <a:lnTo>
                    <a:pt x="444" y="126"/>
                  </a:lnTo>
                  <a:lnTo>
                    <a:pt x="450" y="128"/>
                  </a:lnTo>
                  <a:lnTo>
                    <a:pt x="456" y="130"/>
                  </a:lnTo>
                  <a:lnTo>
                    <a:pt x="462" y="132"/>
                  </a:lnTo>
                  <a:lnTo>
                    <a:pt x="469" y="133"/>
                  </a:lnTo>
                  <a:lnTo>
                    <a:pt x="476" y="133"/>
                  </a:lnTo>
                  <a:lnTo>
                    <a:pt x="483" y="133"/>
                  </a:lnTo>
                  <a:lnTo>
                    <a:pt x="490" y="132"/>
                  </a:lnTo>
                  <a:lnTo>
                    <a:pt x="496" y="130"/>
                  </a:lnTo>
                  <a:lnTo>
                    <a:pt x="502" y="128"/>
                  </a:lnTo>
                  <a:lnTo>
                    <a:pt x="508" y="126"/>
                  </a:lnTo>
                  <a:lnTo>
                    <a:pt x="513" y="122"/>
                  </a:lnTo>
                  <a:lnTo>
                    <a:pt x="518" y="118"/>
                  </a:lnTo>
                  <a:lnTo>
                    <a:pt x="522" y="114"/>
                  </a:lnTo>
                  <a:lnTo>
                    <a:pt x="526" y="109"/>
                  </a:lnTo>
                  <a:lnTo>
                    <a:pt x="529" y="104"/>
                  </a:lnTo>
                  <a:lnTo>
                    <a:pt x="531" y="98"/>
                  </a:lnTo>
                  <a:lnTo>
                    <a:pt x="534" y="93"/>
                  </a:lnTo>
                  <a:lnTo>
                    <a:pt x="535" y="87"/>
                  </a:lnTo>
                  <a:lnTo>
                    <a:pt x="537" y="80"/>
                  </a:lnTo>
                  <a:lnTo>
                    <a:pt x="537" y="74"/>
                  </a:lnTo>
                  <a:lnTo>
                    <a:pt x="538" y="67"/>
                  </a:lnTo>
                  <a:close/>
                  <a:moveTo>
                    <a:pt x="518" y="67"/>
                  </a:moveTo>
                  <a:lnTo>
                    <a:pt x="518" y="72"/>
                  </a:lnTo>
                  <a:lnTo>
                    <a:pt x="518" y="77"/>
                  </a:lnTo>
                  <a:lnTo>
                    <a:pt x="516" y="86"/>
                  </a:lnTo>
                  <a:lnTo>
                    <a:pt x="514" y="91"/>
                  </a:lnTo>
                  <a:lnTo>
                    <a:pt x="512" y="95"/>
                  </a:lnTo>
                  <a:lnTo>
                    <a:pt x="507" y="102"/>
                  </a:lnTo>
                  <a:lnTo>
                    <a:pt x="504" y="106"/>
                  </a:lnTo>
                  <a:lnTo>
                    <a:pt x="501" y="109"/>
                  </a:lnTo>
                  <a:lnTo>
                    <a:pt x="497" y="111"/>
                  </a:lnTo>
                  <a:lnTo>
                    <a:pt x="494" y="113"/>
                  </a:lnTo>
                  <a:lnTo>
                    <a:pt x="490" y="115"/>
                  </a:lnTo>
                  <a:lnTo>
                    <a:pt x="485" y="116"/>
                  </a:lnTo>
                  <a:lnTo>
                    <a:pt x="481" y="116"/>
                  </a:lnTo>
                  <a:lnTo>
                    <a:pt x="476" y="117"/>
                  </a:lnTo>
                  <a:lnTo>
                    <a:pt x="471" y="116"/>
                  </a:lnTo>
                  <a:lnTo>
                    <a:pt x="467" y="116"/>
                  </a:lnTo>
                  <a:lnTo>
                    <a:pt x="462" y="115"/>
                  </a:lnTo>
                  <a:lnTo>
                    <a:pt x="458" y="113"/>
                  </a:lnTo>
                  <a:lnTo>
                    <a:pt x="455" y="111"/>
                  </a:lnTo>
                  <a:lnTo>
                    <a:pt x="451" y="109"/>
                  </a:lnTo>
                  <a:lnTo>
                    <a:pt x="448" y="106"/>
                  </a:lnTo>
                  <a:lnTo>
                    <a:pt x="445" y="102"/>
                  </a:lnTo>
                  <a:lnTo>
                    <a:pt x="442" y="99"/>
                  </a:lnTo>
                  <a:lnTo>
                    <a:pt x="440" y="95"/>
                  </a:lnTo>
                  <a:lnTo>
                    <a:pt x="438" y="91"/>
                  </a:lnTo>
                  <a:lnTo>
                    <a:pt x="436" y="86"/>
                  </a:lnTo>
                  <a:lnTo>
                    <a:pt x="435" y="82"/>
                  </a:lnTo>
                  <a:lnTo>
                    <a:pt x="434" y="77"/>
                  </a:lnTo>
                  <a:lnTo>
                    <a:pt x="434" y="72"/>
                  </a:lnTo>
                  <a:lnTo>
                    <a:pt x="434" y="67"/>
                  </a:lnTo>
                  <a:lnTo>
                    <a:pt x="434" y="61"/>
                  </a:lnTo>
                  <a:lnTo>
                    <a:pt x="434" y="56"/>
                  </a:lnTo>
                  <a:lnTo>
                    <a:pt x="436" y="47"/>
                  </a:lnTo>
                  <a:lnTo>
                    <a:pt x="438" y="43"/>
                  </a:lnTo>
                  <a:lnTo>
                    <a:pt x="440" y="38"/>
                  </a:lnTo>
                  <a:lnTo>
                    <a:pt x="445" y="31"/>
                  </a:lnTo>
                  <a:lnTo>
                    <a:pt x="448" y="28"/>
                  </a:lnTo>
                  <a:lnTo>
                    <a:pt x="451" y="25"/>
                  </a:lnTo>
                  <a:lnTo>
                    <a:pt x="455" y="22"/>
                  </a:lnTo>
                  <a:lnTo>
                    <a:pt x="459" y="20"/>
                  </a:lnTo>
                  <a:lnTo>
                    <a:pt x="463" y="18"/>
                  </a:lnTo>
                  <a:lnTo>
                    <a:pt x="467" y="17"/>
                  </a:lnTo>
                  <a:lnTo>
                    <a:pt x="471" y="17"/>
                  </a:lnTo>
                  <a:lnTo>
                    <a:pt x="476" y="16"/>
                  </a:lnTo>
                  <a:lnTo>
                    <a:pt x="481" y="17"/>
                  </a:lnTo>
                  <a:lnTo>
                    <a:pt x="485" y="17"/>
                  </a:lnTo>
                  <a:lnTo>
                    <a:pt x="490" y="18"/>
                  </a:lnTo>
                  <a:lnTo>
                    <a:pt x="494" y="20"/>
                  </a:lnTo>
                  <a:lnTo>
                    <a:pt x="497" y="22"/>
                  </a:lnTo>
                  <a:lnTo>
                    <a:pt x="501" y="25"/>
                  </a:lnTo>
                  <a:lnTo>
                    <a:pt x="504" y="28"/>
                  </a:lnTo>
                  <a:lnTo>
                    <a:pt x="507" y="31"/>
                  </a:lnTo>
                  <a:lnTo>
                    <a:pt x="510" y="35"/>
                  </a:lnTo>
                  <a:lnTo>
                    <a:pt x="512" y="38"/>
                  </a:lnTo>
                  <a:lnTo>
                    <a:pt x="514" y="43"/>
                  </a:lnTo>
                  <a:lnTo>
                    <a:pt x="516" y="47"/>
                  </a:lnTo>
                  <a:lnTo>
                    <a:pt x="517" y="51"/>
                  </a:lnTo>
                  <a:lnTo>
                    <a:pt x="518" y="56"/>
                  </a:lnTo>
                  <a:lnTo>
                    <a:pt x="518" y="61"/>
                  </a:lnTo>
                  <a:lnTo>
                    <a:pt x="518" y="67"/>
                  </a:lnTo>
                  <a:close/>
                  <a:moveTo>
                    <a:pt x="666" y="131"/>
                  </a:moveTo>
                  <a:lnTo>
                    <a:pt x="666" y="2"/>
                  </a:lnTo>
                  <a:lnTo>
                    <a:pt x="647" y="2"/>
                  </a:lnTo>
                  <a:lnTo>
                    <a:pt x="647" y="105"/>
                  </a:lnTo>
                  <a:lnTo>
                    <a:pt x="646" y="105"/>
                  </a:lnTo>
                  <a:lnTo>
                    <a:pt x="591" y="2"/>
                  </a:lnTo>
                  <a:lnTo>
                    <a:pt x="566" y="2"/>
                  </a:lnTo>
                  <a:lnTo>
                    <a:pt x="566" y="131"/>
                  </a:lnTo>
                  <a:lnTo>
                    <a:pt x="585" y="131"/>
                  </a:lnTo>
                  <a:lnTo>
                    <a:pt x="585" y="28"/>
                  </a:lnTo>
                  <a:lnTo>
                    <a:pt x="586" y="28"/>
                  </a:lnTo>
                  <a:lnTo>
                    <a:pt x="642" y="131"/>
                  </a:lnTo>
                  <a:lnTo>
                    <a:pt x="666" y="131"/>
                  </a:lnTo>
                  <a:close/>
                  <a:moveTo>
                    <a:pt x="817" y="131"/>
                  </a:moveTo>
                  <a:lnTo>
                    <a:pt x="761" y="2"/>
                  </a:lnTo>
                  <a:lnTo>
                    <a:pt x="743" y="2"/>
                  </a:lnTo>
                  <a:lnTo>
                    <a:pt x="686" y="131"/>
                  </a:lnTo>
                  <a:lnTo>
                    <a:pt x="706" y="131"/>
                  </a:lnTo>
                  <a:lnTo>
                    <a:pt x="720" y="98"/>
                  </a:lnTo>
                  <a:lnTo>
                    <a:pt x="783" y="98"/>
                  </a:lnTo>
                  <a:lnTo>
                    <a:pt x="797" y="131"/>
                  </a:lnTo>
                  <a:lnTo>
                    <a:pt x="817" y="131"/>
                  </a:lnTo>
                  <a:close/>
                  <a:moveTo>
                    <a:pt x="778" y="83"/>
                  </a:moveTo>
                  <a:lnTo>
                    <a:pt x="726" y="83"/>
                  </a:lnTo>
                  <a:lnTo>
                    <a:pt x="752" y="20"/>
                  </a:lnTo>
                  <a:lnTo>
                    <a:pt x="778" y="83"/>
                  </a:lnTo>
                  <a:close/>
                  <a:moveTo>
                    <a:pt x="909" y="131"/>
                  </a:moveTo>
                  <a:lnTo>
                    <a:pt x="909" y="114"/>
                  </a:lnTo>
                  <a:lnTo>
                    <a:pt x="856" y="114"/>
                  </a:lnTo>
                  <a:lnTo>
                    <a:pt x="856" y="2"/>
                  </a:lnTo>
                  <a:lnTo>
                    <a:pt x="837" y="2"/>
                  </a:lnTo>
                  <a:lnTo>
                    <a:pt x="837" y="131"/>
                  </a:lnTo>
                  <a:lnTo>
                    <a:pt x="909" y="131"/>
                  </a:lnTo>
                  <a:close/>
                  <a:moveTo>
                    <a:pt x="1008" y="131"/>
                  </a:moveTo>
                  <a:lnTo>
                    <a:pt x="1008" y="2"/>
                  </a:lnTo>
                  <a:lnTo>
                    <a:pt x="990" y="2"/>
                  </a:lnTo>
                  <a:lnTo>
                    <a:pt x="990" y="131"/>
                  </a:lnTo>
                  <a:lnTo>
                    <a:pt x="1008" y="131"/>
                  </a:lnTo>
                  <a:close/>
                  <a:moveTo>
                    <a:pt x="1148" y="131"/>
                  </a:moveTo>
                  <a:lnTo>
                    <a:pt x="1148" y="2"/>
                  </a:lnTo>
                  <a:lnTo>
                    <a:pt x="1129" y="2"/>
                  </a:lnTo>
                  <a:lnTo>
                    <a:pt x="1129" y="105"/>
                  </a:lnTo>
                  <a:lnTo>
                    <a:pt x="1128" y="105"/>
                  </a:lnTo>
                  <a:lnTo>
                    <a:pt x="1072" y="2"/>
                  </a:lnTo>
                  <a:lnTo>
                    <a:pt x="1048" y="2"/>
                  </a:lnTo>
                  <a:lnTo>
                    <a:pt x="1048" y="131"/>
                  </a:lnTo>
                  <a:lnTo>
                    <a:pt x="1067" y="131"/>
                  </a:lnTo>
                  <a:lnTo>
                    <a:pt x="1067" y="28"/>
                  </a:lnTo>
                  <a:lnTo>
                    <a:pt x="1068" y="28"/>
                  </a:lnTo>
                  <a:lnTo>
                    <a:pt x="1124" y="131"/>
                  </a:lnTo>
                  <a:lnTo>
                    <a:pt x="1148" y="131"/>
                  </a:lnTo>
                  <a:close/>
                  <a:moveTo>
                    <a:pt x="1255" y="96"/>
                  </a:moveTo>
                  <a:lnTo>
                    <a:pt x="1254" y="92"/>
                  </a:lnTo>
                  <a:lnTo>
                    <a:pt x="1254" y="89"/>
                  </a:lnTo>
                  <a:lnTo>
                    <a:pt x="1254" y="87"/>
                  </a:lnTo>
                  <a:lnTo>
                    <a:pt x="1253" y="83"/>
                  </a:lnTo>
                  <a:lnTo>
                    <a:pt x="1251" y="79"/>
                  </a:lnTo>
                  <a:lnTo>
                    <a:pt x="1249" y="76"/>
                  </a:lnTo>
                  <a:lnTo>
                    <a:pt x="1247" y="72"/>
                  </a:lnTo>
                  <a:lnTo>
                    <a:pt x="1244" y="69"/>
                  </a:lnTo>
                  <a:lnTo>
                    <a:pt x="1240" y="66"/>
                  </a:lnTo>
                  <a:lnTo>
                    <a:pt x="1237" y="63"/>
                  </a:lnTo>
                  <a:lnTo>
                    <a:pt x="1231" y="60"/>
                  </a:lnTo>
                  <a:lnTo>
                    <a:pt x="1223" y="55"/>
                  </a:lnTo>
                  <a:lnTo>
                    <a:pt x="1214" y="50"/>
                  </a:lnTo>
                  <a:lnTo>
                    <a:pt x="1207" y="46"/>
                  </a:lnTo>
                  <a:lnTo>
                    <a:pt x="1205" y="44"/>
                  </a:lnTo>
                  <a:lnTo>
                    <a:pt x="1203" y="42"/>
                  </a:lnTo>
                  <a:lnTo>
                    <a:pt x="1200" y="38"/>
                  </a:lnTo>
                  <a:lnTo>
                    <a:pt x="1199" y="36"/>
                  </a:lnTo>
                  <a:lnTo>
                    <a:pt x="1199" y="35"/>
                  </a:lnTo>
                  <a:lnTo>
                    <a:pt x="1199" y="31"/>
                  </a:lnTo>
                  <a:lnTo>
                    <a:pt x="1201" y="28"/>
                  </a:lnTo>
                  <a:lnTo>
                    <a:pt x="1203" y="25"/>
                  </a:lnTo>
                  <a:lnTo>
                    <a:pt x="1205" y="22"/>
                  </a:lnTo>
                  <a:lnTo>
                    <a:pt x="1209" y="19"/>
                  </a:lnTo>
                  <a:lnTo>
                    <a:pt x="1212" y="17"/>
                  </a:lnTo>
                  <a:lnTo>
                    <a:pt x="1217" y="16"/>
                  </a:lnTo>
                  <a:lnTo>
                    <a:pt x="1221" y="16"/>
                  </a:lnTo>
                  <a:lnTo>
                    <a:pt x="1225" y="16"/>
                  </a:lnTo>
                  <a:lnTo>
                    <a:pt x="1231" y="18"/>
                  </a:lnTo>
                  <a:lnTo>
                    <a:pt x="1247" y="22"/>
                  </a:lnTo>
                  <a:lnTo>
                    <a:pt x="1250" y="4"/>
                  </a:lnTo>
                  <a:lnTo>
                    <a:pt x="1243" y="2"/>
                  </a:lnTo>
                  <a:lnTo>
                    <a:pt x="1235" y="1"/>
                  </a:lnTo>
                  <a:lnTo>
                    <a:pt x="1228" y="0"/>
                  </a:lnTo>
                  <a:lnTo>
                    <a:pt x="1221" y="0"/>
                  </a:lnTo>
                  <a:lnTo>
                    <a:pt x="1213" y="0"/>
                  </a:lnTo>
                  <a:lnTo>
                    <a:pt x="1210" y="1"/>
                  </a:lnTo>
                  <a:lnTo>
                    <a:pt x="1206" y="2"/>
                  </a:lnTo>
                  <a:lnTo>
                    <a:pt x="1203" y="3"/>
                  </a:lnTo>
                  <a:lnTo>
                    <a:pt x="1199" y="4"/>
                  </a:lnTo>
                  <a:lnTo>
                    <a:pt x="1196" y="6"/>
                  </a:lnTo>
                  <a:lnTo>
                    <a:pt x="1193" y="8"/>
                  </a:lnTo>
                  <a:lnTo>
                    <a:pt x="1190" y="11"/>
                  </a:lnTo>
                  <a:lnTo>
                    <a:pt x="1187" y="13"/>
                  </a:lnTo>
                  <a:lnTo>
                    <a:pt x="1185" y="16"/>
                  </a:lnTo>
                  <a:lnTo>
                    <a:pt x="1183" y="20"/>
                  </a:lnTo>
                  <a:lnTo>
                    <a:pt x="1182" y="23"/>
                  </a:lnTo>
                  <a:lnTo>
                    <a:pt x="1181" y="27"/>
                  </a:lnTo>
                  <a:lnTo>
                    <a:pt x="1180" y="30"/>
                  </a:lnTo>
                  <a:lnTo>
                    <a:pt x="1180" y="35"/>
                  </a:lnTo>
                  <a:lnTo>
                    <a:pt x="1180" y="39"/>
                  </a:lnTo>
                  <a:lnTo>
                    <a:pt x="1181" y="43"/>
                  </a:lnTo>
                  <a:lnTo>
                    <a:pt x="1183" y="48"/>
                  </a:lnTo>
                  <a:lnTo>
                    <a:pt x="1186" y="52"/>
                  </a:lnTo>
                  <a:lnTo>
                    <a:pt x="1189" y="56"/>
                  </a:lnTo>
                  <a:lnTo>
                    <a:pt x="1193" y="59"/>
                  </a:lnTo>
                  <a:lnTo>
                    <a:pt x="1198" y="63"/>
                  </a:lnTo>
                  <a:lnTo>
                    <a:pt x="1204" y="66"/>
                  </a:lnTo>
                  <a:lnTo>
                    <a:pt x="1218" y="73"/>
                  </a:lnTo>
                  <a:lnTo>
                    <a:pt x="1225" y="78"/>
                  </a:lnTo>
                  <a:lnTo>
                    <a:pt x="1228" y="80"/>
                  </a:lnTo>
                  <a:lnTo>
                    <a:pt x="1230" y="82"/>
                  </a:lnTo>
                  <a:lnTo>
                    <a:pt x="1232" y="86"/>
                  </a:lnTo>
                  <a:lnTo>
                    <a:pt x="1234" y="89"/>
                  </a:lnTo>
                  <a:lnTo>
                    <a:pt x="1235" y="92"/>
                  </a:lnTo>
                  <a:lnTo>
                    <a:pt x="1235" y="96"/>
                  </a:lnTo>
                  <a:lnTo>
                    <a:pt x="1235" y="100"/>
                  </a:lnTo>
                  <a:lnTo>
                    <a:pt x="1234" y="104"/>
                  </a:lnTo>
                  <a:lnTo>
                    <a:pt x="1231" y="108"/>
                  </a:lnTo>
                  <a:lnTo>
                    <a:pt x="1230" y="109"/>
                  </a:lnTo>
                  <a:lnTo>
                    <a:pt x="1228" y="111"/>
                  </a:lnTo>
                  <a:lnTo>
                    <a:pt x="1224" y="113"/>
                  </a:lnTo>
                  <a:lnTo>
                    <a:pt x="1219" y="115"/>
                  </a:lnTo>
                  <a:lnTo>
                    <a:pt x="1214" y="116"/>
                  </a:lnTo>
                  <a:lnTo>
                    <a:pt x="1208" y="117"/>
                  </a:lnTo>
                  <a:lnTo>
                    <a:pt x="1201" y="116"/>
                  </a:lnTo>
                  <a:lnTo>
                    <a:pt x="1195" y="115"/>
                  </a:lnTo>
                  <a:lnTo>
                    <a:pt x="1189" y="113"/>
                  </a:lnTo>
                  <a:lnTo>
                    <a:pt x="1184" y="110"/>
                  </a:lnTo>
                  <a:lnTo>
                    <a:pt x="1181" y="128"/>
                  </a:lnTo>
                  <a:lnTo>
                    <a:pt x="1190" y="131"/>
                  </a:lnTo>
                  <a:lnTo>
                    <a:pt x="1195" y="132"/>
                  </a:lnTo>
                  <a:lnTo>
                    <a:pt x="1200" y="133"/>
                  </a:lnTo>
                  <a:lnTo>
                    <a:pt x="1208" y="133"/>
                  </a:lnTo>
                  <a:lnTo>
                    <a:pt x="1217" y="133"/>
                  </a:lnTo>
                  <a:lnTo>
                    <a:pt x="1225" y="131"/>
                  </a:lnTo>
                  <a:lnTo>
                    <a:pt x="1232" y="129"/>
                  </a:lnTo>
                  <a:lnTo>
                    <a:pt x="1239" y="125"/>
                  </a:lnTo>
                  <a:lnTo>
                    <a:pt x="1243" y="122"/>
                  </a:lnTo>
                  <a:lnTo>
                    <a:pt x="1246" y="119"/>
                  </a:lnTo>
                  <a:lnTo>
                    <a:pt x="1249" y="116"/>
                  </a:lnTo>
                  <a:lnTo>
                    <a:pt x="1251" y="113"/>
                  </a:lnTo>
                  <a:lnTo>
                    <a:pt x="1252" y="109"/>
                  </a:lnTo>
                  <a:lnTo>
                    <a:pt x="1254" y="105"/>
                  </a:lnTo>
                  <a:lnTo>
                    <a:pt x="1254" y="101"/>
                  </a:lnTo>
                  <a:lnTo>
                    <a:pt x="1255" y="96"/>
                  </a:lnTo>
                  <a:close/>
                  <a:moveTo>
                    <a:pt x="1370" y="18"/>
                  </a:moveTo>
                  <a:lnTo>
                    <a:pt x="1370" y="2"/>
                  </a:lnTo>
                  <a:lnTo>
                    <a:pt x="1273" y="2"/>
                  </a:lnTo>
                  <a:lnTo>
                    <a:pt x="1273" y="18"/>
                  </a:lnTo>
                  <a:lnTo>
                    <a:pt x="1312" y="18"/>
                  </a:lnTo>
                  <a:lnTo>
                    <a:pt x="1312" y="131"/>
                  </a:lnTo>
                  <a:lnTo>
                    <a:pt x="1331" y="131"/>
                  </a:lnTo>
                  <a:lnTo>
                    <a:pt x="1331" y="18"/>
                  </a:lnTo>
                  <a:lnTo>
                    <a:pt x="1370" y="18"/>
                  </a:lnTo>
                  <a:close/>
                  <a:moveTo>
                    <a:pt x="1414" y="131"/>
                  </a:moveTo>
                  <a:lnTo>
                    <a:pt x="1414" y="2"/>
                  </a:lnTo>
                  <a:lnTo>
                    <a:pt x="1395" y="2"/>
                  </a:lnTo>
                  <a:lnTo>
                    <a:pt x="1395" y="131"/>
                  </a:lnTo>
                  <a:lnTo>
                    <a:pt x="1414" y="131"/>
                  </a:lnTo>
                  <a:close/>
                  <a:moveTo>
                    <a:pt x="1537" y="18"/>
                  </a:moveTo>
                  <a:lnTo>
                    <a:pt x="1537" y="2"/>
                  </a:lnTo>
                  <a:lnTo>
                    <a:pt x="1440" y="2"/>
                  </a:lnTo>
                  <a:lnTo>
                    <a:pt x="1440" y="18"/>
                  </a:lnTo>
                  <a:lnTo>
                    <a:pt x="1479" y="18"/>
                  </a:lnTo>
                  <a:lnTo>
                    <a:pt x="1479" y="131"/>
                  </a:lnTo>
                  <a:lnTo>
                    <a:pt x="1498" y="131"/>
                  </a:lnTo>
                  <a:lnTo>
                    <a:pt x="1498" y="18"/>
                  </a:lnTo>
                  <a:lnTo>
                    <a:pt x="1537" y="18"/>
                  </a:lnTo>
                  <a:close/>
                  <a:moveTo>
                    <a:pt x="1663" y="77"/>
                  </a:moveTo>
                  <a:lnTo>
                    <a:pt x="1663" y="2"/>
                  </a:lnTo>
                  <a:lnTo>
                    <a:pt x="1644" y="2"/>
                  </a:lnTo>
                  <a:lnTo>
                    <a:pt x="1644" y="81"/>
                  </a:lnTo>
                  <a:lnTo>
                    <a:pt x="1643" y="88"/>
                  </a:lnTo>
                  <a:lnTo>
                    <a:pt x="1643" y="92"/>
                  </a:lnTo>
                  <a:lnTo>
                    <a:pt x="1642" y="95"/>
                  </a:lnTo>
                  <a:lnTo>
                    <a:pt x="1641" y="98"/>
                  </a:lnTo>
                  <a:lnTo>
                    <a:pt x="1639" y="101"/>
                  </a:lnTo>
                  <a:lnTo>
                    <a:pt x="1636" y="106"/>
                  </a:lnTo>
                  <a:lnTo>
                    <a:pt x="1634" y="109"/>
                  </a:lnTo>
                  <a:lnTo>
                    <a:pt x="1632" y="111"/>
                  </a:lnTo>
                  <a:lnTo>
                    <a:pt x="1626" y="114"/>
                  </a:lnTo>
                  <a:lnTo>
                    <a:pt x="1620" y="116"/>
                  </a:lnTo>
                  <a:lnTo>
                    <a:pt x="1613" y="117"/>
                  </a:lnTo>
                  <a:lnTo>
                    <a:pt x="1606" y="116"/>
                  </a:lnTo>
                  <a:lnTo>
                    <a:pt x="1602" y="115"/>
                  </a:lnTo>
                  <a:lnTo>
                    <a:pt x="1599" y="114"/>
                  </a:lnTo>
                  <a:lnTo>
                    <a:pt x="1596" y="113"/>
                  </a:lnTo>
                  <a:lnTo>
                    <a:pt x="1594" y="111"/>
                  </a:lnTo>
                  <a:lnTo>
                    <a:pt x="1591" y="109"/>
                  </a:lnTo>
                  <a:lnTo>
                    <a:pt x="1589" y="106"/>
                  </a:lnTo>
                  <a:lnTo>
                    <a:pt x="1586" y="101"/>
                  </a:lnTo>
                  <a:lnTo>
                    <a:pt x="1583" y="95"/>
                  </a:lnTo>
                  <a:lnTo>
                    <a:pt x="1582" y="88"/>
                  </a:lnTo>
                  <a:lnTo>
                    <a:pt x="1582" y="81"/>
                  </a:lnTo>
                  <a:lnTo>
                    <a:pt x="1582" y="2"/>
                  </a:lnTo>
                  <a:lnTo>
                    <a:pt x="1563" y="2"/>
                  </a:lnTo>
                  <a:lnTo>
                    <a:pt x="1563" y="77"/>
                  </a:lnTo>
                  <a:lnTo>
                    <a:pt x="1563" y="83"/>
                  </a:lnTo>
                  <a:lnTo>
                    <a:pt x="1564" y="89"/>
                  </a:lnTo>
                  <a:lnTo>
                    <a:pt x="1566" y="99"/>
                  </a:lnTo>
                  <a:lnTo>
                    <a:pt x="1567" y="104"/>
                  </a:lnTo>
                  <a:lnTo>
                    <a:pt x="1569" y="108"/>
                  </a:lnTo>
                  <a:lnTo>
                    <a:pt x="1571" y="112"/>
                  </a:lnTo>
                  <a:lnTo>
                    <a:pt x="1574" y="116"/>
                  </a:lnTo>
                  <a:lnTo>
                    <a:pt x="1577" y="120"/>
                  </a:lnTo>
                  <a:lnTo>
                    <a:pt x="1581" y="123"/>
                  </a:lnTo>
                  <a:lnTo>
                    <a:pt x="1585" y="126"/>
                  </a:lnTo>
                  <a:lnTo>
                    <a:pt x="1590" y="129"/>
                  </a:lnTo>
                  <a:lnTo>
                    <a:pt x="1595" y="131"/>
                  </a:lnTo>
                  <a:lnTo>
                    <a:pt x="1601" y="132"/>
                  </a:lnTo>
                  <a:lnTo>
                    <a:pt x="1606" y="133"/>
                  </a:lnTo>
                  <a:lnTo>
                    <a:pt x="1613" y="133"/>
                  </a:lnTo>
                  <a:lnTo>
                    <a:pt x="1619" y="133"/>
                  </a:lnTo>
                  <a:lnTo>
                    <a:pt x="1625" y="132"/>
                  </a:lnTo>
                  <a:lnTo>
                    <a:pt x="1630" y="131"/>
                  </a:lnTo>
                  <a:lnTo>
                    <a:pt x="1635" y="129"/>
                  </a:lnTo>
                  <a:lnTo>
                    <a:pt x="1640" y="126"/>
                  </a:lnTo>
                  <a:lnTo>
                    <a:pt x="1644" y="123"/>
                  </a:lnTo>
                  <a:lnTo>
                    <a:pt x="1648" y="120"/>
                  </a:lnTo>
                  <a:lnTo>
                    <a:pt x="1652" y="116"/>
                  </a:lnTo>
                  <a:lnTo>
                    <a:pt x="1654" y="112"/>
                  </a:lnTo>
                  <a:lnTo>
                    <a:pt x="1656" y="108"/>
                  </a:lnTo>
                  <a:lnTo>
                    <a:pt x="1658" y="104"/>
                  </a:lnTo>
                  <a:lnTo>
                    <a:pt x="1660" y="99"/>
                  </a:lnTo>
                  <a:lnTo>
                    <a:pt x="1661" y="94"/>
                  </a:lnTo>
                  <a:lnTo>
                    <a:pt x="1662" y="89"/>
                  </a:lnTo>
                  <a:lnTo>
                    <a:pt x="1662" y="83"/>
                  </a:lnTo>
                  <a:lnTo>
                    <a:pt x="1663" y="77"/>
                  </a:lnTo>
                  <a:close/>
                  <a:moveTo>
                    <a:pt x="1786" y="18"/>
                  </a:moveTo>
                  <a:lnTo>
                    <a:pt x="1786" y="2"/>
                  </a:lnTo>
                  <a:lnTo>
                    <a:pt x="1689" y="2"/>
                  </a:lnTo>
                  <a:lnTo>
                    <a:pt x="1689" y="18"/>
                  </a:lnTo>
                  <a:lnTo>
                    <a:pt x="1728" y="18"/>
                  </a:lnTo>
                  <a:lnTo>
                    <a:pt x="1728" y="131"/>
                  </a:lnTo>
                  <a:lnTo>
                    <a:pt x="1747" y="131"/>
                  </a:lnTo>
                  <a:lnTo>
                    <a:pt x="1747" y="18"/>
                  </a:lnTo>
                  <a:lnTo>
                    <a:pt x="1786" y="18"/>
                  </a:lnTo>
                  <a:close/>
                  <a:moveTo>
                    <a:pt x="1885" y="18"/>
                  </a:moveTo>
                  <a:lnTo>
                    <a:pt x="1885" y="2"/>
                  </a:lnTo>
                  <a:lnTo>
                    <a:pt x="1813" y="2"/>
                  </a:lnTo>
                  <a:lnTo>
                    <a:pt x="1813" y="131"/>
                  </a:lnTo>
                  <a:lnTo>
                    <a:pt x="1885" y="131"/>
                  </a:lnTo>
                  <a:lnTo>
                    <a:pt x="1885" y="114"/>
                  </a:lnTo>
                  <a:lnTo>
                    <a:pt x="1831" y="114"/>
                  </a:lnTo>
                  <a:lnTo>
                    <a:pt x="1831" y="72"/>
                  </a:lnTo>
                  <a:lnTo>
                    <a:pt x="1880" y="72"/>
                  </a:lnTo>
                  <a:lnTo>
                    <a:pt x="1880" y="56"/>
                  </a:lnTo>
                  <a:lnTo>
                    <a:pt x="1831" y="56"/>
                  </a:lnTo>
                  <a:lnTo>
                    <a:pt x="1831" y="18"/>
                  </a:lnTo>
                  <a:lnTo>
                    <a:pt x="1885" y="18"/>
                  </a:lnTo>
                  <a:close/>
                </a:path>
              </a:pathLst>
            </a:custGeom>
            <a:solidFill>
              <a:srgbClr val="80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2"/>
          <p:cNvSpPr/>
          <p:nvPr/>
        </p:nvSpPr>
        <p:spPr>
          <a:xfrm>
            <a:off x="0" y="4292640"/>
            <a:ext cx="9144000" cy="2565360"/>
          </a:xfrm>
          <a:prstGeom prst="rect">
            <a:avLst/>
          </a:prstGeom>
          <a:solidFill>
            <a:srgbClr val="7bc1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THL_helmi_BIG_rgb"/>
          <p:cNvPicPr/>
          <p:nvPr/>
        </p:nvPicPr>
        <p:blipFill>
          <a:blip r:embed="rId2"/>
          <a:stretch/>
        </p:blipFill>
        <p:spPr>
          <a:xfrm>
            <a:off x="2532240" y="476280"/>
            <a:ext cx="3668400" cy="294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7bc14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7324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254240" indent="-2653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706400" indent="-27288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151000" indent="-264960">
              <a:lnSpc>
                <a:spcPct val="85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FAC6-EAC4-4F41-84F5-A35E807CC207}" type="datetime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7669-14CE-40EF-B066-9068384D162D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Arial"/>
              </a:rPr>
              <a:t>Final seminar of the ELECT project</a:t>
            </a:r>
            <a:endParaRPr b="1" lang="en-US" sz="28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Copenhagen, Denmark 21th-22th Sept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D523-C8EF-42CD-8184-502FCFE04A9A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C57-2CA2-463B-80F9-077F4D587C0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Kuva 2" descr="DEF flag-logoeac-LLP_EN"/>
          <p:cNvPicPr/>
          <p:nvPr/>
        </p:nvPicPr>
        <p:blipFill>
          <a:blip r:embed="rId1"/>
          <a:stretch/>
        </p:blipFill>
        <p:spPr>
          <a:xfrm>
            <a:off x="6643800" y="285840"/>
            <a:ext cx="2162160" cy="876240"/>
          </a:xfrm>
          <a:prstGeom prst="rect">
            <a:avLst/>
          </a:prstGeom>
          <a:ln w="0">
            <a:noFill/>
          </a:ln>
        </p:spPr>
      </p:pic>
      <p:sp>
        <p:nvSpPr>
          <p:cNvPr id="98" name="Suorakulmio 7"/>
          <p:cNvSpPr/>
          <p:nvPr/>
        </p:nvSpPr>
        <p:spPr>
          <a:xfrm>
            <a:off x="6572160" y="122400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project has been funded with support from the European Commiss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is publication reflects the views only of the author, and the Commission cannot be held responsible for anyuse which may be made of the information contained therei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After the ELECT project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ELECT 2 project” – ElecNET proposal did not get funding from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New proposal?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Lifelong learning call for proposals 2010 will close by the end of February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5589-C7BF-46D0-B2B5-C0A4B3BE8406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F7EF-9B64-4E91-83DF-8725FFFDBFE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Congratulations </a:t>
            </a:r>
            <a:r>
              <a:rPr b="1" lang="fi-FI" sz="3400" spc="-1" strike="noStrike">
                <a:solidFill>
                  <a:srgbClr val="7bc143"/>
                </a:solidFill>
                <a:latin typeface="Wingdings"/>
                <a:ea typeface="Wingdings"/>
              </a:rPr>
              <a:t></a:t>
            </a: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8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ig thanks to everyone who have been involved in the successful ELECT project during the two years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137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A2C2-7A04-4080-8B92-A757C228DDA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0ED4-B1AD-4AF0-890B-751A552277D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Kuva 8" descr="ELECT München_1108 100.jpg"/>
          <p:cNvPicPr/>
          <p:nvPr/>
        </p:nvPicPr>
        <p:blipFill>
          <a:blip r:embed="rId1"/>
          <a:stretch/>
        </p:blipFill>
        <p:spPr>
          <a:xfrm>
            <a:off x="428760" y="2428920"/>
            <a:ext cx="8358120" cy="292896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The Elect project</a:t>
            </a:r>
            <a:br>
              <a:rPr sz="3200"/>
            </a:br>
            <a:r>
              <a:rPr b="1" lang="fi-FI" sz="2000" spc="-1" strike="noStrike">
                <a:solidFill>
                  <a:srgbClr val="7bc143"/>
                </a:solidFill>
                <a:latin typeface="Arial"/>
              </a:rPr>
              <a:t>European Learning Communities for People with Mental Illness</a:t>
            </a:r>
            <a:endParaRPr b="1" lang="en-US" sz="20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484280"/>
            <a:ext cx="79009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788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Elec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has set out to strengthen Clubhouses as learning communities and promoted access to education and the labour market for people recovering from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ntal illn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E110-B99B-42BE-AEFD-88F369FE90E2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5672-A116-465B-8A2D-4D5375681C54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Kuva 6" descr="Luennolla_yleiso.JPG"/>
          <p:cNvPicPr/>
          <p:nvPr/>
        </p:nvPicPr>
        <p:blipFill>
          <a:blip r:embed="rId1"/>
          <a:stretch/>
        </p:blipFill>
        <p:spPr>
          <a:xfrm>
            <a:off x="857160" y="2857680"/>
            <a:ext cx="5929560" cy="292860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ELECT working groups were </a:t>
            </a:r>
            <a:br>
              <a:rPr sz="3200"/>
            </a:br>
            <a:r>
              <a:rPr b="1" lang="fi-FI" sz="3200" spc="-1" strike="noStrike">
                <a:solidFill>
                  <a:srgbClr val="7bc143"/>
                </a:solidFill>
                <a:latin typeface="Arial"/>
              </a:rPr>
              <a:t>(Work packages):</a:t>
            </a:r>
            <a:endParaRPr b="1" lang="en-US" sz="32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Activation and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Support methods for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Training of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Quality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10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F52-D50A-432B-8BB1-C206CAF98F2C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DC5F-5025-4CAF-8FF2-9850D328FCA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Kuva 6" descr="WP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00040" y="3429000"/>
            <a:ext cx="7215120" cy="2697120"/>
          </a:xfrm>
          <a:prstGeom prst="rect">
            <a:avLst/>
          </a:prstGeom>
          <a:ln w="12600">
            <a:solidFill>
              <a:srgbClr val="87bf6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Project Consortium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67940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kes - National Research and Development Centre for Welfare and Health (FI) – Coordinator (THL from 1.1.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wedish Fountain House / Clubhouse of Stockholm. Sweden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ntain House Fonden / Copenhagen Clubhouse &amp; Kildehuset Aalborg. Danmark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aic Clubhouse. United Kingdom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rsta Sköndal University College. Sweden (Lea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erman Speaking Clubhouse Coal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nnish Fountain House Coalition (Suvimäki &amp; Imatra Clubhouse).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ndation Fountain, Fountain House in Oslo. Nor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úbburin Geysir. Ice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sinki Clubhouses registered association.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iftelsen Vänskap och arbete, Fontänhuset Org. Malm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donia Clubhouse/Scottish Clubhouse Coalition. United King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ts val="1397"/>
              </a:lnSpc>
              <a:spcBef>
                <a:spcPts val="612"/>
              </a:spcBef>
              <a:buClr>
                <a:srgbClr val="7bc14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CD – International Center for Clubhouse development (Associa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5000"/>
              </a:lnSpc>
              <a:spcBef>
                <a:spcPts val="612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79E1-DC13-4D20-B1BC-35C444B21EAC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480-98DC-4AED-A0FD-8A04ED656E4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activiti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484280"/>
            <a:ext cx="8218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2007,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Steering Group mee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elsi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th-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rch 2008,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Kick-off mee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Malmö, Sw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une 2008 </a:t>
            </a:r>
            <a:r>
              <a:rPr b="0" lang="en-US" sz="2000" spc="-1" strike="noStrike">
                <a:solidFill>
                  <a:srgbClr val="7bc143"/>
                </a:solidFill>
                <a:latin typeface="Arial"/>
              </a:rPr>
              <a:t>project mee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elsinki,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th-5th November 2008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project meet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Munich, Germa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3th-27th March 2009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ELECT pilot train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Mosaic Clubhouse, London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March-May 2009,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ELECT E-learning cours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Suvimäki Clubhouse Fi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30th-31th March 2009,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Project meeting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London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21th-22th September 2009 </a:t>
            </a:r>
            <a:r>
              <a:rPr b="0" lang="fi-FI" sz="2000" spc="-1" strike="noStrike">
                <a:solidFill>
                  <a:srgbClr val="7bc143"/>
                </a:solidFill>
                <a:latin typeface="Arial"/>
              </a:rPr>
              <a:t>Final seminar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, Copenhagen Den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85000"/>
              </a:lnSpc>
              <a:spcBef>
                <a:spcPts val="8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6698-6BB0-4F88-B245-F0A780C9C497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26B9-C443-4A53-9AD4-D85883CF926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2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C2D8-DC02-489A-870A-433EC6D7AB24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9DA0-CB22-4C72-A26B-721CAEC28E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3352680" cy="4673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"/>
          <p:cNvPicPr/>
          <p:nvPr/>
        </p:nvPicPr>
        <p:blipFill>
          <a:blip r:embed="rId2"/>
          <a:stretch/>
        </p:blipFill>
        <p:spPr>
          <a:xfrm>
            <a:off x="3929040" y="2357280"/>
            <a:ext cx="4714920" cy="32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840" y="26028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28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607-9A7C-40BB-8832-550E519BA713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315C-C4C5-43EB-8BF6-5C2256B5F8C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2786040" cy="4008240"/>
          </a:xfrm>
          <a:prstGeom prst="rect">
            <a:avLst/>
          </a:prstGeom>
          <a:ln w="0">
            <a:noFill/>
          </a:ln>
        </p:spPr>
      </p:pic>
      <p:sp>
        <p:nvSpPr>
          <p:cNvPr id="132" name="Suorakulmio 11"/>
          <p:cNvSpPr/>
          <p:nvPr/>
        </p:nvSpPr>
        <p:spPr>
          <a:xfrm>
            <a:off x="3571920" y="278604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im of this manual is to create/raise consciousness about possi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siderations on opportunities and choices when establishing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dy support programme in the framework of a Clubhouse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34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225-E8ED-4BF1-B0C7-94BDA12FC901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6FE1-F24D-40D5-A9C2-32CDDF2AFB7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57120" y="1428840"/>
            <a:ext cx="3063960" cy="4392360"/>
          </a:xfrm>
          <a:prstGeom prst="rect">
            <a:avLst/>
          </a:prstGeom>
          <a:ln w="0">
            <a:noFill/>
          </a:ln>
        </p:spPr>
      </p:pic>
      <p:sp>
        <p:nvSpPr>
          <p:cNvPr id="138" name="Suorakulmio 7"/>
          <p:cNvSpPr/>
          <p:nvPr/>
        </p:nvSpPr>
        <p:spPr>
          <a:xfrm>
            <a:off x="3857760" y="2428920"/>
            <a:ext cx="471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WHO IS IT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acilitator’s Guide is designed to be used by Clubhouse members an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ill be delivering the Supported Education Training to other Club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embers and sta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HOW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ide provides facilitators with all the information required to deliver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Supported Education Training Cou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7bc143"/>
                </a:solidFill>
                <a:latin typeface="Arial"/>
              </a:rPr>
              <a:t>ELECT project outcomes</a:t>
            </a:r>
            <a:endParaRPr b="1" lang="en-US" sz="3400" spc="-1" strike="noStrike">
              <a:solidFill>
                <a:srgbClr val="7bc143"/>
              </a:solidFill>
              <a:latin typeface="Arial"/>
            </a:endParaRPr>
          </a:p>
        </p:txBody>
      </p:sp>
      <p:sp>
        <p:nvSpPr>
          <p:cNvPr id="140" name="Päivämäärän paikkamerkki 3"/>
          <p:cNvSpPr/>
          <p:nvPr/>
        </p:nvSpPr>
        <p:spPr>
          <a:xfrm>
            <a:off x="457200" y="6589800"/>
            <a:ext cx="1090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798-4B86-4430-9AC4-7C0CBE7E52AF}" type="datetime">
              <a:rPr b="0" lang="en-GB" sz="10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latunnisteen paikkamerkki 4"/>
          <p:cNvSpPr/>
          <p:nvPr/>
        </p:nvSpPr>
        <p:spPr>
          <a:xfrm>
            <a:off x="1547640" y="6597720"/>
            <a:ext cx="60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ject manager Ville Grönbe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ian numeron paikkamerkki 5"/>
          <p:cNvSpPr/>
          <p:nvPr/>
        </p:nvSpPr>
        <p:spPr>
          <a:xfrm>
            <a:off x="7596360" y="6597720"/>
            <a:ext cx="1079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235-484F-4D2E-9C1D-3B1185E98D0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3857760" cy="3857400"/>
          </a:xfrm>
          <a:prstGeom prst="rect">
            <a:avLst/>
          </a:prstGeom>
          <a:ln w="0">
            <a:noFill/>
          </a:ln>
        </p:spPr>
      </p:pic>
      <p:sp>
        <p:nvSpPr>
          <p:cNvPr id="144" name="Suorakulmio 7"/>
          <p:cNvSpPr/>
          <p:nvPr/>
        </p:nvSpPr>
        <p:spPr>
          <a:xfrm>
            <a:off x="4357800" y="2286000"/>
            <a:ext cx="4286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ELECT CD-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he ELECT project CD-rom inclu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ll project results in electronic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D will be published in the end of Octo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000000"/>
                </a:solidFill>
                <a:latin typeface="Arial"/>
              </a:rPr>
              <a:t>ELECT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00b0f0"/>
                </a:solidFill>
                <a:uFillTx/>
                <a:latin typeface="Arial"/>
              </a:rPr>
              <a:t>www.elect-project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kstikehys 8"/>
          <p:cNvSpPr/>
          <p:nvPr/>
        </p:nvSpPr>
        <p:spPr>
          <a:xfrm rot="1380000">
            <a:off x="1797840" y="3759120"/>
            <a:ext cx="1679400" cy="8254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4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9:02:03Z</dcterms:created>
  <dc:creator>Ville Grönberg</dc:creator>
  <dc:description/>
  <dc:language>en-US</dc:language>
  <cp:lastModifiedBy>Ville Grönberg</cp:lastModifiedBy>
  <dcterms:modified xsi:type="dcterms:W3CDTF">2009-09-24T07:04:20Z</dcterms:modified>
  <cp:revision>5</cp:revision>
  <dc:subject>english</dc:subject>
  <dc:title>Final seminar of the ELECT project</dc:title>
</cp:coreProperties>
</file>