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754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9480" y="685440"/>
            <a:ext cx="45590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1BA3-A971-4633-9AAD-23CDAD4E41E4}"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C23C-67F9-40D2-B288-988FBB1A96FD}"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27" name="PlaceHolder 1"/>
          <p:cNvSpPr>
            <a:spLocks noGrp="1"/>
          </p:cNvSpPr>
          <p:nvPr>
            <p:ph type="sldImg"/>
          </p:nvPr>
        </p:nvSpPr>
        <p:spPr>
          <a:xfrm>
            <a:off x="1149480" y="685800"/>
            <a:ext cx="455904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 to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t the Bookend will begin with a short presentation of the finished Manual. After the presentation we will lead a discussion over the following themes concerning participation in W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outcom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urse of events during E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uture of the Manual</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rogram we have 45 minutes for the presentation and 45 minutes for questions/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planning to use 15 minutes for the presentation of the manual and the rest of the time for a mixed form of sharing al ours experiences and answering questions, to create a dialogue with the rest of group in WP3 and answering questions and responding to comments from the rest of EL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presentation we will run through the manual chapter by chapter  to give you an over all impression of the content and structu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E525-8D15-48CD-B3F8-FCBDCD29C6DA}"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0" name="PlaceHolder 1"/>
          <p:cNvSpPr>
            <a:spLocks noGrp="1"/>
          </p:cNvSpPr>
          <p:nvPr>
            <p:ph type="sldImg"/>
          </p:nvPr>
        </p:nvSpPr>
        <p:spPr>
          <a:xfrm>
            <a:off x="1149480" y="685800"/>
            <a:ext cx="455904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t>
            </a:r>
            <a:r>
              <a:rPr b="0" lang="da-DK" sz="1200" spc="-1" strike="noStrike">
                <a:solidFill>
                  <a:srgbClr val="000000"/>
                </a:solidFill>
                <a:latin typeface="Arial"/>
              </a:rPr>
              <a:t>Manual for study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chapter presents a number of parameters that are important to consider when planning to establish a study support program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manual is meant to be used locally so that the study support programme you organise reflects the needs expressed within your own unique clubhou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manual also presents a ‟tool box‟ that contains a number of tools or ‟practices‟ that have been used and shown themselves useful in the already existing study support programmes – in thei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it should be pointed out that the intention of the manual is not solely to present „best practices‟ because a good study support programme is not created simply by copying and combining „best practices‟ from different places and contexts. A practice is not independent from the context in which it was developed and cannot therefore simply be copied. This however does not mean that we cannot learn from the experiences of oth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8767-8AD3-45FC-84F4-8DD838225085}"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3" name="PlaceHolder 1"/>
          <p:cNvSpPr>
            <a:spLocks noGrp="1"/>
          </p:cNvSpPr>
          <p:nvPr>
            <p:ph type="sldImg"/>
          </p:nvPr>
        </p:nvSpPr>
        <p:spPr>
          <a:xfrm>
            <a:off x="1149480" y="685800"/>
            <a:ext cx="45590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Or put in another way, in relation to the clubhouse structure there are two target groups of study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Members whose daily life is related to the work ordered day in the club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Members whose daily life is related to an education outside the club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is combination is a challenge when it comes to the clubhouse cul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ince the students are not in the clubhouse to participate in helping running the house, it’s important to find a way of introducing the clubhouse culture to the students. Since Jan. 1st 2006, „The Bookend (Bogstøtten)‟ has offered an introductory course for the students ending up with </a:t>
            </a:r>
            <a:r>
              <a:rPr b="1" lang="da-DK" sz="1200" spc="-1" strike="noStrike">
                <a:solidFill>
                  <a:srgbClr val="000000"/>
                </a:solidFill>
                <a:latin typeface="Arial"/>
              </a:rPr>
              <a:t>becoming a member </a:t>
            </a:r>
            <a:r>
              <a:rPr b="0" lang="da-DK" sz="1200" spc="-1" strike="noStrike">
                <a:solidFill>
                  <a:srgbClr val="000000"/>
                </a:solidFill>
                <a:latin typeface="Arial"/>
              </a:rPr>
              <a:t>of the clubhouse and this has turned out to be of great importance in relation to the clubhouse cul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 is important to focus on what the clubhouse and the study support programme have in common – rather than on what makes the study support programme so different from the rest of the 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1AA1-E55B-46A9-B00B-D5B399CE815A}"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6" name="PlaceHolder 1"/>
          <p:cNvSpPr>
            <a:spLocks noGrp="1"/>
          </p:cNvSpPr>
          <p:nvPr>
            <p:ph type="sldImg"/>
          </p:nvPr>
        </p:nvSpPr>
        <p:spPr>
          <a:xfrm>
            <a:off x="1149480" y="685800"/>
            <a:ext cx="455904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important to get a </a:t>
            </a:r>
            <a:r>
              <a:rPr b="1" lang="da-DK" sz="1200" spc="-1" strike="noStrike">
                <a:solidFill>
                  <a:srgbClr val="000000"/>
                </a:solidFill>
                <a:latin typeface="Arial"/>
              </a:rPr>
              <a:t>general view</a:t>
            </a:r>
            <a:r>
              <a:rPr b="0" lang="da-DK" sz="1200" spc="-1" strike="noStrike">
                <a:solidFill>
                  <a:srgbClr val="000000"/>
                </a:solidFill>
                <a:latin typeface="Arial"/>
              </a:rPr>
              <a:t> of the players who are already part of the student’s life. These players might be psychiatric institutions, student counsellors, centres for academic writing, home work cafés at educational institutions, regional authorities, doctors, psychologists, psychiatrists, social workers, educational institutions, private NGOs like patient, relation or help organizations, different treatment cent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important to uncover which role or </a:t>
            </a:r>
            <a:r>
              <a:rPr b="1" lang="da-DK" sz="1200" spc="-1" strike="noStrike">
                <a:solidFill>
                  <a:srgbClr val="000000"/>
                </a:solidFill>
                <a:latin typeface="Arial"/>
              </a:rPr>
              <a:t>function</a:t>
            </a:r>
            <a:r>
              <a:rPr b="0" lang="da-DK" sz="1200" spc="-1" strike="noStrike">
                <a:solidFill>
                  <a:srgbClr val="000000"/>
                </a:solidFill>
                <a:latin typeface="Arial"/>
              </a:rPr>
              <a:t> the external players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Does the player represent a place for 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s the player a treatment centre in relation to which the study support programme can function on a parallel basis or as follow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Does the player represent a parallel to the study support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s the player a potential education programme? Et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also impoprtant to find out what is the </a:t>
            </a:r>
            <a:r>
              <a:rPr b="1" lang="da-DK" sz="1200" spc="-1" strike="noStrike">
                <a:solidFill>
                  <a:srgbClr val="000000"/>
                </a:solidFill>
                <a:latin typeface="Arial"/>
              </a:rPr>
              <a:t>purpose</a:t>
            </a:r>
            <a:r>
              <a:rPr b="0" lang="da-DK" sz="1200" spc="-1" strike="noStrike">
                <a:solidFill>
                  <a:srgbClr val="000000"/>
                </a:solidFill>
                <a:latin typeface="Arial"/>
              </a:rPr>
              <a:t> of an eventual contact or collaboration with an external relation. Is the purpose recruitment? Is it treatment? And how is the contact established and maintained? Is the contact initial, regular or should we do some following u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Example: Hannu’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291A-7A61-41C5-A708-EF2A1DEB9F18}"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9" name="PlaceHolder 1"/>
          <p:cNvSpPr>
            <a:spLocks noGrp="1"/>
          </p:cNvSpPr>
          <p:nvPr>
            <p:ph type="sldImg"/>
          </p:nvPr>
        </p:nvSpPr>
        <p:spPr>
          <a:xfrm>
            <a:off x="1149480" y="685800"/>
            <a:ext cx="45590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s you can see we’ve made it quite explicit that it’s a good idea to ask questions when you want to begin a pro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ortant points: When you start working on a project like this ’don’t run before you can walk’ – include members in the work right from the beginning – make an action plan and establish procedures of evalu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AE5D-D5D4-4FE6-8161-F7C14D00CD9E}"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2" name="PlaceHolder 1"/>
          <p:cNvSpPr>
            <a:spLocks noGrp="1"/>
          </p:cNvSpPr>
          <p:nvPr>
            <p:ph type="sldImg"/>
          </p:nvPr>
        </p:nvSpPr>
        <p:spPr>
          <a:xfrm>
            <a:off x="1149480" y="685800"/>
            <a:ext cx="455904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issue of information is about how to collect relevant information. E.g. if a member wants to begin an education where do you find the information about a specific education or education in general (e.g. on educational fairs or by contacting schools or universiti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Practical help deals with very concrete matters such as how to establish work stations and where do we find the   money to establish a support programme. Practical help is also about procedures, about structuring one’s everyday life as a student, about managing oneself as a student, and so 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issue of general support, counselling and tutoring is very much about defining these concep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 presentation of three examples of study technique courses in Copenhagen, Jyväskylä and Oslo resp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F9CB-5363-4A86-A04B-F87767E36B11}"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5" name="PlaceHolder 1"/>
          <p:cNvSpPr>
            <a:spLocks noGrp="1"/>
          </p:cNvSpPr>
          <p:nvPr>
            <p:ph type="sldImg"/>
          </p:nvPr>
        </p:nvSpPr>
        <p:spPr>
          <a:xfrm>
            <a:off x="1149480" y="685800"/>
            <a:ext cx="45590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y support as an integrated part</a:t>
            </a:r>
            <a:r>
              <a:rPr b="0" lang="en-US" sz="900" spc="-1" strike="noStrike">
                <a:solidFill>
                  <a:srgbClr val="000000"/>
                </a:solidFill>
                <a:latin typeface="Arial"/>
              </a:rPr>
              <a:t>: This way of organizing study support is present in all units.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vantages:</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evident advantage with this model is that the house does not have to be reorganized to give study support.</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ould also be an advantage for the member who can stay in his/her familiar environment even though he or she begins to study.</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llenges:</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ard to establish a student community in the clubhouse. The students might not know each other and can therefore only to a small degree seek help and support from other students in the clubhouse.</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student, one could also expect that it will be hard to get the right kind of counselling since a clubhouse not necessarily provides specialist staff within that are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y support offer integrated in another unit:</a:t>
            </a:r>
            <a:r>
              <a:rPr b="0" lang="en-US" sz="900" spc="-1" strike="noStrike">
                <a:solidFill>
                  <a:srgbClr val="000000"/>
                </a:solidFill>
                <a:latin typeface="Arial"/>
              </a:rPr>
              <a:t> This paragraph describes Geisirs experiences with a Study Support Unit as an integrated unit in the Office Unit and sums up a long list of support opportunitie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dependent unit</a:t>
            </a:r>
            <a:r>
              <a:rPr b="0" lang="en-US" sz="900" spc="-1" strike="noStrike">
                <a:solidFill>
                  <a:srgbClr val="000000"/>
                </a:solidFill>
                <a:latin typeface="Arial"/>
              </a:rPr>
              <a:t>: This paragraph describes experiences from the Bookend as an independent unit i Fountain House Copenha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vantages:</a:t>
            </a:r>
            <a:endParaRPr b="0" lang="en-US" sz="900" spc="-1" strike="noStrike">
              <a:solidFill>
                <a:srgbClr val="000000"/>
              </a:solidFill>
              <a:latin typeface="Arial"/>
            </a:endParaRPr>
          </a:p>
          <a:p>
            <a:pPr marL="228600" indent="-228600">
              <a:spcBef>
                <a:spcPts val="337"/>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e that this form of organizing supports the member in her identity as a student and forms a study environment.</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allenge</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re is to integrate the unit in the rest of the clubhouse. The paragraph gives examples of ways of doing this.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se</a:t>
            </a:r>
            <a:r>
              <a:rPr b="0" lang="en-US" sz="900" spc="-1" strike="noStrike">
                <a:solidFill>
                  <a:srgbClr val="000000"/>
                </a:solidFill>
                <a:latin typeface="Arial"/>
              </a:rPr>
              <a:t>: Arne – a member in Fontenehuset, Oslo - tells about his personal experiences and thoughts about studying and being a member in the clubhouse.</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AD92-8A82-4AA3-A1E4-E6B9F4D24F7D}"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8" name="PlaceHolder 1"/>
          <p:cNvSpPr>
            <a:spLocks noGrp="1"/>
          </p:cNvSpPr>
          <p:nvPr>
            <p:ph type="sldImg"/>
          </p:nvPr>
        </p:nvSpPr>
        <p:spPr>
          <a:xfrm>
            <a:off x="1149480" y="685800"/>
            <a:ext cx="455904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endix 1: describes the study environment in the Bookend; that is the DNA that makes each and every element of study support fit together. It is written by an external consultant paid through ELECT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terial used in the paper derives from a qualitative study – a survey- on the significance of the Bookend for th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ppendix 2: The MPI is a tool used in Fountain House Copenhagen that structures a conversation between a member and a staff member. The interview focuses the member’s prog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ppendix 3: Sums up a large number of advice and tools – to be used as a help in the sudents’ 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AEB00-750F-484C-8D1C-D30813864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84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921A-76DB-42BD-82BF-398C6C8E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4B7B-C1F9-4DCB-9714-F85C66646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EFC9A-92B5-4BF5-B272-3B7A2A6B7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9A9E6-7E25-4303-B937-92CBD4F16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8440"/>
            <a:ext cx="7693200" cy="3735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ED4BE-6D4F-4563-B0CB-7C30493EB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8440"/>
            <a:ext cx="769320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EB15C-6F20-4CEF-A119-645D9B998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BD1A0-1DD0-436D-8B75-2DDA97E23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0E6CF-C62B-469C-AD3A-51315129F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480" y="836280"/>
            <a:ext cx="7779240" cy="464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6DBF9-6D7A-4582-8863-E20466346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07C8-E87A-4896-BF83-02D078023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8440"/>
            <a:ext cx="7693200" cy="3735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B1443-FBD7-4376-B57F-B900D76BA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B972-AEAA-4097-8613-BA24F2DA6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3FC8C-CF12-4485-89B3-342B4F855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84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C196B-C032-4C49-B763-E1140596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A8036-D2F9-4D44-B59D-D16ABF357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A1B91-B110-458F-B6C0-140C1DBB5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8440"/>
            <a:ext cx="769320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8CA5-15DA-44C2-97E7-61F8FF9A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1742-F320-4DEA-AB98-2755F3BE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54847-D39F-48DD-9985-A38CB9B3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480" y="836280"/>
            <a:ext cx="7779240" cy="464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F0026-FF69-43A9-82FE-7A748803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39DC-F3BD-490F-A992-73003D905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92F4-DB40-4C93-A0A4-A08FB69D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3FD6-E053-4A68-A010-95C0A52EE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76360"/>
            <a:chOff x="0" y="0"/>
            <a:chExt cx="7620120" cy="6876360"/>
          </a:xfrm>
        </p:grpSpPr>
        <p:grpSp>
          <p:nvGrpSpPr>
            <p:cNvPr id="1" name="Group 3"/>
            <p:cNvGrpSpPr/>
            <p:nvPr/>
          </p:nvGrpSpPr>
          <p:grpSpPr>
            <a:xfrm>
              <a:off x="0" y="0"/>
              <a:ext cx="3200400" cy="6876360"/>
              <a:chOff x="0" y="0"/>
              <a:chExt cx="3200400" cy="6876360"/>
            </a:xfrm>
          </p:grpSpPr>
          <p:sp>
            <p:nvSpPr>
              <p:cNvPr id="2" name="Rectangle 4"/>
              <p:cNvSpPr/>
              <p:nvPr/>
            </p:nvSpPr>
            <p:spPr>
              <a:xfrm>
                <a:off x="0" y="0"/>
                <a:ext cx="762120" cy="68763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9640"/>
              </a:xfrm>
              <a:custGeom>
                <a:avLst/>
                <a:gdLst>
                  <a:gd name="textAreaLeft" fmla="*/ 0 w 2743200"/>
                  <a:gd name="textAreaRight" fmla="*/ 2743200 w 2743200"/>
                  <a:gd name="textAreaTop" fmla="*/ 0 h 1169640"/>
                  <a:gd name="textAreaBottom" fmla="*/ 1170000 h 116964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6480"/>
              <a:ext cx="7391520" cy="319680"/>
              <a:chOff x="228600" y="1986480"/>
              <a:chExt cx="7391520" cy="319680"/>
            </a:xfrm>
          </p:grpSpPr>
          <p:sp>
            <p:nvSpPr>
              <p:cNvPr id="5" name="AutoShape 7"/>
              <p:cNvSpPr/>
              <p:nvPr/>
            </p:nvSpPr>
            <p:spPr>
              <a:xfrm>
                <a:off x="609480" y="1986480"/>
                <a:ext cx="7010640" cy="31788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6480"/>
                <a:ext cx="393840" cy="31968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8440"/>
            <a:ext cx="7693200" cy="3735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65440"/>
            <a:ext cx="2130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65440"/>
            <a:ext cx="28969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Times New Roman"/>
              </a:rPr>
              <a:t>Presentation of 'Manual for Study Support' - Copenhagen - September 2009</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59680"/>
            <a:ext cx="587160" cy="4903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a-DK"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1998-0E02-409C-A919-718DCEA23367}" type="slidenum">
              <a:rPr b="1" lang="da-DK"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76720"/>
            <a:chOff x="0" y="0"/>
            <a:chExt cx="5867280" cy="6876720"/>
          </a:xfrm>
        </p:grpSpPr>
        <p:sp>
          <p:nvSpPr>
            <p:cNvPr id="49" name="Rectangle 3"/>
            <p:cNvSpPr/>
            <p:nvPr/>
          </p:nvSpPr>
          <p:spPr>
            <a:xfrm>
              <a:off x="0" y="0"/>
              <a:ext cx="4572000" cy="6876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3240"/>
              <a:ext cx="5181480" cy="190980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903920"/>
            <a:ext cx="4876920" cy="318960"/>
            <a:chOff x="3632040" y="4903920"/>
            <a:chExt cx="4876920" cy="318960"/>
          </a:xfrm>
        </p:grpSpPr>
        <p:sp>
          <p:nvSpPr>
            <p:cNvPr id="52" name="AutoShape 6"/>
            <p:cNvSpPr/>
            <p:nvPr/>
          </p:nvSpPr>
          <p:spPr>
            <a:xfrm flipH="1">
              <a:off x="3632040" y="49039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9039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8440"/>
            <a:ext cx="7693200" cy="3735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65440"/>
            <a:ext cx="2130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65440"/>
            <a:ext cx="28969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Times New Roman"/>
              </a:rPr>
              <a:t>Presentation of 'Manual for Study Support' - Copenhagen - September 2009</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65440"/>
            <a:ext cx="58716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a-DK"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1D63-DFF0-49E1-96F0-DE2574AF416E}" type="slidenum">
              <a:rPr b="1" lang="da-DK"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5520" y="1272960"/>
            <a:ext cx="7670160" cy="13503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66"/>
                </a:solidFill>
                <a:latin typeface="Arial"/>
              </a:rPr>
              <a:t>Presentation of </a:t>
            </a:r>
            <a:br>
              <a:rPr sz="3600"/>
            </a:br>
            <a:r>
              <a:rPr b="1" lang="da-DK" sz="3600" spc="-1" strike="noStrike">
                <a:solidFill>
                  <a:srgbClr val="003366"/>
                </a:solidFill>
                <a:latin typeface="Arial"/>
              </a:rPr>
              <a:t>’Manual for Study Support’</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35080"/>
            <a:ext cx="4013280" cy="182700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ELECT WP 3</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Copenhag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September 2009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05"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1</a:t>
            </a:r>
            <a:endParaRPr b="1" lang="en-US" sz="3600" spc="-1" strike="noStrike">
              <a:solidFill>
                <a:srgbClr val="006666"/>
              </a:solidFill>
              <a:latin typeface="Arial"/>
            </a:endParaRPr>
          </a:p>
        </p:txBody>
      </p:sp>
      <p:sp>
        <p:nvSpPr>
          <p:cNvPr id="106" name="PlaceHolder 1"/>
          <p:cNvSpPr>
            <a:spLocks noGrp="1"/>
          </p:cNvSpPr>
          <p:nvPr>
            <p:ph/>
          </p:nvPr>
        </p:nvSpPr>
        <p:spPr>
          <a:xfrm>
            <a:off x="838080" y="2368080"/>
            <a:ext cx="7693200" cy="345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INTRODUCTORY ISSUES</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manual includes a number of topics to consider in case you want to establish a study support offer/programme.</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manual is not a collection of examples of ”best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08"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2</a:t>
            </a:r>
            <a:endParaRPr b="1" lang="en-US" sz="3600" spc="-1" strike="noStrike">
              <a:solidFill>
                <a:srgbClr val="006666"/>
              </a:solidFill>
              <a:latin typeface="Arial"/>
            </a:endParaRPr>
          </a:p>
        </p:txBody>
      </p:sp>
      <p:sp>
        <p:nvSpPr>
          <p:cNvPr id="109" name="PlaceHolder 1"/>
          <p:cNvSpPr>
            <a:spLocks noGrp="1"/>
          </p:cNvSpPr>
          <p:nvPr>
            <p:ph/>
          </p:nvPr>
        </p:nvSpPr>
        <p:spPr>
          <a:xfrm>
            <a:off x="838080" y="2368440"/>
            <a:ext cx="7693200" cy="352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TARGET GROUP OF STUDY SUPPOR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Members inside the clubhouse</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Members outside the clubho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1"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3</a:t>
            </a:r>
            <a:endParaRPr b="1" lang="en-US" sz="3600" spc="-1" strike="noStrike">
              <a:solidFill>
                <a:srgbClr val="006666"/>
              </a:solidFill>
              <a:latin typeface="Arial"/>
            </a:endParaRPr>
          </a:p>
        </p:txBody>
      </p:sp>
      <p:sp>
        <p:nvSpPr>
          <p:cNvPr id="112" name="PlaceHolder 1"/>
          <p:cNvSpPr>
            <a:spLocks noGrp="1"/>
          </p:cNvSpPr>
          <p:nvPr>
            <p:ph/>
          </p:nvPr>
        </p:nvSpPr>
        <p:spPr>
          <a:xfrm>
            <a:off x="838080" y="2368080"/>
            <a:ext cx="7693200" cy="33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EXTERNAL REL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importance of getting a general view of  other stakeholders in the field …</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Example: Contact to Educational Institu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   </a:t>
            </a:r>
            <a:r>
              <a:rPr b="0" lang="da-DK" sz="2800" spc="-1" strike="noStrike">
                <a:solidFill>
                  <a:srgbClr val="003366"/>
                </a:solidFill>
                <a:latin typeface="Arial"/>
              </a:rPr>
              <a:t>(Suvimäki’s experiences and a case: Hannu)</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4"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4</a:t>
            </a:r>
            <a:endParaRPr b="1" lang="en-US" sz="3600" spc="-1" strike="noStrike">
              <a:solidFill>
                <a:srgbClr val="006666"/>
              </a:solidFill>
              <a:latin typeface="Arial"/>
            </a:endParaRPr>
          </a:p>
        </p:txBody>
      </p:sp>
      <p:sp>
        <p:nvSpPr>
          <p:cNvPr id="115" name="PlaceHolder 1"/>
          <p:cNvSpPr>
            <a:spLocks noGrp="1"/>
          </p:cNvSpPr>
          <p:nvPr>
            <p:ph/>
          </p:nvPr>
        </p:nvSpPr>
        <p:spPr>
          <a:xfrm>
            <a:off x="838080" y="2368080"/>
            <a:ext cx="7693200" cy="3452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WHERE TO BEGI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Target group – ’Who Are They?’</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Challenges – ’What Are Their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Kinds of support – ’How Can We Help Them?’</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Necessary resources – ’What Kinds of Resources are Required?’</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Public relations – ’How Do They Find 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7"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5</a:t>
            </a:r>
            <a:endParaRPr b="1" lang="en-US" sz="3600" spc="-1" strike="noStrike">
              <a:solidFill>
                <a:srgbClr val="006666"/>
              </a:solidFill>
              <a:latin typeface="Arial"/>
            </a:endParaRPr>
          </a:p>
        </p:txBody>
      </p:sp>
      <p:sp>
        <p:nvSpPr>
          <p:cNvPr id="118" name="PlaceHolder 1"/>
          <p:cNvSpPr>
            <a:spLocks noGrp="1"/>
          </p:cNvSpPr>
          <p:nvPr>
            <p:ph/>
          </p:nvPr>
        </p:nvSpPr>
        <p:spPr>
          <a:xfrm>
            <a:off x="838080" y="2368080"/>
            <a:ext cx="7693200" cy="3597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POSSIBLE ELEMENTS IN A STUDY SUPPORT OFFER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This chapter is the nearest we can get to presenting ”best practices” – a tool box which includes issues such as:</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Information about education – inside and outside the clubhouse</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Practical help – example.</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General support, counselling and tutoring </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Courses in study technique</a:t>
            </a:r>
            <a:endParaRPr b="0" lang="en-US" sz="2400" spc="-1" strike="noStrike">
              <a:solidFill>
                <a:srgbClr val="003366"/>
              </a:solidFill>
              <a:latin typeface="Arial"/>
            </a:endParaRPr>
          </a:p>
        </p:txBody>
      </p:sp>
      <p:pic>
        <p:nvPicPr>
          <p:cNvPr id="119" name="Picture 4" descr="toolbox2"/>
          <p:cNvPicPr/>
          <p:nvPr/>
        </p:nvPicPr>
        <p:blipFill>
          <a:blip r:embed="rId1"/>
          <a:stretch/>
        </p:blipFill>
        <p:spPr>
          <a:xfrm>
            <a:off x="6588000" y="260280"/>
            <a:ext cx="2184480" cy="20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21"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6</a:t>
            </a:r>
            <a:endParaRPr b="1" lang="en-US" sz="3600" spc="-1" strike="noStrike">
              <a:solidFill>
                <a:srgbClr val="006666"/>
              </a:solidFill>
              <a:latin typeface="Arial"/>
            </a:endParaRPr>
          </a:p>
        </p:txBody>
      </p:sp>
      <p:sp>
        <p:nvSpPr>
          <p:cNvPr id="122" name="PlaceHolder 1"/>
          <p:cNvSpPr>
            <a:spLocks noGrp="1"/>
          </p:cNvSpPr>
          <p:nvPr>
            <p:ph/>
          </p:nvPr>
        </p:nvSpPr>
        <p:spPr>
          <a:xfrm>
            <a:off x="838080" y="2368440"/>
            <a:ext cx="7693200" cy="373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IN RELATION TO THE REST OF THE CLUBHO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as an integrated part </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offer integrated in another unit</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An Independent unit</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C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24"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APPENDIX </a:t>
            </a:r>
            <a:endParaRPr b="1" lang="en-US" sz="3600" spc="-1" strike="noStrike">
              <a:solidFill>
                <a:srgbClr val="006666"/>
              </a:solidFill>
              <a:latin typeface="Arial"/>
            </a:endParaRPr>
          </a:p>
        </p:txBody>
      </p:sp>
      <p:sp>
        <p:nvSpPr>
          <p:cNvPr id="125" name="PlaceHolder 1"/>
          <p:cNvSpPr>
            <a:spLocks noGrp="1"/>
          </p:cNvSpPr>
          <p:nvPr>
            <p:ph/>
          </p:nvPr>
        </p:nvSpPr>
        <p:spPr>
          <a:xfrm>
            <a:off x="838080" y="2368440"/>
            <a:ext cx="7693200" cy="373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1 The Cohesive Force/the DNA of the Study Support Offer (Copenhag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2 Members progress interview form (Copenhag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3 Study support leaflet (Fontenehuset, Os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6:48:28Z</dcterms:created>
  <dc:creator>Arne</dc:creator>
  <dc:description/>
  <dc:language>en-US</dc:language>
  <cp:lastModifiedBy>Hanne</cp:lastModifiedBy>
  <dcterms:modified xsi:type="dcterms:W3CDTF">2009-09-21T09:06:25Z</dcterms:modified>
  <cp:revision>33</cp:revision>
  <dc:subject/>
  <dc:title>Manual for Study Support</dc:title>
</cp:coreProperties>
</file>