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4B7B-E795-4F99-A10E-FD1160294CA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0B3A-22BC-440A-A43B-11FC524D3B9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A3B8-3EAF-4CC8-9A49-FBDBE5C7182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3E1B-CC89-478C-9798-18D07F36C5A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B9D2-E395-40C1-AB06-AEABD24240B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44DF-FD4A-425A-9BE6-2DFA077C8694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52F-DD6C-495E-ABBC-2576FAA95D5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C385-63A2-4AC8-959A-074387E4B83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F705-A24D-489D-B748-51A01C63A18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8C78-7E72-4D66-9D28-D76F421CF0B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C22E-3393-4F3E-B571-A3526CA9BF14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5E84-9E71-4659-B844-4440E3A37D3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16E8-B235-4D2F-9733-44B71A03622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08C8-D73A-4456-8239-F46131A7736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95FE-EE2E-4871-9C15-33C61D2DEA6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043-2B5C-4C7C-AC22-432B36E4CAA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BED-2EEE-4FAC-A3CF-001C432F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465-C024-4521-B21C-4035E006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25F-3CD3-4B1D-873F-475A6D36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427-ED80-4A89-918E-9F650368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80A-5B41-47EF-BE69-989736A1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AEC-0811-4E65-8248-5515932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68E-5D75-4342-A75C-07BBC1E2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116-A28F-476B-B63B-12BA528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448-EEE0-4A7A-BE65-2D50552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B45-2F1E-48F5-AC5B-F6786D1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82C-8F2D-4D7A-BBDE-AA0D650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828-2ECF-4F25-93C8-F290C10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21B3-B82E-43C8-85CC-512A682F7225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Volunteers in Member-based organisations: Roles and Con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61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Today’s Main 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Garamond"/>
              </a:rPr>
              <a:t>?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Do memberbased organisations really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need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 volunte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Garamond"/>
              </a:rPr>
              <a:t>!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Ye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0" descr=""/>
          <p:cNvPicPr/>
          <p:nvPr/>
        </p:nvPicPr>
        <p:blipFill>
          <a:blip r:embed="rId3"/>
          <a:stretch/>
        </p:blipFill>
        <p:spPr>
          <a:xfrm>
            <a:off x="2916360" y="2852640"/>
            <a:ext cx="4038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Thre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683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A System i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2.   Two Approaches to Volunteers in Memberbased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3.   Professionals, Volunteers and Members/Users: Who Does Wh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683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1. A System in Crisis</a:t>
            </a: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39640" y="1557360"/>
            <a:ext cx="468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. A Crisis of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Legiti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b.  A crisis of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.  A crisis of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sources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2. Two Approaches to Volun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aramond"/>
              </a:rPr>
              <a:t>Fun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Professional skills, e.g. IT-skills, fundraising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Helping out in general (within well-defined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aramond"/>
              </a:rPr>
              <a:t>Exis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Person to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2060640"/>
          <a:ext cx="7705800" cy="4114800"/>
        </p:xfrm>
        <a:graphic>
          <a:graphicData uri="http://schemas.openxmlformats.org/drawingml/2006/table">
            <a:tbl>
              <a:tblPr/>
              <a:tblGrid>
                <a:gridCol w="2568600"/>
                <a:gridCol w="2568600"/>
                <a:gridCol w="2568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relationship to   the 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Volunte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fessio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t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One fellow human being to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Clos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Helper / a gui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Closeness and 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he perspe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he control of the relationssh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he user’s te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ser define subject- professionals takes char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arget for relationsship</a:t>
                      </a: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 planned 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oyee works towards a predefined 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8"/>
          <p:cNvSpPr/>
          <p:nvPr/>
        </p:nvSpPr>
        <p:spPr>
          <a:xfrm>
            <a:off x="1116000" y="907920"/>
            <a:ext cx="70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Garamond"/>
              </a:rPr>
              <a:t>3. The Relationsship between Employees, Volunteers and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0000"/>
                </a:solidFill>
                <a:latin typeface="Garamond"/>
              </a:rPr>
              <a:t>Main Point Today…</a:t>
            </a:r>
            <a:r>
              <a:rPr b="1" lang="da-D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Volunteer helps the member define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aramond"/>
              </a:rPr>
              <a:t>own </a:t>
            </a: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solutions = the feeling that the member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his or her own will and influence is capab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making chang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0000"/>
                </a:solidFill>
                <a:latin typeface="Garamond"/>
              </a:rPr>
              <a:t>To Consid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If you had money to pay  professional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do the volunteer’s job - would I do it?.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could you do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6:15:28Z</dcterms:created>
  <dc:creator>Anders Jacobsen</dc:creator>
  <dc:description/>
  <dc:language>en-US</dc:language>
  <cp:lastModifiedBy>Hanne</cp:lastModifiedBy>
  <dcterms:modified xsi:type="dcterms:W3CDTF">2009-09-22T09:33:22Z</dcterms:modified>
  <cp:revision>16</cp:revision>
  <dc:subject/>
  <dc:title>Volunteers in member-based organisations: Roles and Contributions</dc:title>
</cp:coreProperties>
</file>