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16CB-F8E5-410A-B9B2-BAAA28EEAD02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B8DB-F131-4D17-916A-A1DA18DC01AD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7C6E-CE53-4713-851C-0BA9339CC54A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CC1E-0274-4FC5-955B-C946E57332C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4667-EF9C-47E2-8B4E-FED8C8BCA5E3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00F2-3AED-4D6D-BB43-EDEF80FFE316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ABF2-280F-4603-9538-5D9142974955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C00C-A232-4EED-97A7-C5105DC1ADBC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A491-88EB-4BF1-933E-D68584C8860C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42F9-9798-46E5-AC3E-62384A3FCEFE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92CA-B333-4E38-9248-8D6FB6834F99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9C2B-8564-49B5-8EAD-130A026A5B6B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97EC-E450-4945-9C8B-A1A27AEF1047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16C9-F882-4A33-8D18-183BEB2C2138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8CC4-9499-4AFE-B97F-8AB638C7D5F8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0942-814B-4D1C-A998-8026763D5FFF}" type="slidenum">
              <a:rPr b="0" lang="da-D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BD3-991F-45B2-B467-C88BE54E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A2A9-1D5D-4860-B534-B684415D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E340-7EB9-47CD-B116-22EBFA14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674-9319-4EAD-9C23-95329310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5EE4-570E-40BB-A5EE-6CC9A4A8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13D-A9B6-476E-B977-5F55FED6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E34-456F-4A6E-B75D-49F53E09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670-B480-463E-A43D-21E1D38A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3BFB-539B-4664-AC15-EB22FBB4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18E-BBA5-4CEC-A14C-D8EA28E7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502-884F-4E19-B2B0-95930D87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E5D-6F49-4735-9FA8-F74D2CEF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AB1A-5DC5-42D4-A1FA-9D0E90B65AE8}" type="slidenum">
              <a:rPr b="0" lang="da-D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Garamond"/>
              </a:rPr>
              <a:t>Volunteers in Member-based organisations: Roles and Con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6163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navnetræk_gul_rgb"/>
          <p:cNvPicPr/>
          <p:nvPr/>
        </p:nvPicPr>
        <p:blipFill>
          <a:blip r:embed="rId1"/>
          <a:stretch/>
        </p:blipFill>
        <p:spPr>
          <a:xfrm>
            <a:off x="179280" y="260280"/>
            <a:ext cx="2303640" cy="37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navnetræk_grå_rgb"/>
          <p:cNvPicPr/>
          <p:nvPr/>
        </p:nvPicPr>
        <p:blipFill>
          <a:blip r:embed="rId2"/>
          <a:stretch/>
        </p:blipFill>
        <p:spPr>
          <a:xfrm>
            <a:off x="4211640" y="6381720"/>
            <a:ext cx="4753080" cy="316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95280" y="1691280"/>
            <a:ext cx="8505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73280" y="1644480"/>
            <a:ext cx="7254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708360" y="141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042920" y="2008080"/>
            <a:ext cx="17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042920" y="549360"/>
            <a:ext cx="70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aramond"/>
              </a:rPr>
              <a:t>Today’s Main Iss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Garamond"/>
              </a:rPr>
              <a:t>? 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Do memberbased organisations really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need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 volunte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Garamond"/>
              </a:rPr>
              <a:t>!</a:t>
            </a:r>
            <a:r>
              <a:rPr b="1" i="1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Garamond"/>
              </a:rPr>
              <a:t>Ye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0" descr=""/>
          <p:cNvPicPr/>
          <p:nvPr/>
        </p:nvPicPr>
        <p:blipFill>
          <a:blip r:embed="rId3"/>
          <a:stretch/>
        </p:blipFill>
        <p:spPr>
          <a:xfrm>
            <a:off x="2916360" y="2852640"/>
            <a:ext cx="40384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navnetræk_gul_rgb"/>
          <p:cNvPicPr/>
          <p:nvPr/>
        </p:nvPicPr>
        <p:blipFill>
          <a:blip r:embed="rId1"/>
          <a:stretch/>
        </p:blipFill>
        <p:spPr>
          <a:xfrm>
            <a:off x="179280" y="260280"/>
            <a:ext cx="2303640" cy="374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navnetræk_grå_rgb"/>
          <p:cNvPicPr/>
          <p:nvPr/>
        </p:nvPicPr>
        <p:blipFill>
          <a:blip r:embed="rId2"/>
          <a:stretch/>
        </p:blipFill>
        <p:spPr>
          <a:xfrm>
            <a:off x="4211640" y="6381720"/>
            <a:ext cx="4753080" cy="316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395280" y="1691280"/>
            <a:ext cx="8505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773280" y="1644480"/>
            <a:ext cx="7254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708360" y="141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042920" y="2008080"/>
            <a:ext cx="17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042920" y="549360"/>
            <a:ext cx="70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Garamond"/>
              </a:rPr>
              <a:t>Three Persp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6836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A System in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2.   Two Approaches to Volunteers in Memberbased Organis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3.   Professionals, Volunteers and Members/Users: Who Does Wha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navnetræk_gul_rgb"/>
          <p:cNvPicPr/>
          <p:nvPr/>
        </p:nvPicPr>
        <p:blipFill>
          <a:blip r:embed="rId1"/>
          <a:stretch/>
        </p:blipFill>
        <p:spPr>
          <a:xfrm>
            <a:off x="179280" y="260280"/>
            <a:ext cx="2303640" cy="374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navnetræk_grå_rgb"/>
          <p:cNvPicPr/>
          <p:nvPr/>
        </p:nvPicPr>
        <p:blipFill>
          <a:blip r:embed="rId2"/>
          <a:stretch/>
        </p:blipFill>
        <p:spPr>
          <a:xfrm>
            <a:off x="4211640" y="6381720"/>
            <a:ext cx="4753080" cy="316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95280" y="1691280"/>
            <a:ext cx="8505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773280" y="1644480"/>
            <a:ext cx="7254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708360" y="141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042920" y="2008080"/>
            <a:ext cx="17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042920" y="549360"/>
            <a:ext cx="70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46836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Garamond"/>
              </a:rPr>
              <a:t>1. A System in Crisis</a:t>
            </a:r>
            <a:r>
              <a:rPr b="1" lang="da-DK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539640" y="1557360"/>
            <a:ext cx="4686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a. A Crisis of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Legiti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b.  A crisis of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c.  A crisis of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Resources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"/>
          <p:cNvPicPr/>
          <p:nvPr/>
        </p:nvPicPr>
        <p:blipFill>
          <a:blip r:embed="rId3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navnetræk_gul_rgb"/>
          <p:cNvPicPr/>
          <p:nvPr/>
        </p:nvPicPr>
        <p:blipFill>
          <a:blip r:embed="rId1"/>
          <a:stretch/>
        </p:blipFill>
        <p:spPr>
          <a:xfrm>
            <a:off x="179280" y="260280"/>
            <a:ext cx="2303640" cy="374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navnetræk_grå_rgb"/>
          <p:cNvPicPr/>
          <p:nvPr/>
        </p:nvPicPr>
        <p:blipFill>
          <a:blip r:embed="rId2"/>
          <a:stretch/>
        </p:blipFill>
        <p:spPr>
          <a:xfrm>
            <a:off x="4211640" y="6381720"/>
            <a:ext cx="4753080" cy="316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395280" y="1691280"/>
            <a:ext cx="8505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773280" y="1644480"/>
            <a:ext cx="7254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3708360" y="141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042920" y="2008080"/>
            <a:ext cx="17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42920" y="549360"/>
            <a:ext cx="70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000000"/>
                </a:solidFill>
                <a:latin typeface="Garamond"/>
              </a:rPr>
              <a:t>2. Two Approaches to Volunt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Garamond"/>
              </a:rPr>
              <a:t>Fun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Professional skills, e.g. IT-skills, fundraising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Helping out in general (within well-defined a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Garamond"/>
              </a:rPr>
              <a:t>Existen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Person to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Lif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navnetræk_gul_rgb"/>
          <p:cNvPicPr/>
          <p:nvPr/>
        </p:nvPicPr>
        <p:blipFill>
          <a:blip r:embed="rId1"/>
          <a:stretch/>
        </p:blipFill>
        <p:spPr>
          <a:xfrm>
            <a:off x="179280" y="260280"/>
            <a:ext cx="2303640" cy="374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navnetræk_grå_rgb"/>
          <p:cNvPicPr/>
          <p:nvPr/>
        </p:nvPicPr>
        <p:blipFill>
          <a:blip r:embed="rId2"/>
          <a:stretch/>
        </p:blipFill>
        <p:spPr>
          <a:xfrm>
            <a:off x="4211640" y="6381720"/>
            <a:ext cx="4753080" cy="3160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395280" y="1691280"/>
            <a:ext cx="8505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773280" y="1644480"/>
            <a:ext cx="7254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708360" y="141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042920" y="2008080"/>
            <a:ext cx="17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9640" y="2060640"/>
          <a:ext cx="7705800" cy="4114800"/>
        </p:xfrm>
        <a:graphic>
          <a:graphicData uri="http://schemas.openxmlformats.org/drawingml/2006/table">
            <a:tbl>
              <a:tblPr/>
              <a:tblGrid>
                <a:gridCol w="2568600"/>
                <a:gridCol w="2568600"/>
                <a:gridCol w="2568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he relationship to   the m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Volunte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Profession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tat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 One fellow human being to 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 Clos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 Helper / a gui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- Closeness and knowl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he perspe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he control of the relationsshi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The user’s ter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User define subject- professionals takes charg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arget for relationsship</a:t>
                      </a: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No planned 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20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Employee works towards a predefined 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8"/>
          <p:cNvSpPr/>
          <p:nvPr/>
        </p:nvSpPr>
        <p:spPr>
          <a:xfrm>
            <a:off x="1116000" y="907920"/>
            <a:ext cx="70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Garamond"/>
              </a:rPr>
              <a:t>3. The Relationsship between Employees, Volunteers and Mem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navnetræk_gul_rgb"/>
          <p:cNvPicPr/>
          <p:nvPr/>
        </p:nvPicPr>
        <p:blipFill>
          <a:blip r:embed="rId1"/>
          <a:stretch/>
        </p:blipFill>
        <p:spPr>
          <a:xfrm>
            <a:off x="179280" y="260280"/>
            <a:ext cx="2303640" cy="37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navnetræk_grå_rgb"/>
          <p:cNvPicPr/>
          <p:nvPr/>
        </p:nvPicPr>
        <p:blipFill>
          <a:blip r:embed="rId2"/>
          <a:stretch/>
        </p:blipFill>
        <p:spPr>
          <a:xfrm>
            <a:off x="4211640" y="6381720"/>
            <a:ext cx="4753080" cy="316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95280" y="1691280"/>
            <a:ext cx="8505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73280" y="1644480"/>
            <a:ext cx="7254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708360" y="141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042920" y="2008080"/>
            <a:ext cx="17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042920" y="549360"/>
            <a:ext cx="70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0000"/>
                </a:solidFill>
                <a:latin typeface="Garamond"/>
              </a:rPr>
              <a:t>Main Point Today…</a:t>
            </a:r>
            <a:r>
              <a:rPr b="1" lang="da-D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Volunteer helps the member define his or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0000"/>
                </a:solidFill>
                <a:latin typeface="Garamond"/>
              </a:rPr>
              <a:t>own </a:t>
            </a: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solutions = the feeling that the member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his or her own will and influence is capabl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Garamond"/>
              </a:rPr>
              <a:t>making chang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navnetræk_gul_rgb"/>
          <p:cNvPicPr/>
          <p:nvPr/>
        </p:nvPicPr>
        <p:blipFill>
          <a:blip r:embed="rId1"/>
          <a:stretch/>
        </p:blipFill>
        <p:spPr>
          <a:xfrm>
            <a:off x="179280" y="260280"/>
            <a:ext cx="2303640" cy="374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navnetræk_grå_rgb"/>
          <p:cNvPicPr/>
          <p:nvPr/>
        </p:nvPicPr>
        <p:blipFill>
          <a:blip r:embed="rId2"/>
          <a:stretch/>
        </p:blipFill>
        <p:spPr>
          <a:xfrm>
            <a:off x="4211640" y="6381720"/>
            <a:ext cx="4753080" cy="3160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395280" y="1691280"/>
            <a:ext cx="85057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73280" y="1644480"/>
            <a:ext cx="7254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708360" y="141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042920" y="2008080"/>
            <a:ext cx="174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042920" y="549360"/>
            <a:ext cx="70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0000"/>
                </a:solidFill>
                <a:latin typeface="Garamond"/>
              </a:rPr>
              <a:t>To Consid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If you had money to pay  professional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do the volunteer’s job - would I do it?.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could you do 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6:15:28Z</dcterms:created>
  <dc:creator>Anders Jacobsen</dc:creator>
  <dc:description/>
  <dc:language>en-US</dc:language>
  <cp:lastModifiedBy>Hanne</cp:lastModifiedBy>
  <dcterms:modified xsi:type="dcterms:W3CDTF">2009-09-22T09:33:22Z</dcterms:modified>
  <cp:revision>16</cp:revision>
  <dc:subject/>
  <dc:title>Volunteers in member-based organisations: Roles and Contributions</dc:title>
</cp:coreProperties>
</file>