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2DD4-F1A4-4304-9E0E-C9A2C0E9B87E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64F8-9F78-41EA-B6E2-4D7F6C0932BB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CD9-EC5E-4D89-98E7-B94B6482F4BC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02AA-1E1B-49C8-9104-09384C13E1DF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Dian numeron paikkamerkki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3D5A-A9D7-40E5-BE81-28EE25857159}" type="slidenum">
              <a:rPr b="0" lang="fi-FI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9FF-BCDA-450B-A1C7-18370C03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EFA-C6DC-43C5-96FE-147C2296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EEA-C68E-4E2F-BE12-AFF43ECC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AED-26F9-4E78-88AF-8D231939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6C4C-7413-4FE6-ACFB-4F248E60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D422-F699-4ADA-9835-A08C045A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D01B-7636-4515-A114-11FE0FC1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BD42-BD31-41B2-A640-BC82C3DB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091-8154-45A1-9973-0FC961FB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1210-0F75-4647-B1B5-283B0112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21A-A768-4258-A8A5-004588D1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852-6D16-4DD0-93A0-C7DB1AB3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A237-0180-41C7-8B9B-31ADEFEB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F7D9-1415-4BEC-9F89-1F426EE3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4B03-80D5-46B3-A234-A1872342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210-F9F9-4F5B-8B74-95ED3058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7C7F-BEEF-4F92-9AC4-57143138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06A6-BBE8-404C-997C-CCEA5EFF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8920-E395-478A-BB5C-4FA4A6F7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3AE7-E283-42E2-9912-67521302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C73BA-D0A7-4F3A-A5A0-AF33254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E0C4-CA0F-4D88-A470-BA0DB237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442-5B80-44B7-A539-1ABAA20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DD2D3-5E1A-42B3-B88E-A8290FB1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A991F-B84B-48B9-9634-6B90E403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01509-3804-47A9-9F13-12936106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2C2D-9421-42AE-832E-290B6237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BA5CD-45A5-41D0-833A-13789768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4E9A-CAEE-4FE0-975F-8707D8C5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1982-1002-42C5-A578-6E72A263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DEC0B-33D8-48C2-A620-F208277A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5AA3-531C-460F-9661-A6B923F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4F469-01DC-4D59-BD7F-73F23B30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30C-22C2-4A71-8A05-4826C0C0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D5C9D-90A7-4438-A208-CC9B88AC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8335F-4B23-495F-B1EB-AFBD1446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712B-2B49-430D-B113-957DCB2A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5784A-189F-4A14-9A27-C4699586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1F4C-E58A-47DA-AAC9-5B1A71A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D007C-DD77-4EB2-9E73-1446F0F4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8A83-C67F-4FE9-9925-417A732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EAFE7-9079-4DB3-B15D-8CE02085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0E4CA-C819-4BD0-B47C-CFC5AE03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EC118-8BDC-4FB1-855B-3B67F02C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47EB-4E2C-4635-BFCD-D6BA45B8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4187E-E56B-42D8-8382-E77D9DE6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BEB22-0643-4DFA-BFA8-1998A255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7C0C2-668E-432D-ABC5-9EF7B851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C455F-F1F4-4354-86EF-14A5FE74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2160-B845-4D4C-846D-26F636B4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E321E-7DC5-49A3-9D01-2BC90A1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9E7D-20E3-4676-B6A3-E1C92E34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73591-D056-4592-A3F9-4A6A63DB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73D45-2302-455C-B371-662BA136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5FE5F-D2DD-44D7-BE52-BE95115B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6AB-7D6A-4E93-ACA4-E16CD760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E813-23AB-42D0-98FE-D8AC6C79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ACCFA-4E99-4FC9-92E8-711B051A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597E0-AD96-4ACB-A7E8-E53630CC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B4954-8294-483C-A7CA-9084CBB3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CF340-5F96-4DE8-AA9D-8F676671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646D3-C831-4579-AE63-9A29B97B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7738E-0F15-4256-8AFD-C3B3620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ECF07-A0A1-4184-861D-1E250B82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AE767-B7EF-4473-88C4-44EEEBEC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9F89A-A51D-4810-B826-389911EA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F60-C52C-4C00-8F93-C647A42D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08371-FD6C-432F-A8F8-E9A1529E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4D37-F190-4C15-B275-7E93806A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25BD-00C6-4FA1-BDEE-62E4C9EC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B042-DF9D-4856-8D36-49BF74C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FA5-68CA-45FE-BC03-4FB8D54E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uolivapaa piirto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9D0B-CF29-4B5F-A9CE-7BDD66A4D301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uolivapaa piirto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olivapaa piirto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F88C-183D-475C-A5A6-49ECC1018AE1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uolivapaa piirto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uolivapaa piirto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A56F-EB17-47D9-84B4-38744BEE3727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427E-BC20-493E-A77A-683E961BBFCB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uolivapaa piirto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uolivapaa piirto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172D-0634-4176-8152-3C7CE0F700D2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B425-12A2-41C9-86B6-4D8652657C01}" type="slidenum">
              <a:rPr b="0" lang="fi-FI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SS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 TO TH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ive – at the end of the session participants wi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context within which the program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derstand the shape of the five days , nature and style of the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their background and objectives for the program with each other (and hopefully seen some common groun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ER 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backgrounds and objectives of the particip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be gain some idea of who are likely to the tem players and who may have difficulty interacting with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out experience they have in their particular 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gin to formulate balanced syndicate group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ER PR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the flips for this ses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– name of th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 for to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keep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for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571400"/>
            <a:ext cx="8501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CHECK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Equipment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Slides/pp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Handouts/materials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Ryhmä 20"/>
          <p:cNvGrpSpPr/>
          <p:nvPr/>
        </p:nvGrpSpPr>
        <p:grpSpPr>
          <a:xfrm>
            <a:off x="500040" y="2357280"/>
            <a:ext cx="8001000" cy="3859200"/>
            <a:chOff x="500040" y="2357280"/>
            <a:chExt cx="8001000" cy="3859200"/>
          </a:xfrm>
        </p:grpSpPr>
        <p:pic>
          <p:nvPicPr>
            <p:cNvPr id="273" name="Suora yhdysviiva 7" descr=""/>
            <p:cNvPicPr/>
            <p:nvPr/>
          </p:nvPicPr>
          <p:blipFill>
            <a:blip r:embed="rId1"/>
            <a:stretch/>
          </p:blipFill>
          <p:spPr>
            <a:xfrm>
              <a:off x="500040" y="2407680"/>
              <a:ext cx="7869960" cy="4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Suora yhdysviiva 13"/>
            <p:cNvSpPr/>
            <p:nvPr/>
          </p:nvSpPr>
          <p:spPr>
            <a:xfrm>
              <a:off x="506160" y="2357280"/>
              <a:ext cx="79948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Suora yhdysviiva 15"/>
            <p:cNvSpPr/>
            <p:nvPr/>
          </p:nvSpPr>
          <p:spPr>
            <a:xfrm>
              <a:off x="506160" y="2927160"/>
              <a:ext cx="79948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Suora yhdysviiva 17"/>
            <p:cNvSpPr/>
            <p:nvPr/>
          </p:nvSpPr>
          <p:spPr>
            <a:xfrm flipH="1">
              <a:off x="2719080" y="2358000"/>
              <a:ext cx="1440" cy="385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Suora yhdysviiva 19"/>
            <p:cNvSpPr/>
            <p:nvPr/>
          </p:nvSpPr>
          <p:spPr>
            <a:xfrm flipH="1">
              <a:off x="5216040" y="2357280"/>
              <a:ext cx="1440" cy="3858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8" name="Picture 37" descr=""/>
          <p:cNvPicPr/>
          <p:nvPr/>
        </p:nvPicPr>
        <p:blipFill>
          <a:blip r:embed="rId2"/>
          <a:stretch/>
        </p:blipFill>
        <p:spPr>
          <a:xfrm>
            <a:off x="7862760" y="18720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rainer note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INER PREPA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 the flips for this sess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come – name of the program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 for to 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keep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for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A few questions 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E STARTED OUR JO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Did we really have shared vision – common understanding – what kind of support members need and for w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hree examples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HYGIENE G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BUS DRIVER´S LI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ASSISTANT 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Where is the difference?</a:t>
            </a: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Three examples…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56760" y="1643040"/>
            <a:ext cx="821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HYGIENE G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BUS DRIVER´S LIC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ASSISTANT N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i-FI" sz="2400" spc="-1" strike="noStrike">
                <a:solidFill>
                  <a:srgbClr val="ffffff"/>
                </a:solidFill>
                <a:latin typeface="Arial"/>
              </a:rPr>
              <a:t>Common factor – </a:t>
            </a:r>
            <a:r>
              <a:rPr b="1" i="1" lang="fi-FI" sz="2400" spc="-1" strike="noStrike">
                <a:solidFill>
                  <a:srgbClr val="ffffff"/>
                </a:solidFill>
                <a:latin typeface="Arial"/>
              </a:rPr>
              <a:t>DECISION MAKING PROC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35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Decision</a:t>
            </a:r>
            <a:r>
              <a:rPr b="0" lang="fi-FI" sz="4000" spc="-1" strike="noStrike">
                <a:solidFill>
                  <a:srgbClr val="ffffff"/>
                </a:solidFill>
                <a:latin typeface="Franklin Gothic Book"/>
              </a:rPr>
              <a:t> Making and Suppor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Member Decision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Support is a value creating process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37" descr=""/>
          <p:cNvPicPr/>
          <p:nvPr/>
        </p:nvPicPr>
        <p:blipFill>
          <a:blip r:embed="rId1"/>
          <a:stretch/>
        </p:blipFill>
        <p:spPr>
          <a:xfrm>
            <a:off x="7862760" y="142920"/>
            <a:ext cx="1067040" cy="1027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a116e0">
                <a:alpha val="50000"/>
              </a:srgbClr>
            </a:outerShdw>
          </a:effectLst>
        </p:spPr>
      </p:pic>
      <p:grpSp>
        <p:nvGrpSpPr>
          <p:cNvPr id="294" name="Ryhmä 12"/>
          <p:cNvGrpSpPr/>
          <p:nvPr/>
        </p:nvGrpSpPr>
        <p:grpSpPr>
          <a:xfrm>
            <a:off x="214200" y="2357280"/>
            <a:ext cx="1785960" cy="1643400"/>
            <a:chOff x="214200" y="2357280"/>
            <a:chExt cx="1785960" cy="1643400"/>
          </a:xfrm>
        </p:grpSpPr>
        <p:grpSp>
          <p:nvGrpSpPr>
            <p:cNvPr id="295" name="Nuoli oikealle 5"/>
            <p:cNvGrpSpPr/>
            <p:nvPr/>
          </p:nvGrpSpPr>
          <p:grpSpPr>
            <a:xfrm>
              <a:off x="214200" y="2357280"/>
              <a:ext cx="1785960" cy="1643400"/>
              <a:chOff x="214200" y="2357280"/>
              <a:chExt cx="1785960" cy="1643400"/>
            </a:xfrm>
          </p:grpSpPr>
          <p:pic>
            <p:nvPicPr>
              <p:cNvPr id="296" name="Nuoli oikeal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14200" y="2357280"/>
                <a:ext cx="178596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295920" y="2808360"/>
                <a:ext cx="12362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Tekstikehys 11"/>
            <p:cNvSpPr/>
            <p:nvPr/>
          </p:nvSpPr>
          <p:spPr>
            <a:xfrm>
              <a:off x="363600" y="2824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Recognitio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e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Ryhmä 13"/>
          <p:cNvGrpSpPr/>
          <p:nvPr/>
        </p:nvGrpSpPr>
        <p:grpSpPr>
          <a:xfrm>
            <a:off x="2000160" y="2357280"/>
            <a:ext cx="1785960" cy="1643400"/>
            <a:chOff x="2000160" y="2357280"/>
            <a:chExt cx="1785960" cy="1643400"/>
          </a:xfrm>
        </p:grpSpPr>
        <p:grpSp>
          <p:nvGrpSpPr>
            <p:cNvPr id="300" name="Nuoli oikealle 14"/>
            <p:cNvGrpSpPr/>
            <p:nvPr/>
          </p:nvGrpSpPr>
          <p:grpSpPr>
            <a:xfrm>
              <a:off x="2000160" y="2357280"/>
              <a:ext cx="1785960" cy="1643400"/>
              <a:chOff x="2000160" y="2357280"/>
              <a:chExt cx="1785960" cy="1643400"/>
            </a:xfrm>
          </p:grpSpPr>
          <p:pic>
            <p:nvPicPr>
              <p:cNvPr id="301" name="Nuoli oikeal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000160" y="2357280"/>
                <a:ext cx="178596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>
                <a:off x="2081520" y="2808360"/>
                <a:ext cx="12362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Tekstikehys 15"/>
            <p:cNvSpPr/>
            <p:nvPr/>
          </p:nvSpPr>
          <p:spPr>
            <a:xfrm>
              <a:off x="2149200" y="2824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Evaluating op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Ryhmä 16"/>
          <p:cNvGrpSpPr/>
          <p:nvPr/>
        </p:nvGrpSpPr>
        <p:grpSpPr>
          <a:xfrm>
            <a:off x="3786120" y="2357280"/>
            <a:ext cx="1785960" cy="1643400"/>
            <a:chOff x="3786120" y="2357280"/>
            <a:chExt cx="1785960" cy="1643400"/>
          </a:xfrm>
        </p:grpSpPr>
        <p:grpSp>
          <p:nvGrpSpPr>
            <p:cNvPr id="305" name="Nuoli oikealle 17"/>
            <p:cNvGrpSpPr/>
            <p:nvPr/>
          </p:nvGrpSpPr>
          <p:grpSpPr>
            <a:xfrm>
              <a:off x="3786120" y="2357280"/>
              <a:ext cx="1785960" cy="1643400"/>
              <a:chOff x="3786120" y="2357280"/>
              <a:chExt cx="1785960" cy="1643400"/>
            </a:xfrm>
          </p:grpSpPr>
          <p:pic>
            <p:nvPicPr>
              <p:cNvPr id="306" name="Nuoli oikeall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6120" y="2357280"/>
                <a:ext cx="178596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3867480" y="2808360"/>
                <a:ext cx="123624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Tekstikehys 18"/>
            <p:cNvSpPr/>
            <p:nvPr/>
          </p:nvSpPr>
          <p:spPr>
            <a:xfrm>
              <a:off x="3935160" y="2824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Resolv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conser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Ryhmä 19"/>
          <p:cNvGrpSpPr/>
          <p:nvPr/>
        </p:nvGrpSpPr>
        <p:grpSpPr>
          <a:xfrm>
            <a:off x="5572080" y="2357280"/>
            <a:ext cx="2000160" cy="1643400"/>
            <a:chOff x="5572080" y="2357280"/>
            <a:chExt cx="2000160" cy="1643400"/>
          </a:xfrm>
        </p:grpSpPr>
        <p:grpSp>
          <p:nvGrpSpPr>
            <p:cNvPr id="310" name="Nuoli oikealle 20"/>
            <p:cNvGrpSpPr/>
            <p:nvPr/>
          </p:nvGrpSpPr>
          <p:grpSpPr>
            <a:xfrm>
              <a:off x="5572080" y="2357280"/>
              <a:ext cx="1806120" cy="1643400"/>
              <a:chOff x="5572080" y="2357280"/>
              <a:chExt cx="1806120" cy="1643400"/>
            </a:xfrm>
          </p:grpSpPr>
          <p:pic>
            <p:nvPicPr>
              <p:cNvPr id="311" name="Nuoli oikeall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5572080" y="2357280"/>
                <a:ext cx="180612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5654160" y="2808360"/>
                <a:ext cx="125028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Tekstikehys 21"/>
            <p:cNvSpPr/>
            <p:nvPr/>
          </p:nvSpPr>
          <p:spPr>
            <a:xfrm>
              <a:off x="5928120" y="3006720"/>
              <a:ext cx="164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Deci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Ryhmä 22"/>
          <p:cNvGrpSpPr/>
          <p:nvPr/>
        </p:nvGrpSpPr>
        <p:grpSpPr>
          <a:xfrm>
            <a:off x="7286760" y="2357280"/>
            <a:ext cx="1714320" cy="1643400"/>
            <a:chOff x="7286760" y="2357280"/>
            <a:chExt cx="1714320" cy="1643400"/>
          </a:xfrm>
        </p:grpSpPr>
        <p:grpSp>
          <p:nvGrpSpPr>
            <p:cNvPr id="315" name="Nuoli oikealle 23"/>
            <p:cNvGrpSpPr/>
            <p:nvPr/>
          </p:nvGrpSpPr>
          <p:grpSpPr>
            <a:xfrm>
              <a:off x="7286760" y="2357280"/>
              <a:ext cx="1714320" cy="1643400"/>
              <a:chOff x="7286760" y="2357280"/>
              <a:chExt cx="1714320" cy="1643400"/>
            </a:xfrm>
          </p:grpSpPr>
          <p:pic>
            <p:nvPicPr>
              <p:cNvPr id="316" name="Nuoli oikeal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7286760" y="2357280"/>
                <a:ext cx="1714320" cy="164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7365600" y="2808360"/>
                <a:ext cx="1182600" cy="74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8" name="Tekstikehys 24"/>
            <p:cNvSpPr/>
            <p:nvPr/>
          </p:nvSpPr>
          <p:spPr>
            <a:xfrm>
              <a:off x="7365600" y="3006720"/>
              <a:ext cx="155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Arial"/>
                </a:rPr>
                <a:t>Implemen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Tekstikehys 19"/>
          <p:cNvSpPr/>
          <p:nvPr/>
        </p:nvSpPr>
        <p:spPr>
          <a:xfrm>
            <a:off x="1714680" y="490536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 = BENEFITS -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äsen</dc:creator>
  <dc:description/>
  <dc:language>en-US</dc:language>
  <cp:lastModifiedBy>Hanne</cp:lastModifiedBy>
  <dcterms:modified xsi:type="dcterms:W3CDTF">2009-09-21T13:12:53Z</dcterms:modified>
  <cp:revision>36</cp:revision>
  <dc:subject/>
  <dc:title>Klubitalon 12-vuotis synttärit</dc:title>
</cp:coreProperties>
</file>