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4C6E-14F1-4E61-846E-28A8DC689A6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Dian numeron paikkamerkki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A82E-A92D-4BBC-9CAA-15F502FF5B57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Dian numeron paikkamerkki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A405-D285-49A7-98CC-FE3AC6D005C1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Dian numeron paikkamerkki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0EFF-109E-447A-B0B0-046CD5608D7F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Dian numeron paikkamerkki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596B-E47D-4774-95F2-8E20487A9575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C6E-C29D-4718-A29B-AE12BA95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E6B-2137-4323-9C1F-DA940C8A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489-1D15-4B83-A01A-F0BBD58A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430-9086-4930-AAEE-A858801A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1056-EF6A-44E2-831A-C1F57BA9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5F80-C79D-4BC6-B8EA-4B837681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FFAD-E27B-4B21-8200-170650D4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75AF-1AB0-4CDD-98A3-97016B24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4397-DD29-40EC-B459-F650FA5B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8B0B-919B-4F9A-B90E-7661C2D8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42BF-6B95-47E2-B4BE-4719FF54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8F7-1E21-4443-8290-8BD6DE74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0B5F-9DF7-4225-9965-DC18AC9E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B846-BF54-4805-A2FA-2836B296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C2BB-82EA-4EAB-9FD4-CFDA3C11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46E8-8463-4F3E-8875-E1C674C2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FE73-9071-4913-97BD-D299717B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882CC-CBB6-497F-A9B1-B62DE47A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46151-91C9-4503-82FF-808C1ECC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C8153-FA55-4FDC-AD5B-C0DD5E38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88511-FFB3-42C6-AF12-15BD9BA6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C5E31-6066-4812-9A0D-B68712E3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160-08F4-4134-939D-F03DA7AF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A65AE-3125-4BDD-B689-C8532AFC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A6A72-3427-4FA3-B5DA-DDBBAC44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BCA40-D4D4-4C03-BFD8-C3DE080E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D5688-239E-4BDE-B6AF-5B85FEC3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B1DA5-E7D9-468D-8A82-357182E5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DF952-EABB-4F68-AC11-BCD74F9D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65C1-70AE-41BF-95F2-61CAD78E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A0891-4025-46DC-9193-24147C8F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A52E9-017A-4FE0-8791-51C3499C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ACB24-CCA4-4FBB-AF7A-569DA021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532-5CC7-4E89-B3C7-FE7D0DE3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D325A-E2AD-4053-80E7-EB31ED44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CBE70-B45F-4443-8F7C-93EE9872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45D34-1D7D-45B8-A13C-816846D7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72766-8759-446E-8336-6F7B1928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83946-FCF2-496C-9EC1-7A36DE05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91A7A-9AD0-432A-B3EE-19D1F79A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E0EA2-8BB6-444B-9ED2-3F02F287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E0A11-4DB9-4FF4-AE2B-4744F3E5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206BF-ABB9-4862-BBC8-D68D7F9A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DCB6D-7D78-4250-A9C1-CB9A8973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BF6-4304-486D-BA8F-38933168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C4C5A-DC2D-426E-B183-23777840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D6157-2464-49EB-8566-6F817643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96163-97EA-45E8-A1F4-7ECE9361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04C62-07D7-483F-B14F-25B25EF9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3A47A-59F1-4AB3-ABBA-C6779475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A3AB9-AD15-4367-8C5C-7E965712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72CA6-5F3B-4D88-8120-019E0DF1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E6B54-A464-4C8D-8C82-5C83B101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4B4BD-C200-46C5-8BBA-EC34E6A0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C40B7-F45D-42FE-BFCE-5727210C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2A4-9F82-4854-93A9-0CF3E2C0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2A13D-39D7-49A7-8FC7-85910C08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5ACBB-E92E-4541-9B6B-36FF06CB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71752-80EE-4410-8F8C-A63C9091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D0E6E-C2B3-4527-9AF5-9D964654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37F26-A8F1-47A3-B296-809CADF9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45283-2CC1-4CC5-8094-24C82C5F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D4CFF-85DD-4AF8-B068-1FE49C1B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1E813-992E-4CEC-B77D-F69E875D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CADBF-DDB7-4D13-96AA-08B686B1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760E9-CFAC-418B-9A07-F901805F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D48-06D4-45EB-9CDA-8F6A2A12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7DDF0-775D-4DB7-96CF-F114E9AF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6FF27-781D-4D88-9A4B-F333F9E8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443C1-2250-4B97-9A42-AE5D7FC1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56E-8FBD-4DF3-A7D0-174AB3C2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7D5-7404-4682-8D36-C541DF54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uolivapaa piirto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uolivapaa piirto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4F32-4BA2-47EA-B5F9-0A7734A3D323}" type="slidenum">
              <a:rPr b="0" lang="fi-FI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uolivapaa piirto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uolivapaa piirto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4640-63C2-4499-AED4-1BEFEEF51FA3}" type="slidenum">
              <a:rPr b="0" lang="fi-FI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uolivapaa piirto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uolivapaa piirto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070B-AD9F-4819-976A-BB6BD311EB60}" type="slidenum">
              <a:rPr b="0" lang="fi-FI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577F-D5A9-4DC7-BB70-13212F2C992A}" type="slidenum">
              <a:rPr b="0" lang="fi-FI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uolivapaa piirto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uolivapaa piirto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DD17-CBA9-4183-A705-FA834070E2F4}" type="slidenum">
              <a:rPr b="0" lang="fi-FI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8E83-B1BF-4B7F-86CC-2D9992C2FA62}" type="slidenum">
              <a:rPr b="0" lang="fi-FI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Trainer note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SS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 TO THE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 – at the end of the session participants wi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context within which the program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shape of the five days , nature and style of th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ed their background and objectives for the program with each other (and hopefully seen some common groun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37" descr=""/>
          <p:cNvPicPr/>
          <p:nvPr/>
        </p:nvPicPr>
        <p:blipFill>
          <a:blip r:embed="rId1"/>
          <a:stretch/>
        </p:blipFill>
        <p:spPr>
          <a:xfrm>
            <a:off x="7862760" y="14292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Trainer note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INER AG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he backgrounds and objectives of the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gain some idea of who are likely to the tem players and who may have difficulty interacting with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out experience they have in their particular r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 to formulate balanced syndicate group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7" descr=""/>
          <p:cNvPicPr/>
          <p:nvPr/>
        </p:nvPicPr>
        <p:blipFill>
          <a:blip r:embed="rId1"/>
          <a:stretch/>
        </p:blipFill>
        <p:spPr>
          <a:xfrm>
            <a:off x="7862760" y="14292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</p:spTree>
  </p:cSld>
  <p:transition spd="med"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Trainer note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INER PREPA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 the flips for this ses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– name of the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da for to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keep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for instr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37" descr=""/>
          <p:cNvPicPr/>
          <p:nvPr/>
        </p:nvPicPr>
        <p:blipFill>
          <a:blip r:embed="rId1"/>
          <a:stretch/>
        </p:blipFill>
        <p:spPr>
          <a:xfrm>
            <a:off x="7862760" y="14292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Trainer note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8760" y="1571400"/>
            <a:ext cx="8501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 CHECK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Equipment</a:t>
            </a: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Slides/pp</a:t>
            </a: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Handouts/materials</a:t>
            </a: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Ryhmä 20"/>
          <p:cNvGrpSpPr/>
          <p:nvPr/>
        </p:nvGrpSpPr>
        <p:grpSpPr>
          <a:xfrm>
            <a:off x="500040" y="2357280"/>
            <a:ext cx="8001000" cy="3859200"/>
            <a:chOff x="500040" y="2357280"/>
            <a:chExt cx="8001000" cy="3859200"/>
          </a:xfrm>
        </p:grpSpPr>
        <p:pic>
          <p:nvPicPr>
            <p:cNvPr id="273" name="Suora yhdysviiva 7" descr=""/>
            <p:cNvPicPr/>
            <p:nvPr/>
          </p:nvPicPr>
          <p:blipFill>
            <a:blip r:embed="rId1"/>
            <a:stretch/>
          </p:blipFill>
          <p:spPr>
            <a:xfrm>
              <a:off x="500040" y="2407680"/>
              <a:ext cx="7869960" cy="4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Suora yhdysviiva 13"/>
            <p:cNvSpPr/>
            <p:nvPr/>
          </p:nvSpPr>
          <p:spPr>
            <a:xfrm>
              <a:off x="506160" y="2357280"/>
              <a:ext cx="79948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Suora yhdysviiva 15"/>
            <p:cNvSpPr/>
            <p:nvPr/>
          </p:nvSpPr>
          <p:spPr>
            <a:xfrm>
              <a:off x="506160" y="2927160"/>
              <a:ext cx="79948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Suora yhdysviiva 17"/>
            <p:cNvSpPr/>
            <p:nvPr/>
          </p:nvSpPr>
          <p:spPr>
            <a:xfrm flipH="1">
              <a:off x="2719080" y="2358000"/>
              <a:ext cx="1440" cy="385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Suora yhdysviiva 19"/>
            <p:cNvSpPr/>
            <p:nvPr/>
          </p:nvSpPr>
          <p:spPr>
            <a:xfrm flipH="1">
              <a:off x="5216040" y="2357280"/>
              <a:ext cx="1440" cy="385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8" name="Picture 37" descr=""/>
          <p:cNvPicPr/>
          <p:nvPr/>
        </p:nvPicPr>
        <p:blipFill>
          <a:blip r:embed="rId2"/>
          <a:stretch/>
        </p:blipFill>
        <p:spPr>
          <a:xfrm>
            <a:off x="7862760" y="18720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</p:spTree>
  </p:cSld>
  <p:transition spd="med">
    <p:pull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Trainer note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INER PREPA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 the flips for this ses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– name of the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da for to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keep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for instr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37" descr=""/>
          <p:cNvPicPr/>
          <p:nvPr/>
        </p:nvPicPr>
        <p:blipFill>
          <a:blip r:embed="rId1"/>
          <a:stretch/>
        </p:blipFill>
        <p:spPr>
          <a:xfrm>
            <a:off x="7862760" y="14292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</p:spTree>
  </p:cSld>
  <p:transition spd="med">
    <p:pull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A few questions 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WE STARTED OUR J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Did we really have shared vision – common understanding – what kind of support members need and for wh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37" descr=""/>
          <p:cNvPicPr/>
          <p:nvPr/>
        </p:nvPicPr>
        <p:blipFill>
          <a:blip r:embed="rId1"/>
          <a:stretch/>
        </p:blipFill>
        <p:spPr>
          <a:xfrm>
            <a:off x="7862760" y="14292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</p:spTree>
  </p:cSld>
  <p:transition spd="med">
    <p:pull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Three examples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HYGIENE G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BUS DRIVER´S LIC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ASSISTANT N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Where is the difference?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37" descr=""/>
          <p:cNvPicPr/>
          <p:nvPr/>
        </p:nvPicPr>
        <p:blipFill>
          <a:blip r:embed="rId1"/>
          <a:stretch/>
        </p:blipFill>
        <p:spPr>
          <a:xfrm>
            <a:off x="7862760" y="14292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Three examples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56760" y="1643040"/>
            <a:ext cx="8215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HYGIENE G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BUS DRIVER´S LIC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ASSISTANT N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Common factor – </a:t>
            </a:r>
            <a:r>
              <a:rPr b="1" i="1" lang="fi-FI" sz="2400" spc="-1" strike="noStrike">
                <a:solidFill>
                  <a:srgbClr val="ffffff"/>
                </a:solidFill>
                <a:latin typeface="Arial"/>
              </a:rPr>
              <a:t>DECISION MAKING PROC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37" descr=""/>
          <p:cNvPicPr/>
          <p:nvPr/>
        </p:nvPicPr>
        <p:blipFill>
          <a:blip r:embed="rId1"/>
          <a:stretch/>
        </p:blipFill>
        <p:spPr>
          <a:xfrm>
            <a:off x="7862760" y="14292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Decision</a:t>
            </a: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 Making and Suppor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Member Decision Proc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Support is a value creating proces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37" descr=""/>
          <p:cNvPicPr/>
          <p:nvPr/>
        </p:nvPicPr>
        <p:blipFill>
          <a:blip r:embed="rId1"/>
          <a:stretch/>
        </p:blipFill>
        <p:spPr>
          <a:xfrm>
            <a:off x="7862760" y="14292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  <p:grpSp>
        <p:nvGrpSpPr>
          <p:cNvPr id="294" name="Ryhmä 12"/>
          <p:cNvGrpSpPr/>
          <p:nvPr/>
        </p:nvGrpSpPr>
        <p:grpSpPr>
          <a:xfrm>
            <a:off x="214200" y="2357280"/>
            <a:ext cx="1785960" cy="1643400"/>
            <a:chOff x="214200" y="2357280"/>
            <a:chExt cx="1785960" cy="1643400"/>
          </a:xfrm>
        </p:grpSpPr>
        <p:grpSp>
          <p:nvGrpSpPr>
            <p:cNvPr id="295" name="Nuoli oikealle 5"/>
            <p:cNvGrpSpPr/>
            <p:nvPr/>
          </p:nvGrpSpPr>
          <p:grpSpPr>
            <a:xfrm>
              <a:off x="214200" y="2357280"/>
              <a:ext cx="1785960" cy="1643400"/>
              <a:chOff x="214200" y="2357280"/>
              <a:chExt cx="1785960" cy="1643400"/>
            </a:xfrm>
          </p:grpSpPr>
          <p:pic>
            <p:nvPicPr>
              <p:cNvPr id="296" name="Nuoli oikeal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14200" y="2357280"/>
                <a:ext cx="1785960" cy="164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295920" y="2808360"/>
                <a:ext cx="1236240" cy="74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Tekstikehys 11"/>
            <p:cNvSpPr/>
            <p:nvPr/>
          </p:nvSpPr>
          <p:spPr>
            <a:xfrm>
              <a:off x="363600" y="2824560"/>
              <a:ext cx="162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Recognitio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e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Ryhmä 13"/>
          <p:cNvGrpSpPr/>
          <p:nvPr/>
        </p:nvGrpSpPr>
        <p:grpSpPr>
          <a:xfrm>
            <a:off x="2000160" y="2357280"/>
            <a:ext cx="1785960" cy="1643400"/>
            <a:chOff x="2000160" y="2357280"/>
            <a:chExt cx="1785960" cy="1643400"/>
          </a:xfrm>
        </p:grpSpPr>
        <p:grpSp>
          <p:nvGrpSpPr>
            <p:cNvPr id="300" name="Nuoli oikealle 14"/>
            <p:cNvGrpSpPr/>
            <p:nvPr/>
          </p:nvGrpSpPr>
          <p:grpSpPr>
            <a:xfrm>
              <a:off x="2000160" y="2357280"/>
              <a:ext cx="1785960" cy="1643400"/>
              <a:chOff x="2000160" y="2357280"/>
              <a:chExt cx="1785960" cy="1643400"/>
            </a:xfrm>
          </p:grpSpPr>
          <p:pic>
            <p:nvPicPr>
              <p:cNvPr id="301" name="Nuoli oikeal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000160" y="2357280"/>
                <a:ext cx="1785960" cy="164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2081520" y="2808360"/>
                <a:ext cx="1236240" cy="74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Tekstikehys 15"/>
            <p:cNvSpPr/>
            <p:nvPr/>
          </p:nvSpPr>
          <p:spPr>
            <a:xfrm>
              <a:off x="2149200" y="2824560"/>
              <a:ext cx="162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Evaluating op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Ryhmä 16"/>
          <p:cNvGrpSpPr/>
          <p:nvPr/>
        </p:nvGrpSpPr>
        <p:grpSpPr>
          <a:xfrm>
            <a:off x="3786120" y="2357280"/>
            <a:ext cx="1785960" cy="1643400"/>
            <a:chOff x="3786120" y="2357280"/>
            <a:chExt cx="1785960" cy="1643400"/>
          </a:xfrm>
        </p:grpSpPr>
        <p:grpSp>
          <p:nvGrpSpPr>
            <p:cNvPr id="305" name="Nuoli oikealle 17"/>
            <p:cNvGrpSpPr/>
            <p:nvPr/>
          </p:nvGrpSpPr>
          <p:grpSpPr>
            <a:xfrm>
              <a:off x="3786120" y="2357280"/>
              <a:ext cx="1785960" cy="1643400"/>
              <a:chOff x="3786120" y="2357280"/>
              <a:chExt cx="1785960" cy="1643400"/>
            </a:xfrm>
          </p:grpSpPr>
          <p:pic>
            <p:nvPicPr>
              <p:cNvPr id="306" name="Nuoli oikeal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6120" y="2357280"/>
                <a:ext cx="1785960" cy="164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3867480" y="2808360"/>
                <a:ext cx="1236240" cy="74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Tekstikehys 18"/>
            <p:cNvSpPr/>
            <p:nvPr/>
          </p:nvSpPr>
          <p:spPr>
            <a:xfrm>
              <a:off x="3935160" y="2824560"/>
              <a:ext cx="162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Resolv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conser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Ryhmä 19"/>
          <p:cNvGrpSpPr/>
          <p:nvPr/>
        </p:nvGrpSpPr>
        <p:grpSpPr>
          <a:xfrm>
            <a:off x="5572080" y="2357280"/>
            <a:ext cx="2000160" cy="1643400"/>
            <a:chOff x="5572080" y="2357280"/>
            <a:chExt cx="2000160" cy="1643400"/>
          </a:xfrm>
        </p:grpSpPr>
        <p:grpSp>
          <p:nvGrpSpPr>
            <p:cNvPr id="310" name="Nuoli oikealle 20"/>
            <p:cNvGrpSpPr/>
            <p:nvPr/>
          </p:nvGrpSpPr>
          <p:grpSpPr>
            <a:xfrm>
              <a:off x="5572080" y="2357280"/>
              <a:ext cx="1806120" cy="1643400"/>
              <a:chOff x="5572080" y="2357280"/>
              <a:chExt cx="1806120" cy="1643400"/>
            </a:xfrm>
          </p:grpSpPr>
          <p:pic>
            <p:nvPicPr>
              <p:cNvPr id="311" name="Nuoli oikeal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5572080" y="2357280"/>
                <a:ext cx="1806120" cy="164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5654160" y="2808360"/>
                <a:ext cx="1250280" cy="74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Tekstikehys 21"/>
            <p:cNvSpPr/>
            <p:nvPr/>
          </p:nvSpPr>
          <p:spPr>
            <a:xfrm>
              <a:off x="5928120" y="3006720"/>
              <a:ext cx="164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Ryhmä 22"/>
          <p:cNvGrpSpPr/>
          <p:nvPr/>
        </p:nvGrpSpPr>
        <p:grpSpPr>
          <a:xfrm>
            <a:off x="7286760" y="2357280"/>
            <a:ext cx="1714320" cy="1643400"/>
            <a:chOff x="7286760" y="2357280"/>
            <a:chExt cx="1714320" cy="1643400"/>
          </a:xfrm>
        </p:grpSpPr>
        <p:grpSp>
          <p:nvGrpSpPr>
            <p:cNvPr id="315" name="Nuoli oikealle 23"/>
            <p:cNvGrpSpPr/>
            <p:nvPr/>
          </p:nvGrpSpPr>
          <p:grpSpPr>
            <a:xfrm>
              <a:off x="7286760" y="2357280"/>
              <a:ext cx="1714320" cy="1643400"/>
              <a:chOff x="7286760" y="2357280"/>
              <a:chExt cx="1714320" cy="1643400"/>
            </a:xfrm>
          </p:grpSpPr>
          <p:pic>
            <p:nvPicPr>
              <p:cNvPr id="316" name="Nuoli oikealle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7286760" y="2357280"/>
                <a:ext cx="1714320" cy="164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7365600" y="2808360"/>
                <a:ext cx="1182600" cy="74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8" name="Tekstikehys 24"/>
            <p:cNvSpPr/>
            <p:nvPr/>
          </p:nvSpPr>
          <p:spPr>
            <a:xfrm>
              <a:off x="7365600" y="3006720"/>
              <a:ext cx="155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mplemen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Tekstikehys 19"/>
          <p:cNvSpPr/>
          <p:nvPr/>
        </p:nvSpPr>
        <p:spPr>
          <a:xfrm>
            <a:off x="1714680" y="49053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UE = BENEFITS -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äsen</dc:creator>
  <dc:description/>
  <dc:language>en-US</dc:language>
  <cp:lastModifiedBy>Hanne</cp:lastModifiedBy>
  <dcterms:modified xsi:type="dcterms:W3CDTF">2009-09-21T13:12:53Z</dcterms:modified>
  <cp:revision>36</cp:revision>
  <dc:subject/>
  <dc:title>Klubitalon 12-vuotis synttärit</dc:title>
</cp:coreProperties>
</file>