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9E9D5-DD39-43EC-AA9F-0B20802A5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72067-BCB4-43B9-A184-3D0BEC719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FA0F9-976E-4597-9865-D740FEE3B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B7524-D2FD-4A10-ACED-0AC430D7D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C3FC5-E66A-44B8-A66D-BE69B01B9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F9309-1C41-46FB-BB7E-E5B1667A2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193FC-AA2C-4C41-AD44-4519171F6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88BBA-CC50-42EE-9FF5-8AFFFCF77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98684-98F4-4864-8B93-4A988AE39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1577B-ED7B-44AE-805C-16A213BDF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83462-FC46-4B94-98B7-5E1908F8A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C7EF4-9E3E-4441-964A-A3840FE41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4F30-0A5E-4A9E-96D2-603E5B1D4E54}" type="slidenum">
              <a:rPr b="0" lang="da-DK"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Calibri"/>
              </a:rPr>
              <a:t>Some comments on the WP reports and the discussions at this conference</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a-DK"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Calibri"/>
              </a:rPr>
              <a:t>About me</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Name: Jakob Andersen, 36 years, live in C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A FH beginner (about 4-5 mont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Member of Bookend FH C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University student since 20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Currently doing my thesis in socialpsycholog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	</a:t>
            </a:r>
            <a:r>
              <a:rPr b="0" lang="da-DK" sz="3200" spc="-1" strike="noStrike">
                <a:solidFill>
                  <a:srgbClr val="000000"/>
                </a:solidFill>
                <a:latin typeface="Calibri"/>
              </a:rPr>
              <a:t>at Roskilde University (30 km west of CP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Calibri"/>
              </a:rPr>
              <a:t>Subject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The relation between society, FH values and learning by particip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1. Social integration in contemporary socie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2. 2 ways to look at th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3. FH model, values and socie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4. ELECT and Learning through particip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5.Fu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Calibri"/>
              </a:rPr>
              <a:t>1. Social integration in contemporary society</a:t>
            </a:r>
            <a:br>
              <a:rPr sz="4000"/>
            </a:br>
            <a:endParaRPr b="0" lang="en-US" sz="4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What is the integrating force in societ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	</a:t>
            </a:r>
            <a:r>
              <a:rPr b="0" lang="da-DK" sz="3000" spc="-1" strike="noStrike">
                <a:solidFill>
                  <a:srgbClr val="000000"/>
                </a:solidFill>
                <a:latin typeface="Calibri"/>
              </a:rPr>
              <a:t>The fast changing society. (Or the semantics of)</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	</a:t>
            </a:r>
            <a:r>
              <a:rPr b="0" lang="da-DK" sz="3000" spc="-1" strike="noStrike">
                <a:solidFill>
                  <a:srgbClr val="000000"/>
                </a:solidFill>
                <a:latin typeface="Calibri"/>
              </a:rPr>
              <a:t>- No simple way to explain thi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	</a:t>
            </a:r>
            <a:r>
              <a:rPr b="0" lang="da-DK" sz="3000" spc="-1" strike="noStrike">
                <a:solidFill>
                  <a:srgbClr val="000000"/>
                </a:solidFill>
                <a:latin typeface="Calibri"/>
              </a:rPr>
              <a:t>- very complex mechanism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Bu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	</a:t>
            </a:r>
            <a:r>
              <a:rPr b="0" lang="da-DK" sz="3000" spc="-1" strike="noStrike">
                <a:solidFill>
                  <a:srgbClr val="000000"/>
                </a:solidFill>
                <a:latin typeface="Calibri"/>
              </a:rPr>
              <a:t>To point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	</a:t>
            </a:r>
            <a:r>
              <a:rPr b="0" lang="da-DK" sz="3000" spc="-1" strike="noStrike">
                <a:solidFill>
                  <a:srgbClr val="000000"/>
                </a:solidFill>
                <a:latin typeface="Calibri"/>
              </a:rPr>
              <a:t>1. By work</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And/or</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	</a:t>
            </a:r>
            <a:r>
              <a:rPr b="0" lang="da-DK" sz="3000" spc="-1" strike="noStrike">
                <a:solidFill>
                  <a:srgbClr val="000000"/>
                </a:solidFill>
                <a:latin typeface="Calibri"/>
              </a:rPr>
              <a:t>2. Particip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Calibri"/>
              </a:rPr>
              <a:t>2 over-simplified ways of trying to explain.</a:t>
            </a: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000000"/>
                </a:solidFill>
                <a:latin typeface="Calibri"/>
              </a:rPr>
              <a:t>2. Principle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000000"/>
                </a:solidFill>
                <a:latin typeface="Calibri"/>
              </a:rPr>
              <a:t>1. Principle is Hierarchy: Society is structered by economic and cultural power (the first is the most importa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000000"/>
                </a:solidFill>
                <a:latin typeface="Calibri"/>
              </a:rPr>
              <a:t>”</a:t>
            </a:r>
            <a:r>
              <a:rPr b="0" lang="da-DK" sz="2700" spc="-1" strike="noStrike">
                <a:solidFill>
                  <a:srgbClr val="000000"/>
                </a:solidFill>
                <a:latin typeface="Calibri"/>
              </a:rPr>
              <a:t>The have” and ”the have no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000000"/>
                </a:solidFill>
                <a:latin typeface="Calibri"/>
              </a:rPr>
              <a:t>Work and education give economic and cultural power (and mental illnes tend to serius disrupt th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000000"/>
                </a:solidFill>
                <a:latin typeface="Calibri"/>
              </a:rPr>
              <a:t>Work is the only real way of social integr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000000"/>
                </a:solidFill>
                <a:latin typeface="Calibri"/>
              </a:rPr>
              <a:t>Marx (class), Bourdieu (symbolic power)</a:t>
            </a:r>
            <a:r>
              <a:rPr b="0" lang="da-DK"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Calibri"/>
              </a:rPr>
              <a:t>2. continued</a:t>
            </a:r>
            <a:endParaRPr b="0" lang="en-US" sz="4000" spc="-1" strike="noStrike">
              <a:solidFill>
                <a:srgbClr val="000000"/>
              </a:solidFill>
              <a:latin typeface="Calibri"/>
            </a:endParaRPr>
          </a:p>
        </p:txBody>
      </p:sp>
      <p:sp>
        <p:nvSpPr>
          <p:cNvPr id="52" name=""/>
          <p:cNvSpPr txBox="1"/>
          <p:nvPr/>
        </p:nvSpPr>
        <p:spPr>
          <a:xfrm>
            <a:off x="428760" y="785520"/>
            <a:ext cx="8229600" cy="542916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2. principle is differensation (Durkheim, Luhman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Society is functional differentiated in all sorts of ways: state, government, private business, organisations, work, family, networks and by our everyday activities etc.(work, shopping, driving our kids to school and so 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Participation i all these activities from voting to shopping define how well we are integrated in societ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And again mental illnes can disrupt our capability to participa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Calibri"/>
              </a:rPr>
              <a:t>3. FH model, values and soceity</a:t>
            </a:r>
            <a:endParaRPr b="0" lang="en-US" sz="4400" spc="-1" strike="noStrike">
              <a:solidFill>
                <a:srgbClr val="000000"/>
              </a:solidFill>
              <a:latin typeface="Calibri"/>
            </a:endParaRPr>
          </a:p>
        </p:txBody>
      </p:sp>
      <p:sp>
        <p:nvSpPr>
          <p:cNvPr id="54" name=""/>
          <p:cNvSpPr txBox="1"/>
          <p:nvPr/>
        </p:nvSpPr>
        <p:spPr>
          <a:xfrm>
            <a:off x="457200" y="1214280"/>
            <a:ext cx="8229600" cy="5214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In my opinion FHs core value is all about inclussion of peoble whose ability to participate in ”the real world” has been disrup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The FH model is about designing and facilitating some everyday meaningfull activities which members can participate in, and which might even strengthen members ability to participate ”in the real worl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000" spc="-1" strike="noStrike">
                <a:solidFill>
                  <a:srgbClr val="000000"/>
                </a:solidFill>
                <a:latin typeface="Calibri"/>
              </a:rPr>
              <a:t>4.</a:t>
            </a:r>
            <a:br>
              <a:rPr sz="4000"/>
            </a:br>
            <a:r>
              <a:rPr b="0" lang="da-DK" sz="4000" spc="-1" strike="noStrike">
                <a:solidFill>
                  <a:srgbClr val="000000"/>
                </a:solidFill>
                <a:latin typeface="Calibri"/>
              </a:rPr>
              <a:t>ELECT and Learning through participation</a:t>
            </a:r>
            <a:endParaRPr b="0" lang="en-US" sz="4000" spc="-1" strike="noStrike">
              <a:solidFill>
                <a:srgbClr val="000000"/>
              </a:solidFill>
              <a:latin typeface="Calibri"/>
            </a:endParaRPr>
          </a:p>
        </p:txBody>
      </p:sp>
      <p:sp>
        <p:nvSpPr>
          <p:cNvPr id="56" name=""/>
          <p:cNvSpPr txBox="1"/>
          <p:nvPr/>
        </p:nvSpPr>
        <p:spPr>
          <a:xfrm>
            <a:off x="428760" y="178596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a:t>
            </a:r>
            <a:r>
              <a:rPr b="0" lang="da-DK" sz="3200" spc="-1" strike="noStrike">
                <a:solidFill>
                  <a:srgbClr val="000000"/>
                </a:solidFill>
                <a:latin typeface="Calibri"/>
              </a:rPr>
              <a:t>Learning through participation” is a concept that stresses the focus on the dynamics between society, peobles capabilities and the experiences they obtain by participating in everyday activiti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Calibri"/>
              </a:rPr>
              <a:t> </a:t>
            </a:r>
            <a:r>
              <a:rPr b="0" lang="da-DK" sz="3200" spc="-1" strike="noStrike">
                <a:solidFill>
                  <a:srgbClr val="000000"/>
                </a:solidFill>
                <a:latin typeface="Calibri"/>
              </a:rPr>
              <a:t>I see ELECT as an activity where you have gained a lot of valuable knowlegde about how to facilitate learning by participation, and the reports are not at all telling the full sto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4400" spc="-1" strike="noStrike">
                <a:solidFill>
                  <a:srgbClr val="000000"/>
                </a:solidFill>
                <a:latin typeface="Calibri"/>
              </a:rPr>
              <a:t>5.Future</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A very good idea to keep on developping and discribing methods that can strenghthen peobles ability to participat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The Fountain Houses should on organizational level try to work out ways to a) share and develop methods and b) think about how this knowlegde can be benifitial to rest of socie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Calibri"/>
              </a:rPr>
              <a:t>Be carefull with a to narrow focus on ability to work as a success criteria. (the problem of evaluation and politic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19:46:12Z</dcterms:created>
  <dc:creator>Jakob Andersen</dc:creator>
  <dc:description/>
  <dc:language>en-US</dc:language>
  <cp:lastModifiedBy>Ville Grönberg</cp:lastModifiedBy>
  <dcterms:modified xsi:type="dcterms:W3CDTF">2009-09-25T08:18:59Z</dcterms:modified>
  <cp:revision>22</cp:revision>
  <dc:subject/>
  <dc:title>Some comments on the WP reports and the discussions at this conference</dc:title>
</cp:coreProperties>
</file>