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5854E-3E09-4D87-8B8A-EA8C9479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C4B88-145A-489B-A965-C2112F73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AAD16-8A91-4467-9DD4-4F0FD7A2E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74217-8FCB-4AF7-89D6-51FFA928F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7262-1CEB-44ED-9DA8-E5A99B24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38DD9-4959-4197-A393-8926DBC2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B485-2753-48F2-812C-31C79D71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3A3E-4FEB-4431-8C1C-F7970CFC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4B78-7E2B-4E3D-B5B4-676E8F24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502F-822D-4E57-A2AB-E77BDBBBF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1963-D3B3-4937-A618-FFE3922AE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9B51-E44A-4F85-9017-5F29D1162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BD60-75A9-4CED-803E-8F25546E4783}" type="slidenum">
              <a:rPr b="0" lang="da-DK"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Some comments on the WP reports and the discussions at this conference</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About m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Name: Jakob Andersen, 36 years, live in C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 FH beginner (about 4-5 mon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Member of Bookend FH C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University student since 20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Currently doing my thesis in socialpsycholo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	</a:t>
            </a:r>
            <a:r>
              <a:rPr b="0" lang="da-DK" sz="3200" spc="-1" strike="noStrike">
                <a:solidFill>
                  <a:srgbClr val="000000"/>
                </a:solidFill>
                <a:latin typeface="Calibri"/>
              </a:rPr>
              <a:t>at Roskilde University (30 km west of C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Subjec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The relation between society, FH values and learning by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1. Social integration in contemporary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2. 2 ways to look at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3. FH model, values and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4. ELECT and Learning through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5.Fu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1. Social integration in contemporary society</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What is the integrating force in socie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The fast changing society. (Or the semantics of)</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 No simple way to explain thi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 very complex mechanism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Bu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To poin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1. By work</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nd/o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2. Particip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2 over-simplified ways of trying to explain.</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2. Principl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1. Principle is Hierarchy: Society is structered by economic and cultural power (the first is the most importa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a:t>
            </a:r>
            <a:r>
              <a:rPr b="0" lang="da-DK" sz="2700" spc="-1" strike="noStrike">
                <a:solidFill>
                  <a:srgbClr val="000000"/>
                </a:solidFill>
                <a:latin typeface="Calibri"/>
              </a:rPr>
              <a:t>The have” and ”the have no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Work and education give economic and cultural power (and mental illnes tend to serius disrupt th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Work is the only real way of social integ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Marx (class), Bourdieu (symbolic power)</a:t>
            </a:r>
            <a:r>
              <a:rPr b="0" lang="da-DK"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2. continued</a:t>
            </a:r>
            <a:endParaRPr b="0" lang="en-US" sz="4000" spc="-1" strike="noStrike">
              <a:solidFill>
                <a:srgbClr val="000000"/>
              </a:solidFill>
              <a:latin typeface="Calibri"/>
            </a:endParaRPr>
          </a:p>
        </p:txBody>
      </p:sp>
      <p:sp>
        <p:nvSpPr>
          <p:cNvPr id="52" name=""/>
          <p:cNvSpPr txBox="1"/>
          <p:nvPr/>
        </p:nvSpPr>
        <p:spPr>
          <a:xfrm>
            <a:off x="428760" y="785520"/>
            <a:ext cx="8229600" cy="54291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2. principle is differensation (Durkheim, Luhman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Society is functional differentiated in all sorts of ways: state, government, private business, organisations, work, family, networks and by our everyday activities etc.(work, shopping, driving our kids to school and so 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Participation i all these activities from voting to shopping define how well we are integrated in socie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nd again mental illnes can disrupt our capability to particip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3. FH model, values and soceity</a:t>
            </a:r>
            <a:endParaRPr b="0" lang="en-US" sz="4400" spc="-1" strike="noStrike">
              <a:solidFill>
                <a:srgbClr val="000000"/>
              </a:solidFill>
              <a:latin typeface="Calibri"/>
            </a:endParaRPr>
          </a:p>
        </p:txBody>
      </p:sp>
      <p:sp>
        <p:nvSpPr>
          <p:cNvPr id="54" name=""/>
          <p:cNvSpPr txBox="1"/>
          <p:nvPr/>
        </p:nvSpPr>
        <p:spPr>
          <a:xfrm>
            <a:off x="457200" y="1214280"/>
            <a:ext cx="8229600" cy="521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In my opinion FHs core value is all about inclussion of peoble whose ability to participate in ”the real world” has been disru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The FH model is about designing and facilitating some everyday meaningfull activities which members can participate in, and which might even strengthen members ability to participate ”in the real worl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4.</a:t>
            </a:r>
            <a:br>
              <a:rPr sz="4000"/>
            </a:br>
            <a:r>
              <a:rPr b="0" lang="da-DK" sz="4000" spc="-1" strike="noStrike">
                <a:solidFill>
                  <a:srgbClr val="000000"/>
                </a:solidFill>
                <a:latin typeface="Calibri"/>
              </a:rPr>
              <a:t>ELECT and Learning through participation</a:t>
            </a:r>
            <a:endParaRPr b="0" lang="en-US" sz="4000" spc="-1" strike="noStrike">
              <a:solidFill>
                <a:srgbClr val="000000"/>
              </a:solidFill>
              <a:latin typeface="Calibri"/>
            </a:endParaRPr>
          </a:p>
        </p:txBody>
      </p:sp>
      <p:sp>
        <p:nvSpPr>
          <p:cNvPr id="56" name=""/>
          <p:cNvSpPr txBox="1"/>
          <p:nvPr/>
        </p:nvSpPr>
        <p:spPr>
          <a:xfrm>
            <a:off x="428760" y="17859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Learning through participation” is a concept that stresses the focus on the dynamics between society, peobles capabilities and the experiences they obtain by participating in everyday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 </a:t>
            </a:r>
            <a:r>
              <a:rPr b="0" lang="da-DK" sz="3200" spc="-1" strike="noStrike">
                <a:solidFill>
                  <a:srgbClr val="000000"/>
                </a:solidFill>
                <a:latin typeface="Calibri"/>
              </a:rPr>
              <a:t>I see ELECT as an activity where you have gained a lot of valuable knowlegde about how to facilitate learning by participation, and the reports are not at all telling the full 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5.Fut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 very good idea to keep on developping and discribing methods that can strenghthen peobles ability to particip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The Fountain Houses should on organizational level try to work out ways to a) share and develop methods and b) think about how this knowlegde can be benifitial to rest of socie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Be carefull with a to narrow focus on ability to work as a success criteria. (the problem of evaluation and polit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9:46:12Z</dcterms:created>
  <dc:creator>Jakob Andersen</dc:creator>
  <dc:description/>
  <dc:language>en-US</dc:language>
  <cp:lastModifiedBy>Ville Grönberg</cp:lastModifiedBy>
  <dcterms:modified xsi:type="dcterms:W3CDTF">2009-09-25T08:18:59Z</dcterms:modified>
  <cp:revision>22</cp:revision>
  <dc:subject/>
  <dc:title>Some comments on the WP reports and the discussions at this conference</dc:title>
</cp:coreProperties>
</file>