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4.wmf" ContentType="image/x-wmf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92840" cy="99075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504">
                <a:moveTo>
                  <a:pt x="5" y="0"/>
                </a:moveTo>
                <a:arcTo wR="5" hR="5" stAng="16200000" swAng="-5400000"/>
                <a:lnTo>
                  <a:pt x="0" y="31499"/>
                </a:lnTo>
                <a:arcTo wR="5" hR="5" stAng="10800000" swAng="-5400000"/>
                <a:lnTo>
                  <a:pt x="21595" y="3150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1440" cy="371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4200" cy="4456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7"/>
          </p:nvPr>
        </p:nvSpPr>
        <p:spPr>
          <a:xfrm>
            <a:off x="3848040" y="9408960"/>
            <a:ext cx="2943360" cy="493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D4F3B-99C1-4B51-8206-7F5CED99B2E9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BE634C-0246-4C14-9807-1EC362AD2C6E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30240" y="749160"/>
            <a:ext cx="49356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38CA-CCDA-44CC-9460-1892059B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748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922-CA53-41A5-8870-5AEB73DB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740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482-0A27-4A47-8845-3D46ACC3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32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344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32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344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8A1-15C1-42CE-926A-783EF836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72CA-53AE-4C68-BE20-5005C9E0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6CD7-5F87-41C6-BE52-71CA4201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C295-2942-4E1B-B3FB-EB71D0DD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569E-C0ED-462C-AC36-3F8C93C9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7250-0704-465B-A3DF-939439A7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58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4B35-944A-45E8-BEE7-D45C0642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6F2D-0D28-40C5-AC3E-2E6D2591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3AD-9250-4B52-ACD1-43CBC4CB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740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49CB-1085-4437-94AB-E4503400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8C87-74A5-4386-B269-B741E31E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748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0948-A03B-46CC-8572-F97CF756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740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A60B-A840-403C-9D46-E971EE5A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32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344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32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344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4E77-18A0-46E7-9AFC-CAF671D1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141-970D-4B58-8BE4-F09444E7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76E-F4FF-42DB-9CB6-3019B8DE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F68-CC36-45DE-960D-BE05B4B2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58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6E0-3A9E-4854-8A45-8CFAFEEF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B14-E415-42D2-AD17-919D757B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740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1F7-D365-4259-A161-09E9C0CA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4B2-3C0D-4FE2-82D9-15C27FE7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39640" y="6308640"/>
            <a:ext cx="3614400" cy="106560"/>
            <a:chOff x="539640" y="6308640"/>
            <a:chExt cx="3614400" cy="106560"/>
          </a:xfrm>
        </p:grpSpPr>
        <p:sp>
          <p:nvSpPr>
            <p:cNvPr id="1" name=""/>
            <p:cNvSpPr/>
            <p:nvPr/>
          </p:nvSpPr>
          <p:spPr>
            <a:xfrm>
              <a:off x="2143800" y="6308640"/>
              <a:ext cx="2010240" cy="106560"/>
            </a:xfrm>
            <a:prstGeom prst="pie">
              <a:avLst/>
            </a:pr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308640"/>
              <a:ext cx="1531080" cy="106560"/>
            </a:xfrm>
            <a:prstGeom prst="pie">
              <a:avLst/>
            </a:pr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2440" indent="-2635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496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653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653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653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578280"/>
            <a:ext cx="1089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4FD015-C164-4B73-A651-D1A017B01909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547280" y="6582960"/>
            <a:ext cx="6046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596360" y="6582960"/>
            <a:ext cx="1077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71E87A-9D10-4883-91B5-7A3FD4222A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241280" y="3951360"/>
            <a:ext cx="6659280" cy="196920"/>
            <a:chOff x="1241280" y="3951360"/>
            <a:chExt cx="6659280" cy="196920"/>
          </a:xfrm>
        </p:grpSpPr>
        <p:sp>
          <p:nvSpPr>
            <p:cNvPr id="47" name=""/>
            <p:cNvSpPr/>
            <p:nvPr/>
          </p:nvSpPr>
          <p:spPr>
            <a:xfrm>
              <a:off x="4194720" y="3951360"/>
              <a:ext cx="3705840" cy="196920"/>
            </a:xfrm>
            <a:prstGeom prst="pie">
              <a:avLst/>
            </a:pr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41280" y="3951360"/>
              <a:ext cx="2819880" cy="196920"/>
            </a:xfrm>
            <a:prstGeom prst="pie">
              <a:avLst/>
            </a:pr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32240" y="568440"/>
            <a:ext cx="3668400" cy="294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2440" indent="-2635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496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653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653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653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78280"/>
            <a:ext cx="1089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ACB4418-E45E-453B-95AB-9C1B7F17B5C3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280" y="6582960"/>
            <a:ext cx="6046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82960"/>
            <a:ext cx="1077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CB0D800-72C5-43AB-9F7E-4E8A1BB887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ho.int/en/disability" TargetMode="External"/><Relationship Id="rId2" Type="http://schemas.openxmlformats.org/officeDocument/2006/relationships/hyperlink" Target="http://www.iccd.org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ccd.org/" TargetMode="External"/><Relationship Id="rId2" Type="http://schemas.openxmlformats.org/officeDocument/2006/relationships/hyperlink" Target="http://www.who.int/en/disability" TargetMode="External"/><Relationship Id="rId3" Type="http://schemas.openxmlformats.org/officeDocument/2006/relationships/hyperlink" Target="http://www.elect-project.eu/" TargetMode="External"/><Relationship Id="rId4" Type="http://schemas.openxmlformats.org/officeDocument/2006/relationships/hyperlink" Target="http://www.helsinginklubitalo.org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4579920"/>
            <a:ext cx="8207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Finland’s Clubhouse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Report 200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5661000"/>
            <a:ext cx="8207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in years 2004 -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6524640"/>
            <a:ext cx="6048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718530-9800-410B-988E-A3A494963E7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CA4A-B393-47A4-B0A0-C469E3D4176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20728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 u="sng">
                <a:solidFill>
                  <a:srgbClr val="7bc143"/>
                </a:solidFill>
                <a:uFillTx/>
                <a:latin typeface="Arial"/>
              </a:rPr>
              <a:t>Main Findings of the Follow Up Study</a:t>
            </a:r>
            <a:br>
              <a:rPr sz="3000"/>
            </a:br>
            <a:r>
              <a:rPr b="1" lang="en-US" sz="3000" spc="-1" strike="noStrike" u="sng">
                <a:solidFill>
                  <a:srgbClr val="7bc143"/>
                </a:solidFill>
                <a:uFillTx/>
                <a:latin typeface="Arial"/>
              </a:rPr>
              <a:t>in FINLAND, published in March 2009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550880"/>
          <a:ext cx="8204040" cy="43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50880"/>
                    <a:ext cx="820404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 u="sng">
                <a:solidFill>
                  <a:srgbClr val="7bc143"/>
                </a:solidFill>
                <a:uFillTx/>
                <a:latin typeface="Arial"/>
              </a:rPr>
              <a:t>Development Needs Reported by CHs</a:t>
            </a:r>
            <a:r>
              <a:rPr b="1" lang="fi-FI" sz="3400" spc="-1" strike="noStrike" u="sng">
                <a:solidFill>
                  <a:srgbClr val="7bc143"/>
                </a:solidFill>
                <a:uFillTx/>
                <a:latin typeface="Arial"/>
              </a:rPr>
              <a:t> 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821700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ing the Transitional Employment is a continuous challenge for many C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nt of the work-ordered da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for increase of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cing problems – more money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e-time program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6F8-7714-46C2-A8BF-413720729F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001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Integrative Pathway from Dependency to Independent L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1486080"/>
            <a:ext cx="2735280" cy="3887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14760" y="1076400"/>
            <a:ext cx="38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Clubhouse as Lear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3576600"/>
            <a:ext cx="216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bc9c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bc9c7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Psychosocial rehabil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Work-ordered d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Pre-training / learning to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learn / Computer skill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Peer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6288120"/>
            <a:ext cx="8280360" cy="453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Individual Empowerment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734080"/>
            <a:ext cx="3960720" cy="5763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Mental Health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9080" y="5734080"/>
            <a:ext cx="4319640" cy="5763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Supported education &amp; training. Transition to and employment in the open labour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928960"/>
            <a:ext cx="1655640" cy="1797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iatr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l c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2928960"/>
            <a:ext cx="1728720" cy="1797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habil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53080" y="3000240"/>
            <a:ext cx="1727280" cy="1857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ucation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4360" y="2928960"/>
            <a:ext cx="1836720" cy="2071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1989000"/>
            <a:ext cx="1729080" cy="432000"/>
          </a:xfrm>
          <a:prstGeom prst="rightArrow">
            <a:avLst>
              <a:gd name="adj1" fmla="val 50000"/>
              <a:gd name="adj2" fmla="val 10006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15280" y="1989000"/>
            <a:ext cx="1728720" cy="432000"/>
          </a:xfrm>
          <a:prstGeom prst="rightArrow">
            <a:avLst>
              <a:gd name="adj1" fmla="val 50000"/>
              <a:gd name="adj2" fmla="val 10004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7440" y="23716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</a:rPr>
              <a:t>Club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29760" y="4518000"/>
            <a:ext cx="2036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bc9c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bc9c7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Soci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Education &amp; Employ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CB03-E939-4F45-97B6-C144ADAB081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2920" y="92160"/>
            <a:ext cx="88581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86a68"/>
                </a:solidFill>
                <a:latin typeface="Arial"/>
                <a:ea typeface="Times New Roman"/>
              </a:rPr>
              <a:t>Classification of Clubhouse Research Outcomes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42920" y="857160"/>
            <a:ext cx="8856360" cy="6462360"/>
            <a:chOff x="142920" y="857160"/>
            <a:chExt cx="8856360" cy="6462360"/>
          </a:xfrm>
        </p:grpSpPr>
        <p:sp>
          <p:nvSpPr>
            <p:cNvPr id="152" name=""/>
            <p:cNvSpPr/>
            <p:nvPr/>
          </p:nvSpPr>
          <p:spPr>
            <a:xfrm>
              <a:off x="5236560" y="6513840"/>
              <a:ext cx="3760920" cy="8042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70800" y="6513840"/>
              <a:ext cx="2165760" cy="8042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85200" y="6513840"/>
              <a:ext cx="1785240" cy="8042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2920" y="6513840"/>
              <a:ext cx="1142280" cy="8042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2920" y="857160"/>
              <a:ext cx="1142280" cy="565668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vidence on the participa-tion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e 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85200" y="857160"/>
              <a:ext cx="1785240" cy="36468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70800" y="857160"/>
              <a:ext cx="2165760" cy="36468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as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36560" y="857160"/>
              <a:ext cx="1880640" cy="36468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ass 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17200" y="857160"/>
              <a:ext cx="1880280" cy="36468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ass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85200" y="1221840"/>
              <a:ext cx="1785240" cy="3650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0800" y="1221840"/>
              <a:ext cx="2165760" cy="3650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Arial"/>
                </a:rPr>
                <a:t>Benefit&gt;&gt;&gt;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36560" y="1221840"/>
              <a:ext cx="1880640" cy="3650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Arial"/>
                </a:rPr>
                <a:t>Benefit&gt;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17200" y="1221840"/>
              <a:ext cx="1880280" cy="3650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sk&gt;Benef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85200" y="1586880"/>
              <a:ext cx="1785240" cy="28544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2c5f5e"/>
                  </a:solidFill>
                  <a:latin typeface="Arial"/>
                  <a:ea typeface="Times New Roman"/>
                </a:rPr>
                <a:t>Multiple randomiz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2c5f5e"/>
                  </a:solidFill>
                  <a:latin typeface="Arial"/>
                  <a:ea typeface="Times New Roman"/>
                </a:rPr>
                <a:t>clinical trials (RCT) or Single site RCT’s with matched participa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70800" y="1586880"/>
              <a:ext cx="2165760" cy="164016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400" spc="-1" strike="noStrike">
                  <a:solidFill>
                    <a:srgbClr val="2c5f5e"/>
                  </a:solidFill>
                  <a:latin typeface="Arial"/>
                  <a:ea typeface="Arial"/>
                </a:rPr>
                <a:t>CH Services &amp; Support SHOULD be performed and offered, beca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400" spc="-1" strike="noStrike">
                  <a:solidFill>
                    <a:srgbClr val="336600"/>
                  </a:solidFill>
                  <a:latin typeface="Arial"/>
                </a:rPr>
                <a:t>advantages of active participation in Clubhouse activities are e.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36560" y="1586880"/>
              <a:ext cx="1880640" cy="164016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400" spc="-1" strike="noStrike">
                  <a:solidFill>
                    <a:srgbClr val="2c5f5e"/>
                  </a:solidFill>
                  <a:latin typeface="Arial"/>
                  <a:ea typeface="Times New Roman"/>
                </a:rPr>
                <a:t>IT IS REASONABLE to provide Clubhouse services because they have positive impacts on e.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7200" y="1586880"/>
              <a:ext cx="1880280" cy="164016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2c5f5e"/>
                  </a:solidFill>
                  <a:latin typeface="Arial"/>
                  <a:ea typeface="Times New Roman"/>
                </a:rPr>
                <a:t>No additional studies needed. </a:t>
              </a:r>
              <a:r>
                <a:rPr b="1" i="1" lang="en-US" sz="1400" spc="-1" strike="noStrike">
                  <a:solidFill>
                    <a:srgbClr val="2c5f5e"/>
                  </a:solidFill>
                  <a:latin typeface="Arial"/>
                  <a:ea typeface="Times New Roman"/>
                </a:rPr>
                <a:t>Service should NOT be offered, IT IS NOT HELPFUL &amp;  MAY BE HARM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70800" y="3227400"/>
              <a:ext cx="2165760" cy="121392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ess hospital care ++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utreach ++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Quality of Life ++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atisfaction ++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36560" y="3227400"/>
              <a:ext cx="1880640" cy="121392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17200" y="3227400"/>
              <a:ext cx="1880280" cy="121392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this category find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 CH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85200" y="4441680"/>
              <a:ext cx="1785240" cy="8564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2c5f5e"/>
                  </a:solidFill>
                  <a:latin typeface="Arial"/>
                </a:rPr>
                <a:t>Observa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2c5f5e"/>
                  </a:solidFill>
                  <a:latin typeface="Arial"/>
                </a:rPr>
                <a:t>Stud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70800" y="4441680"/>
              <a:ext cx="2165760" cy="8564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36560" y="4441680"/>
              <a:ext cx="1880640" cy="8564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ployment 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ocial Relation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ocial Inclusion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17200" y="4441680"/>
              <a:ext cx="1880280" cy="8564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this category findings on CH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85200" y="5298120"/>
              <a:ext cx="1785240" cy="121536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2c5f5e"/>
                  </a:solidFill>
                  <a:latin typeface="Arial"/>
                  <a:ea typeface="Arial"/>
                </a:rPr>
                <a:t>Expert consensus or testimony by experienced individu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70800" y="5298120"/>
              <a:ext cx="2165760" cy="121536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36560" y="5298120"/>
              <a:ext cx="3760920" cy="121536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ducation +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0" lang="en-US" sz="1100" spc="-1" strike="noStrike" u="sng">
                  <a:solidFill>
                    <a:srgbClr val="ff0000"/>
                  </a:solidFill>
                  <a:uFillTx/>
                  <a:latin typeface="Arial"/>
                </a:rPr>
                <a:t>Source 2009</a:t>
              </a: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rk-ordered day +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c00000"/>
                  </a:solidFill>
                  <a:latin typeface="Arial"/>
                </a:rPr>
                <a:t>     </a:t>
              </a: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Colleen McKay,</a:t>
              </a:r>
              <a:r>
                <a:rPr b="0" lang="en-US" sz="11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lness +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UMASS Medical Scho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using +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Worcester  MA USA)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85200" y="857160"/>
              <a:ext cx="1080" cy="36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85200" y="1221840"/>
              <a:ext cx="1080" cy="6096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70800" y="857160"/>
              <a:ext cx="1080" cy="646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36560" y="857160"/>
              <a:ext cx="1080" cy="646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17200" y="857160"/>
              <a:ext cx="1080" cy="444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85200" y="1221840"/>
              <a:ext cx="77122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85200" y="1586880"/>
              <a:ext cx="7712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70800" y="3227400"/>
              <a:ext cx="5926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85200" y="4441680"/>
              <a:ext cx="7712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85200" y="5298120"/>
              <a:ext cx="7712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2920" y="857160"/>
              <a:ext cx="1080" cy="646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997840" y="857160"/>
              <a:ext cx="1440" cy="646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2920" y="857160"/>
              <a:ext cx="88549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2920" y="7318440"/>
              <a:ext cx="1142280" cy="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85200" y="7318440"/>
              <a:ext cx="7712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2920" y="6513840"/>
              <a:ext cx="1142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5200" y="6513840"/>
              <a:ext cx="7712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5DF706-FE6A-4914-9253-4DD70230C18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8571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515-E7B5-449C-AA7F-BB6DAF3EBAB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 u="sng">
                <a:solidFill>
                  <a:srgbClr val="33cc33"/>
                </a:solidFill>
                <a:uFillTx/>
                <a:latin typeface="Arial"/>
              </a:rPr>
              <a:t>Clubhouse Development in Europ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009-3B67-4FCD-91F8-62E0E67C12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4E9B73-EC55-4C8C-A85E-409498CFF2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95320" y="500040"/>
            <a:ext cx="6813720" cy="5678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88840" y="214200"/>
            <a:ext cx="76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a82453"/>
                </a:solidFill>
                <a:uFillTx/>
                <a:latin typeface="Arial"/>
              </a:rPr>
              <a:t>Existing European Clubhouses – 90 Clubhouses in 18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6093000"/>
            <a:ext cx="693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90 Clubhouses serving over 11000 members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10280" y="1447920"/>
            <a:ext cx="1752840" cy="37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bania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stria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mark 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land (?)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onia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land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rmany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celand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eland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aly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sovo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edonia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herlands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way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and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ania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sia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tland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eden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 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213080" y="1998720"/>
            <a:ext cx="360072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855960" y="1571760"/>
            <a:ext cx="4075200" cy="35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355560" y="1785960"/>
            <a:ext cx="45039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141360" y="2000160"/>
            <a:ext cx="4575240" cy="79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141280" y="2143080"/>
            <a:ext cx="564660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213080" y="2357280"/>
            <a:ext cx="36468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070080" y="2708280"/>
            <a:ext cx="48168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1569960" y="2857320"/>
            <a:ext cx="6361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855800" y="926640"/>
            <a:ext cx="6075360" cy="193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998800" y="3214800"/>
            <a:ext cx="5146560" cy="11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998520" y="3429000"/>
            <a:ext cx="3861000" cy="14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998520" y="3571920"/>
            <a:ext cx="3646440" cy="14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2712600" y="3212640"/>
            <a:ext cx="48610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141720" y="2141280"/>
            <a:ext cx="4718160" cy="178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712680" y="3427200"/>
            <a:ext cx="428940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354560" y="4292640"/>
            <a:ext cx="33876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213160" y="2784240"/>
            <a:ext cx="2717640" cy="171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2141640" y="2498760"/>
            <a:ext cx="5718240" cy="22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3498840" y="2569680"/>
            <a:ext cx="4432320" cy="228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898B-C741-4DF7-A4A0-E4DEE2954E9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57120" y="260280"/>
            <a:ext cx="85010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7bc143"/>
                </a:solidFill>
                <a:uFillTx/>
                <a:latin typeface="Arial"/>
              </a:rPr>
              <a:t>Europe is divided in the use of CH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7120" y="1428840"/>
            <a:ext cx="878688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Best CH practice countri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included CHs in their Government Mental Health Policy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nland, Sweden Denmark, Iceland, Norway and Scotland/UK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In 13 other countr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Europe CHs are approved but not actively promote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In the 35 oth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O – Europe countries CH model is not used and decision-makers are not aware about the CH integration &amp; inclusion possibiliti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The strategic goal </a:t>
            </a:r>
            <a:r>
              <a:rPr b="1" lang="en-US" sz="26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the experienced Clubhouse countries start to transfer their positive outcomes for use in other European countries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75E3CA-9964-48FD-9E93-02875F5DB7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F93-B7EB-4ED3-BD5B-E075573438C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7bc143"/>
                </a:solidFill>
                <a:latin typeface="Arial"/>
              </a:rPr>
              <a:t>CLUBHOUSES ARE PART OF </a:t>
            </a:r>
            <a:br>
              <a:rPr sz="3200"/>
            </a:br>
            <a:r>
              <a:rPr b="1" lang="en-US" sz="3200" spc="-1" strike="noStrike" u="sng">
                <a:solidFill>
                  <a:srgbClr val="7bc143"/>
                </a:solidFill>
                <a:uFillTx/>
                <a:latin typeface="Arial"/>
              </a:rPr>
              <a:t>SOCIAL SERVI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840" y="1557360"/>
            <a:ext cx="871524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s belong to the Community Mental Health services &amp; cooperate with relevan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s work together with Companies &amp; Employers, and Education, Housing, Employment, and Social Security Benefit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700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Hs follow the Community-Based Rehabilitation (CBR) approach, recommended jointly by the WHO, UNESCO and ILO (1990s &amp; 2004 &amp; 2008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who.int/en/disability</a:t>
            </a: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</a:rPr>
              <a:t>/c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Improvement of Clubhouse Activities is supported by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ICCD - The International Center for Clubhouse 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.g. Training, Standards, Quality Assurance &amp; Certificatio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icc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E1E7A7-DFC3-4950-8235-531DE9E086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1FDD-F336-4888-B36A-FEB1BDCA0B6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68360" y="154080"/>
            <a:ext cx="82072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uropean Partnership for Clubhouse Development  - </a:t>
            </a:r>
            <a:r>
              <a:rPr b="1" lang="en-US" sz="3400" spc="-1" strike="noStrike">
                <a:solidFill>
                  <a:srgbClr val="c00000"/>
                </a:solidFill>
                <a:latin typeface="Arial"/>
              </a:rPr>
              <a:t>EPCD</a:t>
            </a:r>
            <a:br>
              <a:rPr sz="3400"/>
            </a:br>
            <a:r>
              <a:rPr b="1" lang="en-US" sz="1100" spc="-1" strike="noStrike" u="sng">
                <a:solidFill>
                  <a:srgbClr val="c00000"/>
                </a:solidFill>
                <a:uFillTx/>
                <a:latin typeface="Arial"/>
              </a:rPr>
              <a:t>(was created in March 2007 in Stockholm City Hall in the ELECT partners’ meeting)</a:t>
            </a:r>
            <a:r>
              <a:rPr b="1" lang="en-US" sz="1100" spc="-1" strike="noStrike" u="sng">
                <a:solidFill>
                  <a:srgbClr val="c00000"/>
                </a:solidFill>
                <a:uFillTx/>
                <a:latin typeface="Arial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1484280"/>
            <a:ext cx="85075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all goals of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PC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he social inclusion, education and labour market integration of people with mental health problems by enlargement of the net of European 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and coordinate the European research on the Clubhouse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phase i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anent formal organisation for the EP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trategic Choice: 1 – 2 EPCD Office in Europe or should we create Alliance with some existing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 we open EPCD as a collaborative network of all interested parties and ac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C0C92D-8E41-4E23-934F-488C9B1CFF1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E56-4F56-4AA6-972C-E820CEE36CC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35320F-8593-4E32-95C6-5640F7BD9D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8929800" cy="2428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14200" y="3429000"/>
            <a:ext cx="2714760" cy="2357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3360" cy="2142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87480" cy="214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39560" cy="214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20840" cy="21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280" cy="214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66560" cy="214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9"/>
          <a:stretch/>
        </p:blipFill>
        <p:spPr>
          <a:xfrm>
            <a:off x="0" y="0"/>
            <a:ext cx="414360" cy="214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306360" cy="214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87280" cy="214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299880" cy="214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793800" cy="21420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0" y="0"/>
            <a:ext cx="1406520" cy="212760"/>
            <a:chOff x="0" y="0"/>
            <a:chExt cx="1406520" cy="212760"/>
          </a:xfrm>
        </p:grpSpPr>
        <p:pic>
          <p:nvPicPr>
            <p:cNvPr id="259" name="" descr=""/>
            <p:cNvPicPr/>
            <p:nvPr/>
          </p:nvPicPr>
          <p:blipFill>
            <a:blip r:embed="rId14"/>
            <a:stretch/>
          </p:blipFill>
          <p:spPr>
            <a:xfrm>
              <a:off x="0" y="0"/>
              <a:ext cx="140652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12320" y="26640"/>
              <a:ext cx="1681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3400" y="33120"/>
              <a:ext cx="1537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3240" y="26640"/>
              <a:ext cx="1602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9920" y="33120"/>
              <a:ext cx="1663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2720" y="26640"/>
              <a:ext cx="1663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67320" y="26640"/>
              <a:ext cx="1519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27160" y="26640"/>
              <a:ext cx="16632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6473880" cy="334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5357880" cy="433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320840" cy="166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1320840" cy="1666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9"/>
          <a:stretch/>
        </p:blipFill>
        <p:spPr>
          <a:xfrm>
            <a:off x="5072040" y="33577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5357880" y="6000840"/>
            <a:ext cx="278604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598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elect-project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1880" y="3429000"/>
            <a:ext cx="1843200" cy="25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598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 is a consortium of 11 partners from 7 EU countries &amp; ICCD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CFC-8F81-4221-88A2-C7A9A93EF2C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0124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he Clubhouse is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not</a:t>
            </a: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 </a:t>
            </a:r>
            <a:br>
              <a:rPr sz="3400"/>
            </a:b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one-idea model </a:t>
            </a:r>
            <a:br>
              <a:rPr sz="3400"/>
            </a:br>
            <a:r>
              <a:rPr b="1" lang="en-US" sz="1200" spc="-1" strike="noStrike">
                <a:solidFill>
                  <a:srgbClr val="7bc143"/>
                </a:solidFill>
                <a:latin typeface="Arial"/>
              </a:rPr>
              <a:t>_______________________________________________________________________________________________</a:t>
            </a:r>
            <a:endParaRPr b="1" lang="en-US" sz="12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ubhouses are consisting of several components bringing in the positive outcomes for persons recovering from mental illn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ubhouses are linking the integrative rehabilitation pathway from dependency to independent liv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Since 1980s the scientific community has produced a growing evidence on the positive impacts of the CH model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UMASS, Worcester USA, data on R&amp;D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findings)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Finnish study report 2009 confirms the previous research finding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72360" y="5589720"/>
            <a:ext cx="1224000" cy="93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087-53C8-4E41-A321-B8A98B5AB4F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2F3C89-E2BC-48FC-B048-80206E34745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2960" y="692280"/>
            <a:ext cx="814392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Lucida Sans Unicode"/>
              </a:rPr>
              <a:t>Additional Information in websites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CCD: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1"/>
              </a:rPr>
              <a:t>www.iccd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B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WHO, ILO &amp; UNESCO)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2"/>
              </a:rPr>
              <a:t>www.who.int/en/disability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ea typeface="Lucida Sans Unicode"/>
              </a:rPr>
              <a:t>/c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ECT-project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3"/>
              </a:rPr>
              <a:t>www.elect-project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Helsinki Clubhouse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4"/>
              </a:rPr>
              <a:t>www.helsinginklubitalo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ko Hänninen, Coordinator of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Lucida Sans Unicode"/>
              </a:rPr>
              <a:t>EP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-mail: </a:t>
            </a:r>
            <a:r>
              <a:rPr b="0" lang="en-US" sz="2400" spc="-1" strike="noStrike" u="sng">
                <a:solidFill>
                  <a:srgbClr val="0070c0"/>
                </a:solidFill>
                <a:uFillTx/>
                <a:latin typeface="Arial"/>
                <a:ea typeface="Lucida Sans Unicode"/>
              </a:rPr>
              <a:t>hanninen.esko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l (gsm): +358 40 503 7095 (Finlan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DBE-815C-44A8-9D7C-787FB124CCC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 u="sng">
                <a:solidFill>
                  <a:srgbClr val="7bc143"/>
                </a:solidFill>
                <a:uFillTx/>
                <a:latin typeface="Arial"/>
              </a:rPr>
              <a:t>The Finnish Research Team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ietala-Paalasmaa Ou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ujanen Ti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ärkäpää Kristi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euter An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Study cov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ubhouses in Finland in 2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63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ving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nnish Municipa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Data were collected in years 2004 - 2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A85-845F-46BE-AA3E-B60794A501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 u="sng">
                <a:solidFill>
                  <a:srgbClr val="7bc143"/>
                </a:solidFill>
                <a:uFillTx/>
                <a:latin typeface="Arial"/>
              </a:rPr>
              <a:t>Finland’s 18 CHs in 2004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5075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7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Are owned 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municipalities/cities 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3 C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Espoo Diaconia Foundatio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 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2 NGOs in mental health or related field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4 C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7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And financed b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mbling profit, collected by RAY (Finnish Slot                Machine Associ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cated annually by the Ministry of Social Affairs and Health to NGOs &amp; Found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6 Finnish Municipalities/C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A57-68C2-4E77-8980-3EB199014F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 u="sng">
                <a:solidFill>
                  <a:srgbClr val="7bc143"/>
                </a:solidFill>
                <a:uFillTx/>
                <a:latin typeface="Arial"/>
              </a:rPr>
              <a:t>Population Served by CHs in Finland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32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Population</a:t>
            </a: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Less than 25.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25.000 – 100.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More than 100.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1480" y="1483920"/>
            <a:ext cx="4032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Club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Unicode MS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3  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6.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44.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39.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Unicode MS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7B0-9BE1-4316-B924-3E8BD7F213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 u="sng">
                <a:solidFill>
                  <a:srgbClr val="7bc143"/>
                </a:solidFill>
                <a:uFillTx/>
                <a:latin typeface="Arial"/>
              </a:rPr>
              <a:t>Participation rate in CH Activitie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32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 - 4 times in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Once in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 – 3 times in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Non-active members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attending less than one visit per mon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1480" y="1483920"/>
            <a:ext cx="4032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          </a:t>
            </a: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8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4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56 % of all were activ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embers in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26B-D5FD-49C6-BA15-B7B721A299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 u="sng">
                <a:solidFill>
                  <a:srgbClr val="7bc143"/>
                </a:solidFill>
                <a:uFillTx/>
                <a:latin typeface="Arial"/>
              </a:rPr>
              <a:t>Members’ Age in Finnish CH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360" y="1483920"/>
            <a:ext cx="30132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Ag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18 –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25 –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35 – 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45 – 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55 –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65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1840" y="1484280"/>
            <a:ext cx="43228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4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4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6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53 % of all members belong in age group 25 – 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3AB-8D9C-471D-B70E-377C8BA51F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 u="sng">
                <a:solidFill>
                  <a:srgbClr val="7bc143"/>
                </a:solidFill>
                <a:uFillTx/>
                <a:latin typeface="Arial"/>
              </a:rPr>
              <a:t>Growth</a:t>
            </a:r>
            <a:r>
              <a:rPr b="1" lang="fi-FI" sz="3400" spc="-1" strike="noStrike" u="sng">
                <a:solidFill>
                  <a:srgbClr val="7bc143"/>
                </a:solidFill>
                <a:uFillTx/>
                <a:latin typeface="Arial"/>
              </a:rPr>
              <a:t> of TE placements in Finland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5895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In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1480" y="1483920"/>
            <a:ext cx="4032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CH Members in 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01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TE jobs 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irca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00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??? Ville ?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0C1-11B6-45BE-8E0D-15512F9B6C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4200" y="260280"/>
            <a:ext cx="8643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400" spc="-1" strike="noStrike" u="sng">
                <a:solidFill>
                  <a:srgbClr val="7bc143"/>
                </a:solidFill>
                <a:uFillTx/>
                <a:latin typeface="Arial"/>
              </a:rPr>
              <a:t>The Components of a Clubhou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268280"/>
            <a:ext cx="40323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Day in the 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Education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ment Pro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, SE, 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ing, Weekend and Holiday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Assurance &amp; Cert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1268280"/>
            <a:ext cx="4032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for People with Mental Illness (including researc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Promo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 and Management of the Club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the Development of Other Club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All these components are identified in Finland’s C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13E5DD-385B-4739-91DC-CCA5AA45442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0EA-773D-4603-A768-0A84162682B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änninen Esko</dc:creator>
  <dc:description/>
  <dc:language>en-US</dc:language>
  <cp:lastModifiedBy>GRONBERG_VILLE</cp:lastModifiedBy>
  <dcterms:modified xsi:type="dcterms:W3CDTF">2003-10-28T23:57:11Z</dcterms:modified>
  <cp:revision>13</cp:revision>
  <dc:subject/>
  <dc:title>Dia 1</dc:title>
</cp:coreProperties>
</file>