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2840" cy="990756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07560"/>
              <a:gd name="textAreaBottom" fmla="*/ 9907200 h 9907560"/>
            </a:gdLst>
            <a:ahLst/>
            <a:rect l="textAreaLeft" t="textAreaTop" r="textAreaRight" b="textAreaBottom"/>
            <a:pathLst>
              <a:path w="21600" h="31504">
                <a:moveTo>
                  <a:pt x="5" y="0"/>
                </a:moveTo>
                <a:arcTo wR="5" hR="5" stAng="16200000" swAng="-5400000"/>
                <a:lnTo>
                  <a:pt x="0" y="31499"/>
                </a:lnTo>
                <a:arcTo wR="5" hR="5" stAng="10800000" swAng="-5400000"/>
                <a:lnTo>
                  <a:pt x="21595" y="3150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144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4200" cy="4456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7"/>
          </p:nvPr>
        </p:nvSpPr>
        <p:spPr>
          <a:xfrm>
            <a:off x="3848040" y="9408960"/>
            <a:ext cx="2943360" cy="493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041BB-A02C-4C61-B3E9-2569710AD6AE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68239C-158E-40E6-A086-4D2ED629BA9D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30240" y="749160"/>
            <a:ext cx="4935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12D4-E96A-4D4B-8EC5-D80FF65A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51C7-C742-4655-AD6E-3284F5C8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B640-C34C-4226-9588-D21097C1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CD9-2CCB-4B82-B736-3DCBC43F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8701-3213-4E60-9630-240CD7F3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C16F-0835-4F32-AFA6-18DC9BD0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EE3C-9044-4B0C-A274-9B03BFFE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73B7-501A-4CA2-B6EA-BE30BB29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9D75-DB96-40F0-95E7-2FBA218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E25C-B2F3-409C-900F-A7FA4191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B35B-5333-404A-892A-C3FE9E0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289-CC4F-4BDC-A65D-69E211A4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D0EF-4682-443F-BF33-303A4652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6508-2D8A-4138-865F-DEB5CBB0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CC65-3692-4E91-A280-77E1C94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7662-A367-4AC9-9096-BDBDD66D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32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3440" y="148392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32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3440" y="3777480"/>
            <a:ext cx="26456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D9D2-900B-478C-9FC6-693E78BB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353-77CB-470B-8B64-D191A4C7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EDF-6832-4C13-AAB6-F4182805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AD0-2B58-4B80-A731-BD280CD1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584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B42-5F8E-4B67-8B14-C467D958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722-BD50-49BB-AFD1-FCEE22C3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400" y="377748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972-A1DD-423C-B46F-E4E995FE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400" y="1483920"/>
            <a:ext cx="400968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7480"/>
            <a:ext cx="821700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7AE8-884F-4E6A-AB49-066DE26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39640" y="6308640"/>
            <a:ext cx="3614400" cy="106560"/>
            <a:chOff x="539640" y="6308640"/>
            <a:chExt cx="3614400" cy="106560"/>
          </a:xfrm>
        </p:grpSpPr>
        <p:sp>
          <p:nvSpPr>
            <p:cNvPr id="1" name=""/>
            <p:cNvSpPr/>
            <p:nvPr/>
          </p:nvSpPr>
          <p:spPr>
            <a:xfrm>
              <a:off x="2143800" y="6308640"/>
              <a:ext cx="2010240" cy="10656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39640" y="6308640"/>
              <a:ext cx="1531080" cy="10656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6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496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4BE523-5B46-4141-8627-EB14D24D7B4B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6CED12-2936-43E6-83AD-15E31F020E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241280" y="3951360"/>
            <a:ext cx="6659280" cy="196920"/>
            <a:chOff x="1241280" y="3951360"/>
            <a:chExt cx="6659280" cy="196920"/>
          </a:xfrm>
        </p:grpSpPr>
        <p:sp>
          <p:nvSpPr>
            <p:cNvPr id="47" name=""/>
            <p:cNvSpPr/>
            <p:nvPr/>
          </p:nvSpPr>
          <p:spPr>
            <a:xfrm>
              <a:off x="4194720" y="3951360"/>
              <a:ext cx="3705840" cy="19692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1280" y="3951360"/>
              <a:ext cx="2819880" cy="196920"/>
            </a:xfrm>
            <a:prstGeom prst="pie">
              <a:avLst/>
            </a:pr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32240" y="56844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27180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635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496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49560" indent="-26532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78280"/>
            <a:ext cx="108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i-FI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1C609F9-1776-4730-AA92-66B2B7022E13}" type="datetime">
              <a:rPr b="0" lang="fi-FI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280" y="6582960"/>
            <a:ext cx="6046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82960"/>
            <a:ext cx="1077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EA2E5B1-A44D-432F-B17E-3CEDA5EF95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ho.int/en/disability" TargetMode="External"/><Relationship Id="rId2" Type="http://schemas.openxmlformats.org/officeDocument/2006/relationships/hyperlink" Target="http://www.iccd.org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jpe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ccd.org/" TargetMode="External"/><Relationship Id="rId2" Type="http://schemas.openxmlformats.org/officeDocument/2006/relationships/hyperlink" Target="http://www.who.int/en/disability" TargetMode="External"/><Relationship Id="rId3" Type="http://schemas.openxmlformats.org/officeDocument/2006/relationships/hyperlink" Target="http://www.elect-project.eu/" TargetMode="External"/><Relationship Id="rId4" Type="http://schemas.openxmlformats.org/officeDocument/2006/relationships/hyperlink" Target="http://www.helsinginklubitalo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68360" y="4579920"/>
            <a:ext cx="8207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Finland’s Clubhouse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Repor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5661000"/>
            <a:ext cx="8207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ed in years 2004 -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6524640"/>
            <a:ext cx="6048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04BD2A-9404-4153-95E1-6EDE023DA4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4768-A6F9-4C98-BE67-F30EA396FF4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20728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 u="sng">
                <a:solidFill>
                  <a:srgbClr val="7bc143"/>
                </a:solidFill>
                <a:uFillTx/>
                <a:latin typeface="Arial"/>
              </a:rPr>
              <a:t>Main Findings of the Follow Up Study</a:t>
            </a:r>
            <a:br>
              <a:rPr sz="3000"/>
            </a:br>
            <a:r>
              <a:rPr b="1" lang="en-US" sz="3000" spc="-1" strike="noStrike" u="sng">
                <a:solidFill>
                  <a:srgbClr val="7bc143"/>
                </a:solidFill>
                <a:uFillTx/>
                <a:latin typeface="Arial"/>
              </a:rPr>
              <a:t>in FINLAND, published in March 2009</a:t>
            </a:r>
            <a:endParaRPr b="1" lang="en-US" sz="3000" spc="-1" strike="noStrike">
              <a:solidFill>
                <a:srgbClr val="7bc143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550880"/>
          <a:ext cx="820404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50880"/>
                    <a:ext cx="82040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Development Needs Reported by CHs</a:t>
            </a:r>
            <a:r>
              <a:rPr b="1" lang="fi-FI" sz="3400" spc="-1" strike="noStrike" u="sng">
                <a:solidFill>
                  <a:srgbClr val="7bc143"/>
                </a:solidFill>
                <a:uFillTx/>
                <a:latin typeface="Arial"/>
              </a:rPr>
              <a:t>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8217000" cy="39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ing the Transitional Employment is a continuous challenge for many 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nt of the work-ordered da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for increase of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ng problems – more money…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ee-time program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5DF-C484-46CB-BFFA-0DE6EA3938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0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Arial"/>
              </a:rPr>
              <a:t>Integrative Pathway from Dependency to Independent L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1486080"/>
            <a:ext cx="2735280" cy="3887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14760" y="1076400"/>
            <a:ext cx="38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Clubhouse as Lear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3576600"/>
            <a:ext cx="216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bc9c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bc9c7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sychosocial rehab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Work-ordered d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re-training / learning to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learn / Computer skill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eer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288120"/>
            <a:ext cx="8280360" cy="4539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Arial"/>
              </a:rPr>
              <a:t>Individual Empowermen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5734080"/>
            <a:ext cx="3960720" cy="5763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Mental Health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9080" y="5734080"/>
            <a:ext cx="4319640" cy="57636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2060"/>
                </a:solidFill>
                <a:latin typeface="Arial"/>
              </a:rPr>
              <a:t>Supported education &amp; training. Transition to and employment in the open labour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28960"/>
            <a:ext cx="1655640" cy="1797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iatr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cal c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928960"/>
            <a:ext cx="1728720" cy="1797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habil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y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3080" y="3000240"/>
            <a:ext cx="1727280" cy="1857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4360" y="2928960"/>
            <a:ext cx="1836720" cy="2071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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1989000"/>
            <a:ext cx="1729080" cy="432000"/>
          </a:xfrm>
          <a:prstGeom prst="rightArrow">
            <a:avLst>
              <a:gd name="adj1" fmla="val 50000"/>
              <a:gd name="adj2" fmla="val 1000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15280" y="1989000"/>
            <a:ext cx="1728720" cy="432000"/>
          </a:xfrm>
          <a:prstGeom prst="rightArrow">
            <a:avLst>
              <a:gd name="adj1" fmla="val 50000"/>
              <a:gd name="adj2" fmla="val 10004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7440" y="23716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</a:rPr>
              <a:t>Club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9760" y="4518000"/>
            <a:ext cx="203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bc9c7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6bc9c7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Soci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Education &amp; Employ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ED7A-F336-4D92-8579-CF252506DC7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2920" y="92160"/>
            <a:ext cx="88581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86a68"/>
                </a:solidFill>
                <a:latin typeface="Arial"/>
                <a:ea typeface="Times New Roman"/>
              </a:rPr>
              <a:t>Classification of Clubhouse Research Outcomes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42920" y="857160"/>
            <a:ext cx="8856360" cy="6462360"/>
            <a:chOff x="142920" y="857160"/>
            <a:chExt cx="8856360" cy="6462360"/>
          </a:xfrm>
        </p:grpSpPr>
        <p:sp>
          <p:nvSpPr>
            <p:cNvPr id="152" name=""/>
            <p:cNvSpPr/>
            <p:nvPr/>
          </p:nvSpPr>
          <p:spPr>
            <a:xfrm>
              <a:off x="5236560" y="6513840"/>
              <a:ext cx="376092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70800" y="6513840"/>
              <a:ext cx="216576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85200" y="6513840"/>
              <a:ext cx="178524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2920" y="6513840"/>
              <a:ext cx="1142280" cy="8042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2920" y="857160"/>
              <a:ext cx="1142280" cy="5656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vidence on the participa-tion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 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5200" y="857160"/>
              <a:ext cx="178524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70800" y="857160"/>
              <a:ext cx="216576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ass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36560" y="857160"/>
              <a:ext cx="188064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ass 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17200" y="857160"/>
              <a:ext cx="1880280" cy="36468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ass 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85200" y="1221840"/>
              <a:ext cx="178524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0800" y="1221840"/>
              <a:ext cx="216576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Benefit&gt;&gt;&gt;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36560" y="1221840"/>
              <a:ext cx="188064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Benefit&gt;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117200" y="1221840"/>
              <a:ext cx="1880280" cy="3650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sk&gt;Benef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85200" y="1586880"/>
              <a:ext cx="1785240" cy="2854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Multiple randomiz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clinical trials (RCT) or Single site RCT’s with matched participa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70800" y="1586880"/>
              <a:ext cx="2165760" cy="16401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400" spc="-1" strike="noStrike">
                  <a:solidFill>
                    <a:srgbClr val="2c5f5e"/>
                  </a:solidFill>
                  <a:latin typeface="Arial"/>
                  <a:ea typeface="Arial"/>
                </a:rPr>
                <a:t>CH Services &amp; Support SHOULD be performed and offered, beca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400" spc="-1" strike="noStrike">
                  <a:solidFill>
                    <a:srgbClr val="336600"/>
                  </a:solidFill>
                  <a:latin typeface="Arial"/>
                </a:rPr>
                <a:t>advantages of active participation in Clubhouse activities are e.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36560" y="1586880"/>
              <a:ext cx="1880640" cy="16401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IT IS REASONABLE to provide Clubhouse services because they have positive impacts on e.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17200" y="1586880"/>
              <a:ext cx="1880280" cy="16401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No additional studies needed. </a:t>
              </a:r>
              <a:r>
                <a:rPr b="1" i="1" lang="en-US" sz="1400" spc="-1" strike="noStrike">
                  <a:solidFill>
                    <a:srgbClr val="2c5f5e"/>
                  </a:solidFill>
                  <a:latin typeface="Arial"/>
                  <a:ea typeface="Times New Roman"/>
                </a:rPr>
                <a:t>Service should NOT be offered, IT IS NOT HELPFUL &amp;  MAY BE HARM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0800" y="3227400"/>
              <a:ext cx="2165760" cy="121392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Less hospital care ++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utreach 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Quality of Life 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atisfaction +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36560" y="3227400"/>
              <a:ext cx="1880640" cy="121392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17200" y="3227400"/>
              <a:ext cx="1880280" cy="121392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his category findings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n CH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85200" y="4441680"/>
              <a:ext cx="178524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</a:rPr>
                <a:t>Observat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</a:rPr>
                <a:t>Stud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0800" y="4441680"/>
              <a:ext cx="216576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36560" y="4441680"/>
              <a:ext cx="188064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ployment 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ocial Relations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Social Inclusion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17200" y="4441680"/>
              <a:ext cx="1880280" cy="85644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this category findings on CH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85200" y="5298120"/>
              <a:ext cx="1785240" cy="12153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1400" spc="-1" strike="noStrike">
                  <a:solidFill>
                    <a:srgbClr val="2c5f5e"/>
                  </a:solidFill>
                  <a:latin typeface="Arial"/>
                  <a:ea typeface="Arial"/>
                </a:rPr>
                <a:t>Expert consensus or testimony by experienced individu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70800" y="5298120"/>
              <a:ext cx="2165760" cy="12153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36560" y="5298120"/>
              <a:ext cx="3760920" cy="1215360"/>
            </a:xfrm>
            <a:prstGeom prst="rect">
              <a:avLst/>
            </a:prstGeom>
            <a:solidFill>
              <a:srgbClr val="d9eb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ducation 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0" lang="en-US" sz="1100" spc="-1" strike="noStrike" u="sng">
                  <a:solidFill>
                    <a:srgbClr val="ff0000"/>
                  </a:solidFill>
                  <a:uFillTx/>
                  <a:latin typeface="Arial"/>
                </a:rPr>
                <a:t>Source 2009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: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ork-ordered day +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c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ff0000"/>
                  </a:solidFill>
                  <a:latin typeface="Arial"/>
                </a:rPr>
                <a:t>Colleen McKay,</a:t>
              </a:r>
              <a:r>
                <a:rPr b="0" lang="en-US" sz="11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ellness 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UMASS Medical Scho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ousing +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1000" spc="-1" strike="noStrike">
                  <a:solidFill>
                    <a:srgbClr val="c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Worcester  MA USA)</a:t>
              </a:r>
              <a:r>
                <a:rPr b="0" lang="en-US" sz="10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85200" y="857160"/>
              <a:ext cx="1080" cy="36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85200" y="1221840"/>
              <a:ext cx="1080" cy="6096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0800" y="857160"/>
              <a:ext cx="108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36560" y="857160"/>
              <a:ext cx="108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17200" y="857160"/>
              <a:ext cx="1080" cy="444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85200" y="1221840"/>
              <a:ext cx="77122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85200" y="158688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70800" y="3227400"/>
              <a:ext cx="5926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85200" y="444168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85200" y="529812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920" y="857160"/>
              <a:ext cx="108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97840" y="857160"/>
              <a:ext cx="1440" cy="646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920" y="857160"/>
              <a:ext cx="88549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920" y="7318440"/>
              <a:ext cx="1142280" cy="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85200" y="731844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2920" y="6513840"/>
              <a:ext cx="11422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5200" y="6513840"/>
              <a:ext cx="7712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BD4604-B7E3-4E98-8702-53E9937855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85716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C3D-EF1A-45F1-8F16-A1E78777CA1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33cc33"/>
                </a:solidFill>
                <a:uFillTx/>
                <a:latin typeface="Arial"/>
              </a:rPr>
              <a:t>Clubhouse Development in Europe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C9C-06F4-4F88-ACE4-9696170CE2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8CAC35-BFD8-47A3-A380-6D3009BA8D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95320" y="500040"/>
            <a:ext cx="6813720" cy="5678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888840" y="214200"/>
            <a:ext cx="76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 u="sng">
                <a:solidFill>
                  <a:srgbClr val="a82453"/>
                </a:solidFill>
                <a:uFillTx/>
                <a:latin typeface="Arial"/>
              </a:rPr>
              <a:t>Existing European Clubhouses – 90 Clubhouses in 18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6093000"/>
            <a:ext cx="6934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90 Clubhouses serving over 11000 member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10280" y="1447920"/>
            <a:ext cx="1752840" cy="37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bania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stria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nmark 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and (?)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onia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land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ermany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celan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eland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aly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sovo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edonia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herlands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way 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and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ania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ssia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otland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eden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  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213080" y="1998720"/>
            <a:ext cx="360072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55960" y="1571760"/>
            <a:ext cx="4075200" cy="35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355560" y="1785960"/>
            <a:ext cx="450396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41360" y="2000160"/>
            <a:ext cx="4575240" cy="79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141280" y="2143080"/>
            <a:ext cx="56466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213080" y="2357280"/>
            <a:ext cx="36468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070080" y="2708280"/>
            <a:ext cx="48168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569960" y="2857320"/>
            <a:ext cx="6361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1855800" y="926640"/>
            <a:ext cx="6075360" cy="193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998800" y="3214800"/>
            <a:ext cx="5146560" cy="11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998520" y="3429000"/>
            <a:ext cx="386100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998520" y="3571920"/>
            <a:ext cx="3646440" cy="14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712600" y="3212640"/>
            <a:ext cx="486108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141720" y="2141280"/>
            <a:ext cx="4718160" cy="178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712680" y="3427200"/>
            <a:ext cx="428940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354560" y="4292640"/>
            <a:ext cx="33876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213160" y="2784240"/>
            <a:ext cx="2717640" cy="171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2141640" y="2498760"/>
            <a:ext cx="5718240" cy="221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3498840" y="2569680"/>
            <a:ext cx="4432320" cy="228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FCE2-E48A-4580-982E-895BACE106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57120" y="260280"/>
            <a:ext cx="850104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7bc143"/>
                </a:solidFill>
                <a:uFillTx/>
                <a:latin typeface="Arial"/>
              </a:rPr>
              <a:t>Europe is divided in the use of CH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7120" y="1428840"/>
            <a:ext cx="878688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Best CH practice countri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included CHs in their Government Mental Health Policy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land, Sweden Denmark, Iceland, Norway and Scotland/UK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n 13 other countr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Europe CHs are approved but not actively promot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In the 35 oth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O – Europe countries CH model is not used and decision-makers are not aware about the CH integration &amp; inclusion possibiliti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The strategic goal </a:t>
            </a:r>
            <a:r>
              <a:rPr b="1" lang="en-US" sz="26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the experienced Clubhouse countries start to transfer their positive outcomes for use in other European countries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9F4E79-B24A-4889-8E1E-021C1B63E2D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71B-3F24-4ECD-B552-F418702AE01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7bc143"/>
                </a:solidFill>
                <a:latin typeface="Arial"/>
              </a:rPr>
              <a:t>CLUBHOUSES ARE PART OF </a:t>
            </a:r>
            <a:br>
              <a:rPr sz="3200"/>
            </a:br>
            <a:r>
              <a:rPr b="1" lang="en-US" sz="3200" spc="-1" strike="noStrike" u="sng">
                <a:solidFill>
                  <a:srgbClr val="7bc143"/>
                </a:solidFill>
                <a:uFillTx/>
                <a:latin typeface="Arial"/>
              </a:rPr>
              <a:t>SOCIAL SERVI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5840" y="1557360"/>
            <a:ext cx="8715240" cy="45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s belong to the Community Mental Health services &amp; cooperate with relevan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s work together with Companies &amp; Employers, and Education, Housing, Employment, and Social Security Benefi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700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Hs follow the Community-Based Rehabilitation (CBR) approach, recommended jointly by the WHO, UNESCO and ILO (1990s &amp; 2004 &amp; 2008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who.int/en/disability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</a:rPr>
              <a:t>/c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Improvement of Clubhouse Activities is supported by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ICCD - The International Center for Clubhouse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Training, Standards, Quality Assurance &amp; Certification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icc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EEF8D2-C829-40E9-9D29-4C5EDFAA44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E96-0FDD-4208-A817-10D0983C1D6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154080"/>
            <a:ext cx="82072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European Partnership for Clubhouse Development  - 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</a:rPr>
              <a:t>EPCD</a:t>
            </a:r>
            <a:br>
              <a:rPr sz="3400"/>
            </a:br>
            <a:r>
              <a:rPr b="1" lang="en-US" sz="1100" spc="-1" strike="noStrike" u="sng">
                <a:solidFill>
                  <a:srgbClr val="c00000"/>
                </a:solidFill>
                <a:uFillTx/>
                <a:latin typeface="Arial"/>
              </a:rPr>
              <a:t>(was created in March 2007 in Stockholm City Hall in the ELECT partners’ meeting)</a:t>
            </a:r>
            <a:r>
              <a:rPr b="1" lang="en-US" sz="1100" spc="-1" strike="noStrike" u="sng">
                <a:solidFill>
                  <a:srgbClr val="c00000"/>
                </a:solidFill>
                <a:uFillTx/>
                <a:latin typeface="Arial"/>
              </a:rPr>
              <a:t>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484280"/>
            <a:ext cx="85075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goals of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PC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social inclusion, education and labour market integration of people with mental health problems by enlargement of the net of European 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coordinate the European research on the Clubhous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hase i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anent formal organisation for the EP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rategic Choice: 1 – 2 EPCD Office in Europe or should we create Alliance with some existing 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o we open EPCD as a collaborative network of all interested parties and a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083DFA-5310-4093-9ED3-5243D1A11D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DCF-9C5F-44A9-9F0B-351D685F1CF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3500D8-850E-424F-902B-87C15400D4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8929800" cy="2428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214200" y="3429000"/>
            <a:ext cx="2714760" cy="2357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3360" cy="2142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87480" cy="214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39560" cy="2142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20840" cy="21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314280" cy="214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466560" cy="2142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0" y="0"/>
            <a:ext cx="414360" cy="2142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306360" cy="2142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87280" cy="214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299880" cy="214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793800" cy="21420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0" y="0"/>
            <a:ext cx="1406520" cy="212760"/>
            <a:chOff x="0" y="0"/>
            <a:chExt cx="1406520" cy="212760"/>
          </a:xfrm>
        </p:grpSpPr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140652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12320" y="26640"/>
              <a:ext cx="1681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400" y="33120"/>
              <a:ext cx="1537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3240" y="26640"/>
              <a:ext cx="16020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9920" y="33120"/>
              <a:ext cx="1663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2720" y="26640"/>
              <a:ext cx="1663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67320" y="26640"/>
              <a:ext cx="1519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27160" y="26640"/>
              <a:ext cx="166320" cy="1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" descr=""/>
          <p:cNvPicPr/>
          <p:nvPr/>
        </p:nvPicPr>
        <p:blipFill>
          <a:blip r:embed="rId15"/>
          <a:stretch/>
        </p:blipFill>
        <p:spPr>
          <a:xfrm>
            <a:off x="0" y="0"/>
            <a:ext cx="6473880" cy="334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5357880" cy="433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17"/>
          <a:stretch/>
        </p:blipFill>
        <p:spPr>
          <a:xfrm>
            <a:off x="0" y="0"/>
            <a:ext cx="1320840" cy="1666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8"/>
          <a:stretch/>
        </p:blipFill>
        <p:spPr>
          <a:xfrm>
            <a:off x="0" y="0"/>
            <a:ext cx="1320840" cy="1666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9"/>
          <a:stretch/>
        </p:blipFill>
        <p:spPr>
          <a:xfrm>
            <a:off x="5072040" y="33577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5357880" y="6000840"/>
            <a:ext cx="278604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59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elect-project.e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1880" y="3429000"/>
            <a:ext cx="1843200" cy="25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598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 is a consortium of 11 partners from 7 EU countries &amp; ICCD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9A9-D8E5-43B8-8B2F-3BF711A12D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124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The Clubhouse is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not</a:t>
            </a: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 </a:t>
            </a:r>
            <a:br>
              <a:rPr sz="3400"/>
            </a:b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one-idea model </a:t>
            </a:r>
            <a:br>
              <a:rPr sz="3400"/>
            </a:br>
            <a:r>
              <a:rPr b="1" lang="en-US" sz="1200" spc="-1" strike="noStrike">
                <a:solidFill>
                  <a:srgbClr val="7bc143"/>
                </a:solidFill>
                <a:latin typeface="Arial"/>
              </a:rPr>
              <a:t>_______________________________________________________________________________________________</a:t>
            </a:r>
            <a:endParaRPr b="1" lang="en-US" sz="12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964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ubhouses are consisting of several components bringing in the positive outcomes for persons recovering from mental illn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ubhouses are linking the integrative rehabilitation pathway from dependency to independent liv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Since 1980s the scientific community has produced a growing evidence on the positive impacts of the CH model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UMASS, Worcester USA, data on R&amp;D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findings).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Finnish study report 2009 confirms the previous research finding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372360" y="5589720"/>
            <a:ext cx="1224000" cy="93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082-0FDC-4397-8698-12363289F8F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67F455-2C45-41F3-8FE2-9209CF2424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2960" y="692280"/>
            <a:ext cx="81439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Lucida Sans Unicode"/>
              </a:rPr>
              <a:t>Additional Information in website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CCD: 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1"/>
              </a:rPr>
              <a:t>www.iccd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CB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(WHO, ILO &amp; UNESCO)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2"/>
              </a:rPr>
              <a:t>www.who.int/en/disability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Lucida Sans Unicode"/>
              </a:rPr>
              <a:t>/c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ECT-project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3"/>
              </a:rPr>
              <a:t>www.elect-project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Helsinki Clubhouse: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ea typeface="Lucida Sans Unicode"/>
                <a:hlinkClick r:id="rId4"/>
              </a:rPr>
              <a:t>www.helsinginklubital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ko Hänninen, Coordinator of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Lucida Sans Unicode"/>
              </a:rPr>
              <a:t>EP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e-mail: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Arial"/>
                <a:ea typeface="Lucida Sans Unicode"/>
              </a:rPr>
              <a:t>hanninen.esko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l (gsm): +358 40 503 7095 (Finlan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9A65-9042-47EE-9C9E-CE7BF3AA6B4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The Finnish Research Team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70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ietala-Paalasmaa Ou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ujanen Ti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Härkäpää Kristi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Reuter An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Study cov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ubhouses in Finland in 20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6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ving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innish Municipa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Data were collected in years 2004 - 20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6A1-D5C1-40B3-BC45-630FAF5CC1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Finland’s 18 CHs in 2004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5075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Are own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municipalities/cities 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3 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Espoo Diaconia Founda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 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 NGOs in mental health or related field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14 C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75000"/>
              </a:lnSpc>
              <a:spcBef>
                <a:spcPts val="113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And financed b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bling profit, collected by RAY (Finnish Slot                Machine Associ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ed annually by the Ministry of Social Affairs and Health to NGOs &amp; Found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75000"/>
              </a:lnSpc>
              <a:spcBef>
                <a:spcPts val="1137"/>
              </a:spcBef>
              <a:buClr>
                <a:srgbClr val="7bc143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6 Finnish Municipalities/C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950-CA32-420E-B758-0DF7D4AA6D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Population Served by CHs in Finland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Population</a:t>
            </a: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Less than 25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25.000 – 100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More than 100.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148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Club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Unicode MS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3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6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44.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39.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Unicode MS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6F5-D64B-4BE8-AA83-E6E0BC1F0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Participation rate in CH Activiti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tten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- 4 times in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Once in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 – 3 times in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Non-active members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attending less than one visit per 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148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         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4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56 % of all were activ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mbers in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64F-DBA3-4FD1-9B4E-96E5EF2BEA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Members’ Age in Finnish CH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6360" y="1483920"/>
            <a:ext cx="30132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18 –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25 – 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35 – 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45 – 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55 –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65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1840" y="1484280"/>
            <a:ext cx="43228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Perce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Unicode M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4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6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53 % of all members belong in age group 25 – 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19C-8515-4E51-A7F3-50ED74F32B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584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Growth</a:t>
            </a:r>
            <a:r>
              <a:rPr b="1" lang="fi-FI" sz="3400" spc="-1" strike="noStrike" u="sng">
                <a:solidFill>
                  <a:srgbClr val="7bc143"/>
                </a:solidFill>
                <a:uFillTx/>
                <a:latin typeface="Arial"/>
              </a:rPr>
              <a:t> of TE placements in Finland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35895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1480" y="1483920"/>
            <a:ext cx="403236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</a:rPr>
              <a:t>CH Members in 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101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(TE jobs 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irca  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200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??? Ville ?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0ED-840B-4395-994D-CAF7310928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14200" y="260280"/>
            <a:ext cx="86439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400" spc="-1" strike="noStrike" u="sng">
                <a:solidFill>
                  <a:srgbClr val="7bc143"/>
                </a:solidFill>
                <a:uFillTx/>
                <a:latin typeface="Arial"/>
              </a:rPr>
              <a:t>The Components of a Clubhou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268280"/>
            <a:ext cx="403236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Day in the 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ed Education an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ment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, SE, 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ing, Weekend and Holiday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Assurance &amp; Cert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3280" y="1268280"/>
            <a:ext cx="4032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for People with Mental Illness (including researc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Promo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 and Management of the Club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the Development of Other Club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(All these components are identified in Finland’s C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4/09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sko Hänninen,  Helsinki, 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6474BC-EFB9-4750-9761-EDFE6ED06A6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2DD-0D3F-4587-BED6-649F43DF87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änninen Esko</dc:creator>
  <dc:description/>
  <dc:language>en-US</dc:language>
  <cp:lastModifiedBy>GRONBERG_VILLE</cp:lastModifiedBy>
  <dcterms:modified xsi:type="dcterms:W3CDTF">2003-10-28T23:57:11Z</dcterms:modified>
  <cp:revision>13</cp:revision>
  <dc:subject/>
  <dc:title>Dia 1</dc:title>
</cp:coreProperties>
</file>