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58013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40B-3A0A-4751-9484-F9436717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766-7A18-4943-A86B-B5167EEB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0866-954F-4AC8-844E-F4096FE7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84BF-04A6-4F7E-B885-2DBA185B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EF0-9AB0-4A2A-A12C-9F7DE89A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2EA-230E-4CD2-A6DF-0A1FF958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788E-3A99-489F-B4D4-655C3EBA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4C83-4BC3-482A-9E58-85ABD258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F85-802C-41CD-8C58-7C9C3477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6B3-2A4A-4DAE-8F80-2B183CEF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91D-D7D5-4FE8-861B-D406E0E0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DBC-C486-462C-AEA6-6F7A67E2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EFB8-A4D1-4745-906B-9678DFC07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Final report of W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ctivation and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2.3 Best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How do we welcome people on the firs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All Clubhouses stress the importance of welcoming members in a warm, relaxed, welcoming atmosphere so everybody feel the Clubhouse to be a safe and nic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2.3 Best pract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How do we insopire members to take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ll Clubhouses orientate members about opportunities of courses/classes in the Clubhouse during the introductory interview and unit- and house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ll Clubhouses have members as teachers, as well as teachers from out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2.4 E-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Pilot short courses by using Computer Supported Collaborative Learning (CSS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English for begi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Suvimäen Klubitalo,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3 Discussion of the task (outcom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he overall outcome of all of our questionares and discussions is, that every Clubhouse member wants to learn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Learning is very important to them / 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In general Clubhouses do offer a broad field of learning possibilities to the me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4 Summary of the tasks and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Activation means to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o support members to be active; to take part in somet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Motivation means to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o inspire people to find their inner motivation (you can not work without motiva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C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Open Collegu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Was presented 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Urkraft” from Skellefteå, Sw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 method to evaluate and grade work in the Clubhous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HE ELECT PROJECT HAS BROUGHT THE EUROPEAN CLUBHOUSES TOGETHER, AND IT HAS STRENGTHENED THE EUROPEAN COOPE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WE ARE LOOKING FORWARD TO THE HOPEFULLY FOLLOWING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Motivates Clubhouse members to take part in training and finds out their educational goals and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Improves clubhouse members basic skills and learning abilities by activating and motivating members to take part in different kind of short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1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2 Tasks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 What does clubhouse o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2.2    Needs and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 Best prac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2.4    E-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3 Discussion of the tasks (outco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4 Summary of tasks and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1 Background</a:t>
            </a: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We were supposed to produ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survey of prevailing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report of 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member trainees educational needs and goals +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CSCL courses +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learning pathway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review of WP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2.1 What does Clubhouse off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2.2 Needs and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2.3 Best pract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2.4 E-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2.1 What does clubhouse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Report about prevailing practicies of learning in Clubhouses is based upon a question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All Clubhouses do offer courses for their members. There is a big focus on languages and compute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There is a lot of other lessons in the field of arts, sports and wellness, communication and skills for daily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2.1 What does clubhouse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eachers aremostly members, but also staff offers a l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here are also volonteers, teachers and students from outside the Club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part from these courses there are lots of learning situations during the work ordered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2.1 What does Clubhouse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Support from the Clubhouse for members who are participating  in courses outside the Clubhouse is very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More than half of the Clubhouses do not follow up on things members learned in thermes of action plans or goal planning. So this topic needs mor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Decisions about courses are mostly taken in house or policy meetings. If money is concerned the last responsibility lays with the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2.2 Needs and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Questionaires of needs and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Computer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Langu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Practic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Soci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3:09:05Z</dcterms:created>
  <dc:creator>196105150418</dc:creator>
  <dc:description/>
  <dc:language>en-US</dc:language>
  <cp:lastModifiedBy>196105150418</cp:lastModifiedBy>
  <dcterms:modified xsi:type="dcterms:W3CDTF">2009-09-09T09:29:20Z</dcterms:modified>
  <cp:revision>5</cp:revision>
  <dc:subject/>
  <dc:title>Final report of WP 2</dc:title>
</cp:coreProperties>
</file>