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958013" cy="92598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2FDA3-7307-411F-9C58-B2319F82C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C6FCA-E068-4D4F-8464-058DAC61A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B8451-9A3B-4CD4-9466-1C4B68C42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7E1DE-0E71-4F0E-ABB1-3C2B0CB0B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B51FC-C297-4D96-A60E-65F2A3369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32436-3BC9-4288-82C0-E152F5255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55EE5-0B2D-4386-A3F7-126080AF4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86015-456D-4B96-B867-B81ABAD8B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815E1-EC12-4FFD-B6BE-B1132B5F9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C3962-6688-45AC-BE0C-E540E055A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93747-D9D4-488D-B040-28BE389D6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F173F-3C49-4A61-846F-705E22307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C6C33-C23D-40CA-BB57-6896E92AAF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Arial"/>
              </a:rPr>
              <a:t>Final report of WP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Arial"/>
              </a:rPr>
              <a:t>Activation and Moti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Arial"/>
              </a:rPr>
              <a:t>2.3 Best practi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800" spc="-1" strike="noStrike">
                <a:solidFill>
                  <a:srgbClr val="000000"/>
                </a:solidFill>
                <a:latin typeface="Arial"/>
              </a:rPr>
              <a:t>How do we welcome people on the first 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Arial"/>
              </a:rPr>
              <a:t>All Clubhouses stress the importance of welcoming members in a warm, relaxed, welcoming atmosphere so everybody feel the Clubhouse to be a safe and nice pl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Arial"/>
              </a:rPr>
              <a:t>2.3 Best practi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200" spc="-1" strike="noStrike">
                <a:solidFill>
                  <a:srgbClr val="000000"/>
                </a:solidFill>
                <a:latin typeface="Arial"/>
              </a:rPr>
              <a:t>How do we insopire members to take cour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Arial"/>
              </a:rPr>
              <a:t>All Clubhouses orientate members about opportunities of courses/classes in the Clubhouse during the introductory interview and unit- and house mee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Arial"/>
              </a:rPr>
              <a:t>All Clubhouses have members as teachers, as well as teachers from outs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Arial"/>
              </a:rPr>
              <a:t>2.4 E-lear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200" spc="-1" strike="noStrike">
                <a:solidFill>
                  <a:srgbClr val="000000"/>
                </a:solidFill>
                <a:latin typeface="Arial"/>
              </a:rPr>
              <a:t>Pilot short courses by using Computer Supported Collaborative Learning (CSS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Arial"/>
              </a:rPr>
              <a:t>English for begin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Arial"/>
              </a:rPr>
              <a:t>Suvimäen Klubitalo, Fin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000" spc="-1" strike="noStrike">
                <a:solidFill>
                  <a:srgbClr val="000000"/>
                </a:solidFill>
                <a:latin typeface="Arial"/>
              </a:rPr>
              <a:t>3 Discussion of the task (outcom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Arial"/>
              </a:rPr>
              <a:t>The overall outcome of all of our questionares and discussions is, that every Clubhouse member wants to learn somet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Arial"/>
              </a:rPr>
              <a:t>Learning is very important to them / u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Arial"/>
              </a:rPr>
              <a:t>In general Clubhouses do offer a broad field of learning possibilities to the memb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000" spc="-1" strike="noStrike">
                <a:solidFill>
                  <a:srgbClr val="000000"/>
                </a:solidFill>
                <a:latin typeface="Arial"/>
              </a:rPr>
              <a:t>4 Summary of the tasks and proce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200" spc="-1" strike="noStrike">
                <a:solidFill>
                  <a:srgbClr val="000000"/>
                </a:solidFill>
                <a:latin typeface="Arial"/>
              </a:rPr>
              <a:t>Activation means to u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Arial"/>
              </a:rPr>
              <a:t>to support members to be active; to take part in someth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200" spc="-1" strike="noStrike">
                <a:solidFill>
                  <a:srgbClr val="000000"/>
                </a:solidFill>
                <a:latin typeface="Arial"/>
              </a:rPr>
              <a:t>Motivation means to u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Arial"/>
              </a:rPr>
              <a:t>to inspire people to find their inner motivation (you can not work without motivation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CN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200" spc="-1" strike="noStrike">
                <a:solidFill>
                  <a:srgbClr val="000000"/>
                </a:solidFill>
                <a:latin typeface="Arial"/>
              </a:rPr>
              <a:t>Open Collegue Net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200" spc="-1" strike="noStrike">
                <a:solidFill>
                  <a:srgbClr val="000000"/>
                </a:solidFill>
                <a:latin typeface="Arial"/>
              </a:rPr>
              <a:t>Was presented by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sv-SE" sz="3200" spc="-1" strike="noStrike">
                <a:solidFill>
                  <a:srgbClr val="000000"/>
                </a:solidFill>
                <a:latin typeface="Arial"/>
              </a:rPr>
              <a:t>Urkraft” from Skellefteå, Swe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Arial"/>
              </a:rPr>
              <a:t>A method to evaluate and grade work in the Clubhouse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Arial"/>
              </a:rPr>
              <a:t>THE ELECT PROJECT HAS BROUGHT THE EUROPEAN CLUBHOUSES TOGETHER, AND IT HAS STRENGTHENED THE EUROPEAN COOPERATI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Arial"/>
              </a:rPr>
              <a:t>WE ARE LOOKING FORWARD TO THE HOPEFULLY FOLLOWING PROJEC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bstra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Arial"/>
              </a:rPr>
              <a:t>Motivates Clubhouse members to take part in training and finds out their educational goals and nee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Arial"/>
              </a:rPr>
              <a:t>Improves clubhouse members basic skills and learning abilities by activating and motivating members to take part in different kind of short cour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v-SE" sz="2800" spc="-1" strike="noStrike">
                <a:solidFill>
                  <a:srgbClr val="000000"/>
                </a:solidFill>
                <a:latin typeface="Arial"/>
              </a:rPr>
              <a:t>1 Backgr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v-SE" sz="2800" spc="-1" strike="noStrike">
                <a:solidFill>
                  <a:srgbClr val="000000"/>
                </a:solidFill>
                <a:latin typeface="Arial"/>
              </a:rPr>
              <a:t>2 Tasks</a:t>
            </a:r>
            <a:r>
              <a:rPr b="0" lang="sv-SE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v-SE" sz="2800" spc="-1" strike="noStrike">
                <a:solidFill>
                  <a:srgbClr val="000000"/>
                </a:solidFill>
                <a:latin typeface="Arial"/>
              </a:rPr>
              <a:t>2.1</a:t>
            </a:r>
            <a:r>
              <a:rPr b="0" lang="sv-SE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v-SE" sz="2800" spc="-1" strike="noStrike">
                <a:solidFill>
                  <a:srgbClr val="000000"/>
                </a:solidFill>
                <a:latin typeface="Arial"/>
              </a:rPr>
              <a:t> What does clubhouse off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v-SE" sz="2800" spc="-1" strike="noStrike">
                <a:solidFill>
                  <a:srgbClr val="000000"/>
                </a:solidFill>
                <a:latin typeface="Arial"/>
              </a:rPr>
              <a:t>2.2    Needs and go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v-SE" sz="2800" spc="-1" strike="noStrike">
                <a:solidFill>
                  <a:srgbClr val="000000"/>
                </a:solidFill>
                <a:latin typeface="Arial"/>
              </a:rPr>
              <a:t>2.3</a:t>
            </a:r>
            <a:r>
              <a:rPr b="0" lang="sv-SE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v-SE" sz="2800" spc="-1" strike="noStrike">
                <a:solidFill>
                  <a:srgbClr val="000000"/>
                </a:solidFill>
                <a:latin typeface="Arial"/>
              </a:rPr>
              <a:t> Best practi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v-SE" sz="2800" spc="-1" strike="noStrike">
                <a:solidFill>
                  <a:srgbClr val="000000"/>
                </a:solidFill>
                <a:latin typeface="Arial"/>
              </a:rPr>
              <a:t>2.4    E-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Arial"/>
              </a:rPr>
              <a:t>3 Discussion of the tasks (outcom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Arial"/>
              </a:rPr>
              <a:t>4 Summary of tasks and proces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sv-SE" sz="4400" spc="-1" strike="noStrike">
                <a:solidFill>
                  <a:srgbClr val="000000"/>
                </a:solidFill>
                <a:latin typeface="Arial"/>
              </a:rPr>
              <a:t>1 Background</a:t>
            </a:r>
            <a:r>
              <a:rPr b="0" lang="sv-SE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v-SE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Arial"/>
              </a:rPr>
              <a:t>We were supposed to produc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v-SE" sz="2800" spc="-1" strike="noStrike">
                <a:solidFill>
                  <a:srgbClr val="000000"/>
                </a:solidFill>
                <a:latin typeface="Arial"/>
              </a:rPr>
              <a:t>survey of prevailing pract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v-SE" sz="2800" spc="-1" strike="noStrike">
                <a:solidFill>
                  <a:srgbClr val="000000"/>
                </a:solidFill>
                <a:latin typeface="Arial"/>
              </a:rPr>
              <a:t>report of good pract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Arial"/>
              </a:rPr>
              <a:t>member trainees educational needs and goals + re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Arial"/>
              </a:rPr>
              <a:t>CSCL courses + feedb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Arial"/>
              </a:rPr>
              <a:t>learning pathways and pl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Arial"/>
              </a:rPr>
              <a:t>review of WP activ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 Tas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Arial"/>
              </a:rPr>
              <a:t>2.1 What does Clubhouse off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Arial"/>
              </a:rPr>
              <a:t>2.2 Needs and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Arial"/>
              </a:rPr>
              <a:t>2.3 Best practi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Arial"/>
              </a:rPr>
              <a:t>2.4 E-lea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Arial"/>
              </a:rPr>
              <a:t>2.1 What does clubhouse off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Arial"/>
              </a:rPr>
              <a:t>Report about prevailing practicies of learning in Clubhouses is based upon a question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Arial"/>
              </a:rPr>
              <a:t>All Clubhouses do offer courses for their members. There is a big focus on languages and computer 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Arial"/>
              </a:rPr>
              <a:t>There is a lot of other lessons in the field of arts, sports and wellness, communication and skills for daily li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Arial"/>
              </a:rPr>
              <a:t>2.1 What does clubhouse off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Arial"/>
              </a:rPr>
              <a:t>Teachers aremostly members, but also staff offers a lo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Arial"/>
              </a:rPr>
              <a:t>There are also volonteers, teachers and students from outside the Clubho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Arial"/>
              </a:rPr>
              <a:t>Apart from these courses there are lots of learning situations during the work ordered 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Arial"/>
              </a:rPr>
              <a:t>2.1 What does Clubhouse off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Arial"/>
              </a:rPr>
              <a:t>Support from the Clubhouse for members who are participating  in courses outside the Clubhouse is very differ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Arial"/>
              </a:rPr>
              <a:t>More than half of the Clubhouses do not follow up on things members learned in thermes of action plans or goal planning. So this topic needs more atten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Arial"/>
              </a:rPr>
              <a:t>Decisions about courses are mostly taken in house or policy meetings. If money is concerned the last responsibility lays with the direc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Arial"/>
              </a:rPr>
              <a:t>2.2 Needs and go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200" spc="-1" strike="noStrike">
                <a:solidFill>
                  <a:srgbClr val="000000"/>
                </a:solidFill>
                <a:latin typeface="Arial"/>
              </a:rPr>
              <a:t>Questionaires of needs and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Arial"/>
              </a:rPr>
              <a:t>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Arial"/>
              </a:rPr>
              <a:t>Computer ski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Arial"/>
              </a:rPr>
              <a:t>Languag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Arial"/>
              </a:rPr>
              <a:t>Practical ski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Arial"/>
              </a:rPr>
              <a:t>Social ski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7T13:09:05Z</dcterms:created>
  <dc:creator>196105150418</dc:creator>
  <dc:description/>
  <dc:language>en-US</dc:language>
  <cp:lastModifiedBy>196105150418</cp:lastModifiedBy>
  <dcterms:modified xsi:type="dcterms:W3CDTF">2009-09-09T09:29:20Z</dcterms:modified>
  <cp:revision>5</cp:revision>
  <dc:subject/>
  <dc:title>Final report of WP 2</dc:title>
</cp:coreProperties>
</file>