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522C-8009-4B2B-99D4-D7093D4B8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A42D-F7C5-4691-BBA6-75B68428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4FDD-4862-44FB-B452-EC533A11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2DF3-D4A0-4E27-B685-2A4AF4FD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91EE-1B94-4B3C-8FDA-6A89190C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D5DF-E486-41C3-8D96-1D49E728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89B2-5A55-4AA5-8F2A-F396C9C0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7AD6-1E5D-4EDA-B210-854FB295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8073-B747-4374-AFBA-87E61540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7031-5827-4899-8FCF-05EE3E29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0555-B6F9-4FE5-ABE0-D141BB76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363A-6A75-4758-8910-271CA217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AD78-3CB7-457C-84CD-FF1C6A8D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42C7-2ECF-4E03-BC0E-46288C28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49CA-77CC-47D9-9AC0-C03E59F2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749C-9E4F-425F-8387-F1BB8433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AB01-091D-4AFB-9BAA-C25E9A83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88D3E-1DC2-4873-99EC-ED51FD91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CB419-B48B-4CC7-B5D5-6D6084BC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3704F-2786-4F7C-B03D-79A4EA63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20360-55D3-4994-AA2A-A4DD9AB6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47C57-883C-4422-AAC6-FE7089B6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F5C2-40F6-4DB0-8F73-B9165BD7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128D9-195C-46BF-B6DD-F2B80DF5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AE006-4DD5-46D7-8F1C-5958BF81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3B6B9-919C-4A89-905A-DFA62E25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52ED3-1FD4-454A-A856-70A5F875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E5C3C-290E-4EC5-8F3B-0D1497B7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E65D5-5735-423F-AD1A-1573CEC8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FAEA9-6300-45B9-B99E-3D95445D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11403-B4BE-4066-88FF-8E55045B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B33DC-A6DC-4B20-A759-D027ABCA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AB00C-BAC2-4364-B8BF-DFD77F2F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4FC6-7688-4D9F-BAFE-6678DB98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2ABDB-FED1-4E4E-BCCD-87B446F2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7088D-7930-4D28-8547-8BD9EF3D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1C257-8B22-4682-99FE-D4B0A218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91427-A08F-4E7A-9240-E113437B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1AD3E-EADA-41C2-9911-C4D51E65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D8898-5484-4B8F-86A6-60155C10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24369-7F5E-47BA-9771-A3343623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58307-FF80-4C71-8728-92DF412E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0AD30-480C-43CD-A32B-75B5BC2C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62E04-F4A3-44F4-B112-760EA243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7D1D-DFDF-4332-BB20-D0903DAC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BF7E1-20E2-48A2-B6FC-0E1ED2E3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B4758-0DD0-4336-9099-F8011753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45FDE-5AC7-4293-8E2F-EC845BE5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85246-D77F-4FCC-AB8D-55AA082F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9FEF7-0867-4A13-85F6-6E26C9F7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E67DE-AA16-40C4-B8B6-E1FD401D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837A8-428C-4B28-A753-CD41BC73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9CB61-F6F6-4B01-8011-54A282B3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95A18-5AFC-4EF1-B24F-F5C64903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94792-82B0-4072-B5BF-45F9599D6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9EB0-71B2-4FEC-A9F4-7E6BE673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D8DBF-CE6E-4D5F-B1DC-187D14D4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DAF90-07AB-4FBB-B966-5D457CA0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14AB2-F6DF-4424-9842-041B5136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F5B05-A0A7-4280-9E7D-93FB8450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3C1F6-4CC0-4DBB-98F9-E4AA3B02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4D204-EFAD-4D5C-9F0E-E96249B1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4C828-2112-458A-8A3F-42DD71F8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7B7AC-B58A-4ECC-8546-1D06F958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6F08E-6181-466C-B3E0-F9467C61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6B6E2-37F8-47C5-A630-2F743010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1ADA-B4C4-4D67-9006-0C6E8993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C42FA-F081-4724-B385-5957198B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A3F3B-6CCC-4CC1-A24A-B643E457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1A5CD-FC45-4075-80EC-5BB8F558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6F0C-38F7-46CD-BD25-862D53B8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A3B1-53AC-4082-8279-CCE93C14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uolivapaa piirto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uolivapaa piirto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78E5-F14C-445A-AAD6-85D50C0666B8}" type="slidenum">
              <a:rPr b="0" lang="fi-FI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uolivapaa piirto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uolivapaa piirto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749E-E6CB-40AB-8B54-A79D0BF24835}" type="slidenum">
              <a:rPr b="0" lang="fi-FI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uolivapaa piirto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uolivapaa piirto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3D62-9C49-4C87-8286-CAAD2C0BB082}" type="slidenum">
              <a:rPr b="0" lang="fi-FI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614B-E7FD-48EC-9C5C-E47B3A697028}" type="slidenum">
              <a:rPr b="0" lang="fi-FI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uolivapaa piirto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uolivapaa piirto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A036-B544-4403-B5B4-3C22B25DAB7C}" type="slidenum">
              <a:rPr b="0" lang="fi-FI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4A87-4E46-457C-A852-76FF0FA966E4}" type="slidenum">
              <a:rPr b="0" lang="fi-FI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Otsikko 1" descr=""/>
          <p:cNvPicPr/>
          <p:nvPr/>
        </p:nvPicPr>
        <p:blipFill>
          <a:blip r:embed="rId1"/>
          <a:stretch/>
        </p:blipFill>
        <p:spPr>
          <a:xfrm>
            <a:off x="-6480" y="2230560"/>
            <a:ext cx="9017280" cy="29210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85840" y="213840"/>
            <a:ext cx="6480000" cy="17528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00"/>
                </a:solidFill>
                <a:latin typeface="Arial"/>
              </a:rPr>
              <a:t>Elect Work Package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571320" y="428760"/>
            <a:ext cx="7467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Final version of the training material: Training provider has to produce the material implemented in the national Clubhouse fiel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Supported Education Training Material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WP 4 could not benefit of the other WPs material for the Pilot Course in March because the material was not available ye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9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9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7" dur="1" fill="hold"/>
                                  <p:tgtEl>
                                    <p:spTgt spid="2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Project Meeting Schedul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It would have been useful with one more Project Meeting before this final Elect Meeting in order to lighten Lead Partner’s work and check the training materi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9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9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9" dur="1" fill="hold"/>
                                  <p:tgtEl>
                                    <p:spTgt spid="2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85480" y="142920"/>
            <a:ext cx="7467480" cy="13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br>
              <a:rPr sz="4600"/>
            </a:br>
            <a:r>
              <a:rPr b="0" lang="fi-FI" sz="4600" spc="-1" strike="noStrike">
                <a:solidFill>
                  <a:srgbClr val="ffff00"/>
                </a:solidFill>
                <a:latin typeface="Franklin Gothic Book"/>
              </a:rPr>
              <a:t>PROSPECTS </a:t>
            </a:r>
            <a:br>
              <a:rPr sz="4600"/>
            </a:br>
            <a:r>
              <a:rPr b="0" lang="fi-FI" sz="2800" spc="-1" strike="noStrike">
                <a:solidFill>
                  <a:srgbClr val="ffffff"/>
                </a:solidFill>
                <a:latin typeface="Franklin Gothic Book"/>
              </a:rPr>
              <a:t>How to continue from here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99680" y="20001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Supported Education Trai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which Clubhouses are interested in  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arranging Supported Education 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Training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Funding is available through 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Lifelong Learning (details project 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manager Ville Grönberg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9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9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0" dur="1" fill="hold"/>
                                  <p:tgtEl>
                                    <p:spTgt spid="2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9680" y="2642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fi-FI" sz="4600" spc="-1" strike="noStrike">
                <a:solidFill>
                  <a:srgbClr val="ffffff"/>
                </a:solidFill>
                <a:latin typeface="Franklin Gothic Book"/>
              </a:rPr>
              <a:t>THANK YOU ALL!</a:t>
            </a:r>
            <a:br>
              <a:rPr sz="4600"/>
            </a:br>
            <a:r>
              <a:rPr b="0" lang="fi-FI" sz="4600" spc="-1" strike="noStrike">
                <a:solidFill>
                  <a:srgbClr val="ffffff"/>
                </a:solidFill>
                <a:latin typeface="Franklin Gothic Book"/>
              </a:rPr>
              <a:t>We made a great Elect Project Team!</a:t>
            </a:r>
            <a:br>
              <a:rPr sz="4600"/>
            </a:br>
            <a:br>
              <a:rPr sz="4600"/>
            </a:br>
            <a:br>
              <a:rPr sz="4600"/>
            </a:br>
            <a:r>
              <a:rPr b="0" lang="fi-FI" sz="4600" spc="-1" strike="noStrike">
                <a:solidFill>
                  <a:srgbClr val="ffffff"/>
                </a:solidFill>
                <a:latin typeface="Franklin Gothic Book"/>
              </a:rPr>
              <a:t>All’s well that ends well</a:t>
            </a:r>
            <a:br>
              <a:rPr sz="4600"/>
            </a:b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0" dur="1" fill="hold"/>
                                  <p:tgtEl>
                                    <p:spTgt spid="2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600" spc="-1" strike="noStrike">
                <a:solidFill>
                  <a:srgbClr val="ffff00"/>
                </a:solidFill>
                <a:latin typeface="Franklin Gothic Book"/>
              </a:rPr>
              <a:t>PARTN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Mosaic Clubhouse, London, UK </a:t>
            </a: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(Lead partn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Helsingin Klubitalo, Helsinki, Finlan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Fontänhuset, Malmö, Swed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Caledonia Clubhouse, Falkirk, U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2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  <p:animClr clrSpc="rgb">
                                <p:cBhvr>
                                  <p:cTn id="47" dur="1" fill="hold"/>
                                  <p:tgtEl>
                                    <p:spTgt spid="2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  <p:animClr clrSpc="rgb">
                                <p:cBhvr>
                                  <p:cTn id="48" dur="1" fill="hold"/>
                                  <p:tgtEl>
                                    <p:spTgt spid="2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  <p:animClr clrSpc="rgb">
                                <p:cBhvr>
                                  <p:cTn id="49" dur="1" fill="hold"/>
                                  <p:tgtEl>
                                    <p:spTgt spid="2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600" spc="-1" strike="noStrike">
                <a:solidFill>
                  <a:srgbClr val="ffff00"/>
                </a:solidFill>
                <a:latin typeface="Franklin Gothic Book"/>
              </a:rPr>
              <a:t>FACILITATOR’S GU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The Facilitator’s Guide is designed to be a manual for trainers used by Clubhouse members and staff who will be delivering The Supported Education Training to other Clubhouse members and staff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42600" y="23320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kstikehys 2"/>
          <p:cNvSpPr/>
          <p:nvPr/>
        </p:nvSpPr>
        <p:spPr>
          <a:xfrm>
            <a:off x="428760" y="0"/>
            <a:ext cx="76435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00"/>
                </a:solidFill>
                <a:latin typeface="Arial"/>
              </a:rPr>
              <a:t>Table of Cont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Aims and Objectives of Supported Education Cou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kstikehys 3"/>
          <p:cNvSpPr/>
          <p:nvPr/>
        </p:nvSpPr>
        <p:spPr>
          <a:xfrm>
            <a:off x="428760" y="178596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Excercise 1: Welcome, Introductions and Ground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Excercise 2: Clubhouse Relation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Excercise 3: Adult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Excercise 4: Disclo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Excercise 5: Visits to Education Provi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1" dur="1" fill="hold"/>
                                  <p:tgtEl>
                                    <p:spTgt spid="26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143000"/>
            <a:ext cx="79725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Excercise 6: Evalution of Visits to Education Provi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Excercise 7: Identification of Best Practice in Relation to Clubhouse Supported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Excercise 8: Presentation of Action Pl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Excercise 9: Course Eva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2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600" spc="-1" strike="noStrike">
                <a:solidFill>
                  <a:srgbClr val="ffff00"/>
                </a:solidFill>
                <a:latin typeface="Franklin Gothic Book"/>
              </a:rPr>
              <a:t>INTRODUC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28400" y="16430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Who is it for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How to us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Involving education servi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Involving Clubhouse memb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Unit work &amp; special eve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2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642600" y="5000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Supporting participan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Timing of the course &amp; discuss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Aims of supported education cour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Objectives of supported education cours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Materia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9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9" dur="1" fill="hold"/>
                                  <p:tgtEl>
                                    <p:spTgt spid="26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600" spc="-1" strike="noStrike">
                <a:solidFill>
                  <a:srgbClr val="ffff00"/>
                </a:solidFill>
                <a:latin typeface="Franklin Gothic Book"/>
              </a:rPr>
              <a:t>WP 4 PROJECT WORK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57120" y="164304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Partners were able to attend all the project meeting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Discussions were vivid and fruitfu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The main goals were achieved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- the Supported Education Pilot Cour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- Facilitator’s Guid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5" dur="1" fill="hold"/>
                                  <p:tgtEl>
                                    <p:spTgt spid="2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  <p:animClr clrSpc="rgb">
                                <p:cBhvr>
                                  <p:cTn id="286" dur="1" fill="hold"/>
                                  <p:tgtEl>
                                    <p:spTgt spid="2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600" spc="-1" strike="noStrike">
                <a:solidFill>
                  <a:srgbClr val="ffff00"/>
                </a:solidFill>
                <a:latin typeface="Franklin Gothic Book"/>
              </a:rPr>
              <a:t>COMM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The communication and work in between the Project Meetings were challeng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- geographical dista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- practical communication difficulties </a:t>
            </a: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(emai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- language barri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i-FI" sz="3000" spc="-1" strike="noStrike">
                <a:solidFill>
                  <a:srgbClr val="ffffff"/>
                </a:solidFill>
                <a:latin typeface="Arial"/>
              </a:rPr>
              <a:t>- Clubhouse work ordered da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9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9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6" dur="1" fill="hold"/>
                                  <p:tgtEl>
                                    <p:spTgt spid="27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5:28:26Z</dcterms:created>
  <dc:creator>Eke 1</dc:creator>
  <dc:description/>
  <dc:language>en-US</dc:language>
  <cp:lastModifiedBy>Jäsen</cp:lastModifiedBy>
  <dcterms:modified xsi:type="dcterms:W3CDTF">2009-09-18T10:46:10Z</dcterms:modified>
  <cp:revision>51</cp:revision>
  <dc:subject/>
  <dc:title>Elect</dc:title>
</cp:coreProperties>
</file>