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923-6801-4E97-97C7-543ED293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534-03C9-4F2A-8884-FB436251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E8B-3FEA-486D-AEA1-F0A93F8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ADF-076A-4BE1-8E13-AE659F2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FC9-96A2-4BC0-8DAB-3C059392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3FC9-F76F-4358-A6C4-013628F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039-B7AF-45B3-9347-F4C3EDD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FD6-BF58-4AC6-AA01-EA8B7E1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29E4-BA7D-47AC-8552-FA43643C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A00D-E40D-4936-9781-11D957D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7B85-5CE5-4173-873D-6C3E396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9D4-84A3-445A-9958-AE80775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9F99-24DF-47D1-9621-2FC20F0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9AA6-1D6A-42E2-84AF-5A58F448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51BC-5389-4096-8A30-F2BC6F25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72D5-6B34-442C-BC66-96989EBA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8CE-D55E-4A9C-A57E-C7A25D86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BF4E-E4FE-4D65-BAD5-289F9DF9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3118-3AA9-4F98-ABAF-BACF67B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5DB5-1431-4962-A196-AF400E1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9991-8657-43C4-A61D-1A8300F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1490-2DC9-4151-9E10-96EAC3C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2DB-857B-48B5-9C42-CAD52B4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48CC-057A-41A1-9445-2CBECE9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0265-1887-4C41-BA66-0CC93A3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CF2B-D4A4-4493-9E48-4281625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2305-3884-4F4C-8E4E-2CD2D0F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D87C-FDE0-40A3-89B5-CA9F50F1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A6BA-134B-4CC3-BFB5-91EFB03D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3D32-B889-4B43-97C0-5DE47907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C1A1-8FC6-4ECF-9CBC-FCDB649D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9B45-5989-4882-81BC-10A12155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A8E1-1B57-4C5E-A9DC-3A59402B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FA6-9C3F-44A1-B3F1-1E4AC2B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C231-AED9-4EEE-AEFF-57EA3B4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8B9A-AF2A-4DC2-BE1D-485A02C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673A-3449-42EA-9A6C-684EB0F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B783-3707-4E76-AED9-8E42554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0208-45C5-499E-A951-CC99AE6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8E72-0699-4FC4-8573-F8F0636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8495-0B8B-43AA-A158-A3E456A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052A-75A3-4E7E-BF19-B9E02DC7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D95E-D833-43A5-A5C4-80C2EF16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EF6B-9C90-4AD0-8A1E-696E8243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4B8-7A68-4A33-9ADC-C4C4CA29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BEF5-79BD-483C-8192-FF8F010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E463-348E-4269-BF78-2682A62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969A-0AC8-40F4-8F2F-56AFC0E3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9771-3C61-4BC8-A600-F74791D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60AB-A24A-4819-B801-D6756F2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A36E0-EE81-4AF8-B00B-B6F48659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6DAA-3DDD-421B-B6B8-5B30D88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C489-B87F-48C6-87C3-2E226AD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BCED-6EDC-4BBB-97EA-13DF9EC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0637-91EA-45C0-975E-2BEC9846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261-83FB-46B5-AEB9-2B98A30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CD2E-82A2-4C0E-8973-9C74BC8B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F8D0-4F61-4292-9AAE-44A317CE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2796-7A2D-4538-86F6-97BB2342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F12D-85A6-4983-88C1-8DA23ED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957E-0CE7-417B-A9D0-1FF7B68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D945-57DF-457F-AA6D-9515F7A7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A6C9-1F19-430D-8304-FFF97E6B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DE25B-9370-4063-A609-4D882627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EF62-31D2-4B69-BF65-5A1107A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CE53-DF38-4B76-B406-BA65124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4E-5C22-44BB-91AC-B9E2278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42A3-B0AC-4583-889D-000B5C9C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5CB39-1BCC-4D4D-B9B8-58B8E02F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FFBA-6E8C-42E9-85AD-9837A588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45B-FDE2-4F43-9FB1-34FCC11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DD8-4FAB-41EA-A36D-4A2067C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uolivapaa piirto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DC2-BA94-4DCB-B182-C23D8776D538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olivapaa piirto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olivapaa piirto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313E-CEAF-4652-8026-0702F63562FB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uolivapaa piirto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uolivapaa piirto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41CA-D538-4FE8-A40A-D9FF1CFE548F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F8C-6BD2-4785-9053-480FA258BB4E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uolivapaa piirto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olivapaa piirto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224B-1441-4CE8-811C-F77AD063A51D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353-3604-4A99-B319-34F006D7AAEF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tsikko 1" descr=""/>
          <p:cNvPicPr/>
          <p:nvPr/>
        </p:nvPicPr>
        <p:blipFill>
          <a:blip r:embed="rId1"/>
          <a:stretch/>
        </p:blipFill>
        <p:spPr>
          <a:xfrm>
            <a:off x="-6480" y="2230560"/>
            <a:ext cx="9017280" cy="2921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5840" y="21384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Elect Work Packag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71320" y="428760"/>
            <a:ext cx="7467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inal version of the training material: Training provider has to produce the material implemented in the national Clubhouse fiel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ed Education Training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P 4 could not benefit of the other WPs material for the Pilot Course in March because the material was not available y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7" dur="1" fill="hold"/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Project Meeting Schedu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t would have been useful with one more Project Meeting before this final Elect Meeting in order to lighten Lead Partner’s work and check the training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2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746748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PROSPECTS </a:t>
            </a:r>
            <a:br>
              <a:rPr sz="4600"/>
            </a:b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How to continue from her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968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ed Education Tra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hich Clubhouses are interested in 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arranging Supported Education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rain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unding is available through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Lifelong Learning (details project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anager Ville Grönber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2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9680" y="2642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THANK YOU ALL!</a:t>
            </a:r>
            <a:br>
              <a:rPr sz="4600"/>
            </a:b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We made a great Elect Project Team!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All’s well that ends well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2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PARTN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osaic Clubhouse, London, UK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(Lead partn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Helsingin Klubitalo, Helsinki, Fin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ontänhuset, Malmö, Swed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Caledonia Clubhouse, Falkirk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2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8" dur="1" fill="hold"/>
                                  <p:tgtEl>
                                    <p:spTgt spid="2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9" dur="1" fill="hold"/>
                                  <p:tgtEl>
                                    <p:spTgt spid="2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FACILITATOR’S GU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Facilitator’s Guide is designed to be a manual for trainers used by Clubhouse members and staff who will be delivering The Supported Education Training to other Clubhouse members and staff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4260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kstikehys 2"/>
          <p:cNvSpPr/>
          <p:nvPr/>
        </p:nvSpPr>
        <p:spPr>
          <a:xfrm>
            <a:off x="428760" y="0"/>
            <a:ext cx="76435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00"/>
                </a:solidFill>
                <a:latin typeface="Arial"/>
              </a:rPr>
              <a:t>Table of 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Aims and Objectives of Supported Education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kstikehys 3"/>
          <p:cNvSpPr/>
          <p:nvPr/>
        </p:nvSpPr>
        <p:spPr>
          <a:xfrm>
            <a:off x="428760" y="17859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1: Welcome, Introductions and Ground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2: Clubhouse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3: Adult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4: Discl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5: Visits to Education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3000"/>
            <a:ext cx="7972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6: Evalution of Visits to Education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7: Identification of Best Practice in Relation to Clubhouse Supporte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8: Presentation of Action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9: Course Eva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INTRODU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ho is it f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How to us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nvolving education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nvolving Clubhouse memb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Unit work &amp; special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42600" y="500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ing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iming of the course &amp; discus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Aims of supported education cour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Objectives of supported education cour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2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WP 4 PROJECT WOR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Partners were able to attend all the project mee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Discussions were vivid and fruitf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main goals were achiev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the Supported Education Pilot Cour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Facilitator’s Guid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5" dur="1" fill="hold"/>
                                  <p:tgtEl>
                                    <p:spTgt spid="2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86" dur="1" fill="hold"/>
                                  <p:tgtEl>
                                    <p:spTgt spid="2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COM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communication and work in between the Project Meetings were challeng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geographical dis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practical communication difficulties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(emai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language barr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Clubhouse work ordered 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2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8:26Z</dcterms:created>
  <dc:creator>Eke 1</dc:creator>
  <dc:description/>
  <dc:language>en-US</dc:language>
  <cp:lastModifiedBy>Jäsen</cp:lastModifiedBy>
  <dcterms:modified xsi:type="dcterms:W3CDTF">2009-09-18T10:46:10Z</dcterms:modified>
  <cp:revision>51</cp:revision>
  <dc:subject/>
  <dc:title>Elect</dc:title>
</cp:coreProperties>
</file>