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FD4-4880-43E2-9C91-4AA10DA2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930-5DC7-4E5E-B420-22D0B11C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20A-0624-4A69-9AFD-4EF6F60A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156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660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52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156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660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304-36D4-48F2-9FF7-C6F0C1FA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C5ED-D793-41C1-BB26-C71981E1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FC4-92D7-4701-9897-1E71D67D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B1A-C120-4ADC-A105-76C02BC5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E0E-C55C-49EF-A90A-B3FE067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E78B-30D0-4AC9-97FD-A57616B1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160" y="17521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3D23-0186-43A5-BD52-F77C77E8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D40C-5919-42B9-86AC-1F4C401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D33-790F-475B-8983-E57AE180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E606-7A5E-4FB3-AA24-99F42B9A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A0B0-BB34-4EFB-AB72-3FF3B67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93D9-84AA-4005-ACC3-A84DF1C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DA2F-0535-4828-B0C5-F5BD584D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2156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660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52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2156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660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FA3-19A1-45F1-9F98-607D0DD0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933-A2D0-4B02-9A3B-A2D3BAA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40F-1740-4D94-82D6-1D2CD5E1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2CC-24E7-4B9B-A902-4DE8976A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17521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A64-5052-4D53-9F1C-2188ECE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403-E998-48F5-B92A-3742E125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FC5-9004-4F9F-A3FF-0C41A8B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8FD-F427-49C1-9BC8-183D1473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ece8e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416" t="0" r="0" b="0"/>
          <a:stretch/>
        </p:blipFill>
        <p:spPr>
          <a:xfrm>
            <a:off x="0" y="98280"/>
            <a:ext cx="9144000" cy="1273320"/>
          </a:xfrm>
          <a:prstGeom prst="rect">
            <a:avLst/>
          </a:prstGeom>
          <a:ln w="0">
            <a:noFill/>
          </a:ln>
        </p:spPr>
      </p:pic>
      <p:pic>
        <p:nvPicPr>
          <p:cNvPr id="4" name="ESH_cmyk_44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752480" cy="925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DF89-976C-404C-806B-8DB5D7813C97}" type="datetime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35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9104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C6B-B34A-44A4-959D-1DC82F95A650}" type="slidenum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ce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752480"/>
            <a:ext cx="6935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416" t="0" r="0" b="0"/>
          <a:stretch/>
        </p:blipFill>
        <p:spPr>
          <a:xfrm>
            <a:off x="0" y="98280"/>
            <a:ext cx="9144000" cy="1273320"/>
          </a:xfrm>
          <a:prstGeom prst="rect">
            <a:avLst/>
          </a:prstGeom>
          <a:ln w="0">
            <a:noFill/>
          </a:ln>
        </p:spPr>
      </p:pic>
      <p:pic>
        <p:nvPicPr>
          <p:cNvPr id="47" name="ESH_cmyk_44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752480" cy="925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532B-AD8A-4ACE-A91E-39BDD0CFE334}" type="datetime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35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79104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E6EA-89B7-41F1-8605-D82767A02D11}" type="slidenum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5544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8554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1752480"/>
            <a:ext cx="6935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WP5: Evaluation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3505320"/>
            <a:ext cx="69339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Magnus Karlsson, PhD,</a:t>
            </a:r>
            <a:br>
              <a:rPr sz="2800"/>
            </a:b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Ersta Sköndal University College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Tuija Kotiranta, PhD, TH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Methods: planned and carried through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quantitative description of project activities through Elect document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brief content analysis of course document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quantitative description of educational and psychosocial outcom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3040" y="28191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brief description of activities through Elect document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theoretical understanding of life-long learning and rehabilitation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quantitative description of the situation at relevant clubhous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follow-up analysis of cours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comment on project process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Some general comments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Important networking – good communication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Limited efforts, unclear methods and  outcome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We for them”: A top-down money-chasing proces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Good ambitions and administration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Relevant work – there is a need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Step 2 failure stops processe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What needs to be done?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Realize the importance of life-long learning for rehabilitation and user power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Avoid education to cover the lack of employment 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Carefully describe (and name) the method used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Point out standardized outcome measure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Try this at many clubhouses in Europe and elsewhere!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0:37:50Z</dcterms:created>
  <dc:creator>magkar</dc:creator>
  <dc:description/>
  <dc:language>en-US</dc:language>
  <cp:lastModifiedBy>magkar</cp:lastModifiedBy>
  <dcterms:modified xsi:type="dcterms:W3CDTF">2009-09-21T13:12:06Z</dcterms:modified>
  <cp:revision>3</cp:revision>
  <dc:subject>PowerPoint-mall</dc:subject>
  <dc:title>WP5: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