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7FA-6D7B-4A5C-84EC-A5269673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BC9D-2A00-4C66-8309-4BF8C7EC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1B5-5D0B-4075-9C71-A5575FB4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156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660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7652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156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660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2E1-1801-4A8F-841D-B6283CDF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764D-9B02-4AC8-AE9F-A5797709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FDDA-3F72-4F75-A1B5-02DB7EDB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58A-4880-4CB2-AEFC-FF1CBD08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FAB-A699-413E-ACE7-2A9DEFA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722F-B315-4CE3-9E06-A5BAC9C6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FC18-7FEE-4973-A2CB-A138A1B1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4FA2-50BA-4E41-B2F1-CF2CE51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5599-229F-4623-B069-A0A8580E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E4AB-55B0-4381-9698-2759539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CE05-4243-4ABC-8317-C85389BD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3EB1-F749-4566-9F2D-276DDB17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84DA-542C-456C-B861-4F2E1757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2156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6600" y="297180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67652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2156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6600" y="4485240"/>
            <a:ext cx="223308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518C-5F0A-4BEF-A544-C6975EB6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BD7-145C-4996-9A37-B1A4E96E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8E2-84BA-4C01-8E34-458E187B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0FA-C379-4D01-8A02-5AE4376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1752120"/>
            <a:ext cx="693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E8A-57ED-4179-8370-25453034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C78-0C17-4C72-8275-5BCB512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30440" y="448524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7F4-60B8-40F1-8DD7-E61F7501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30440" y="2971800"/>
            <a:ext cx="33843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76520" y="4485240"/>
            <a:ext cx="693576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283-F60C-488A-B7BB-0C22279C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gradFill rotWithShape="0">
            <a:gsLst>
              <a:gs pos="0">
                <a:srgbClr val="ece8e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416" t="0" r="0" b="0"/>
          <a:stretch/>
        </p:blipFill>
        <p:spPr>
          <a:xfrm>
            <a:off x="0" y="98280"/>
            <a:ext cx="9144000" cy="1273320"/>
          </a:xfrm>
          <a:prstGeom prst="rect">
            <a:avLst/>
          </a:prstGeom>
          <a:ln w="0">
            <a:noFill/>
          </a:ln>
        </p:spPr>
      </p:pic>
      <p:pic>
        <p:nvPicPr>
          <p:cNvPr id="4" name="ESH_cmyk_44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752480" cy="925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2827-0E56-47FD-8B5A-601D596EA446}" type="datetime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35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9104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CD69-019C-40E9-91EC-518FAECC68BD}" type="slidenum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ece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1752480"/>
            <a:ext cx="6935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416" t="0" r="0" b="0"/>
          <a:stretch/>
        </p:blipFill>
        <p:spPr>
          <a:xfrm>
            <a:off x="0" y="98280"/>
            <a:ext cx="9144000" cy="1273320"/>
          </a:xfrm>
          <a:prstGeom prst="rect">
            <a:avLst/>
          </a:prstGeom>
          <a:ln w="0">
            <a:noFill/>
          </a:ln>
        </p:spPr>
      </p:pic>
      <p:pic>
        <p:nvPicPr>
          <p:cNvPr id="47" name="ESH_cmyk_44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752480" cy="925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A9E7-EB4F-4462-B1D2-BCC8203F68C5}" type="datetime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352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79104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68554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E8AE-1D73-4E9F-9B6B-24982492D4BD}" type="slidenum">
              <a:rPr b="0" lang="sv-SE" sz="1200" spc="-1" strike="noStrike">
                <a:solidFill>
                  <a:srgbClr val="68554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85544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68554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6855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1752480"/>
            <a:ext cx="6935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WP5: Evaluation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3505320"/>
            <a:ext cx="69339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Magnus Karlsson, PhD,</a:t>
            </a:r>
            <a:br>
              <a:rPr sz="2800"/>
            </a:b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Ersta Sköndal University College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85544"/>
                </a:solidFill>
                <a:latin typeface="Arial"/>
              </a:rPr>
              <a:t>Tuija Kotiranta, PhD, THL</a:t>
            </a:r>
            <a:endParaRPr b="0" lang="en-US" sz="28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Methods: planned and carried through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28951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project activities through Elect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brief content analysis of course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educational and psychosocial outcom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43040" y="2819160"/>
            <a:ext cx="4343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brief description of activities through Elect document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theoretical understanding of life-long learning and rehabilitation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quantitative description of the situation at relevant clubhou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follow-up analysis of cour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5544"/>
                </a:solidFill>
                <a:latin typeface="Arial"/>
              </a:rPr>
              <a:t>A comment on project processes</a:t>
            </a:r>
            <a:endParaRPr b="0" lang="en-US" sz="20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Some general comments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Important networking – good communication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Limited efforts, unclear methods and  outcom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We for them”: A top-down money-chasing proces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Good ambitions and administration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Relevant work – there is a need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Step 2 failure stops process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17521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488"/>
                </a:solidFill>
                <a:latin typeface="Arial"/>
              </a:rPr>
              <a:t>What needs to be done?</a:t>
            </a:r>
            <a:endParaRPr b="0" lang="en-US" sz="3600" spc="-1" strike="noStrike">
              <a:solidFill>
                <a:srgbClr val="0074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520" y="2971800"/>
            <a:ext cx="693576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Realize the importance of life-long learning for rehabilitation and user power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Avoid education to cover the lack of employment 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Carefully describe (and name) the method used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Point out standardized outcome measures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7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85544"/>
                </a:solidFill>
                <a:latin typeface="Arial"/>
              </a:rPr>
              <a:t>Try this at many clubhouses in Europe and elsewhere!</a:t>
            </a:r>
            <a:endParaRPr b="0" lang="en-US" sz="2400" spc="-1" strike="noStrike">
              <a:solidFill>
                <a:srgbClr val="6855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37:50Z</dcterms:created>
  <dc:creator>magkar</dc:creator>
  <dc:description/>
  <dc:language>en-US</dc:language>
  <cp:lastModifiedBy>magkar</cp:lastModifiedBy>
  <dcterms:modified xsi:type="dcterms:W3CDTF">2009-09-21T13:12:06Z</dcterms:modified>
  <cp:revision>3</cp:revision>
  <dc:subject>PowerPoint-mall</dc:subject>
  <dc:title>WP5: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