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whoosh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82D-2DDE-4B64-86C8-718A529875FB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7C0A-CF4D-4F73-8DB6-B3F54B6A281F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unit meeting were to long and not inter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6651-C861-41F8-A1A7-D311DFDF854A}" type="slidenum">
              <a:rPr b="0" lang="nb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ll levels from classes, fullfilling high school to bachelors to masters</a:t>
            </a: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6EC-8137-4D47-B470-BA84C7E2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917-A7BD-49DD-9BC6-B732EF5D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3845-02E6-4B34-B2C0-60A3497FE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129E-1DD6-4AB9-A017-4BBE5134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EC2-7C46-4CFB-BC56-F9D3A083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EF95-7D25-4801-A406-52074F39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94C-14A7-4062-BED7-1AD60341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27F4-D804-4EAB-A00E-FE6DD23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C63-50DD-4A7D-BC93-8217F436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2B7-B34C-4306-A2FA-BDC1FF2A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D77-11F1-413C-9641-233992FE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095-3EE5-45BC-8417-A3748BE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0141-C134-46B5-8FFB-F6C4897D76BB}" type="slidenum">
              <a:rPr b="0" lang="nb-N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3"/>
          <p:cNvGraphicFramePr/>
          <p:nvPr/>
        </p:nvGraphicFramePr>
        <p:xfrm>
          <a:off x="8244000" y="5589720"/>
          <a:ext cx="7347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589720"/>
                    <a:ext cx="734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Line 4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8964720" y="260280"/>
            <a:ext cx="0" cy="6408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H="1"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9036000" y="18864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Fontenehuset i Os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E:\Bokstøtteprosjektet\Studieenhet\Bilder\huset.jpg"/>
          <p:cNvPicPr/>
          <p:nvPr/>
        </p:nvPicPr>
        <p:blipFill>
          <a:blip r:embed="rId3"/>
          <a:stretch/>
        </p:blipFill>
        <p:spPr>
          <a:xfrm>
            <a:off x="609480" y="1117440"/>
            <a:ext cx="7696440" cy="513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3465360"/>
                <a:gridCol w="2511720"/>
                <a:gridCol w="225252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(from Ju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attend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b-N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3rd y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ny of the students achieved their educ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udents experienced support at all levels – at an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utual support between th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study unit: social and pop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he daily attendance in the Study unit represented 20 % of the whole clubhouse’ daily atte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33cc"/>
                </a:solidFill>
                <a:latin typeface="Arial"/>
              </a:rPr>
              <a:t>The Study Unit was a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Bokstøtteprosjektet\Studieenhet\Bilder\DSCN22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FiO experienced during 2005 –200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lot of newco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ith focus on finding a job/completing their studies – wanted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Therefore little participation in W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Resul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In spite of large daily attendance we had problems getting the work 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tud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The partnership model did not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aff did all the work”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embers of the unit where occupied with own work and not clubhous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Unit had to be organised differently. Possible 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embers from other units should come and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y support should be organised as part of all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Fontenehuset i Oslo deci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o close down the study unit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members – not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to work side by side – not work as a service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We want study support to be an offer to our members as part of their rehabilitation process at the Club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Project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riterias for success – to achieve educational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. Support to clarify if one is ready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2. Support to figure out what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3. Support during th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omeone to talk to whenever nec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ocial network in general, and with other student espe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y techn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ructure and 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Wake up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afe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13 % of students in Norway have ment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FiO can not serve them all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Universities and high schools have the responsibilt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Study support at Fontenehuset i Oslo</a:t>
            </a:r>
            <a:br>
              <a:rPr sz="2800"/>
            </a:b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Work unit responsi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art of MUS (Member supervi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Clarify if one is ready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port to find out what to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port during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Social network at the Club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ading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Computer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8244000" y="5589720"/>
          <a:ext cx="7347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00" y="5589720"/>
                    <a:ext cx="734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Line 3"/>
          <p:cNvSpPr/>
          <p:nvPr/>
        </p:nvSpPr>
        <p:spPr>
          <a:xfrm flipH="1">
            <a:off x="324000" y="6669000"/>
            <a:ext cx="8640720" cy="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8964720" y="260280"/>
            <a:ext cx="0" cy="64087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 flipH="1">
            <a:off x="179280" y="6742080"/>
            <a:ext cx="88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V="1">
            <a:off x="9036000" y="18864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Project: Bokstøtten 2004-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010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 wish to do more for students with ment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spired by Fountain House, Copenhagen (Bogsto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ke it possible to continue studies in spite of menta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ke it possible to start/restart studies in spite of mental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elp students with mental problems identify or reconsider study-/carrierer-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Target group, students in Oslo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ental problems that seriously affected their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Difficulties in completing thesis’, in concentrating on their reading, anxiety before exams,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Problems with handling the social life at university 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1st ye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art of SAS-unit (Study, work and maintain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Project leader followed up student members and members considering to becom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Experience from this y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did not take part in unit meet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felt alienated/not 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did not get an understanding of th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tudents were not included soci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00"/>
                </a:solidFill>
                <a:latin typeface="Arial"/>
              </a:rPr>
              <a:t>2nd year: Establishing a study u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Reasons to become a separate un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Include students in the clubhouse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Develop relationships among the stu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Make the students responsible for unit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Cleaning and tidying own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Unit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Developing the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Mail correspo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Support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Unit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28" descr="E:\Medlemsmapper\Siv =)\Fontenehuset\DSC00376.JPG"/>
          <p:cNvPicPr/>
          <p:nvPr/>
        </p:nvPicPr>
        <p:blipFill>
          <a:blip r:embed="rId1"/>
          <a:stretch/>
        </p:blipFill>
        <p:spPr>
          <a:xfrm>
            <a:off x="533520" y="66672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Library/meeting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E:\Medlemsmapper\Siv =)\Fontenehuset\DSC00383.JPG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Unit meeting with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E:\Medlemsmapper\Siv =)\Fontenehuset\DSC00824.JPG"/>
          <p:cNvPicPr/>
          <p:nvPr/>
        </p:nvPicPr>
        <p:blipFill>
          <a:blip r:embed="rId1"/>
          <a:stretch/>
        </p:blipFill>
        <p:spPr>
          <a:xfrm>
            <a:off x="1046160" y="838080"/>
            <a:ext cx="70502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Unit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Unit base (with 2 compu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1 computer lab (5 compu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2 study ro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mall library/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00"/>
                </a:solidFill>
                <a:latin typeface="Arial"/>
              </a:rPr>
              <a:t>2 staff members responsible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Superv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Find studies and information about different schools/univer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How to fill in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ake a stud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Motivate and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Guidance on written p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tudy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Support during meeting/oral exams at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Running th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Other clubhouse responsibilites;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Arial"/>
              </a:rPr>
              <a:t>Informal support during th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s of what our students stud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 in logi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en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thematics at high school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rpenter train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hysics at bachelor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anced diploma in Lighting and stag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Library a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Socia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Philoso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chelor of Agricul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cultural 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Political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of 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8:13:56Z</dcterms:created>
  <dc:creator>bidgjest</dc:creator>
  <dc:description/>
  <dc:language>en-US</dc:language>
  <cp:lastModifiedBy>Ville Grönberg</cp:lastModifiedBy>
  <dcterms:modified xsi:type="dcterms:W3CDTF">2008-06-10T11:19:31Z</dcterms:modified>
  <cp:revision>13</cp:revision>
  <dc:subject/>
  <dc:title>PowerPoint-presentasjon</dc:title>
</cp:coreProperties>
</file>