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whoosh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18A2-3DAF-46CC-BD9D-6F068206AB95}" type="slidenum">
              <a:rPr b="0" lang="nb-N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3D04-F188-4115-8565-2C482DF3D6ED}" type="slidenum">
              <a:rPr b="0" lang="nb-N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unit meeting were to long and not inter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1EA1-8937-4CF0-9975-7B58D35DA701}" type="slidenum">
              <a:rPr b="0" lang="nb-N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ll levels from classes, fullfilling high school to bachelors to masters</a:t>
            </a: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0FC6-5A4E-4000-9972-E8698886B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8E9C-4A34-499E-97A0-2AEB9809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0597-3AA3-4ABB-ADA5-DDCCB93F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0EF8-5393-42EE-8DDE-3A0096BD5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94A8-B2EA-4163-8E92-9B5F980D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2490-D7A3-49EF-8831-28662F33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9E4F-9BB3-460E-BDB1-ACEDD04C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F2E2-02DA-4B55-A7D9-5C0C3CB6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DA3D-EE42-4C34-BAE9-C627A45A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A002-A5B5-418B-854C-9BC1A76C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E837-4193-4FB0-8D18-0327085E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0E57-7A99-452B-880F-4B2778ED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C5B0-25E6-4140-B8F4-AE9ED397CB51}" type="slidenum">
              <a:rPr b="0" lang="nb-N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3"/>
          <p:cNvGraphicFramePr/>
          <p:nvPr/>
        </p:nvGraphicFramePr>
        <p:xfrm>
          <a:off x="8244000" y="5589720"/>
          <a:ext cx="73476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44000" y="5589720"/>
                    <a:ext cx="73476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Line 4"/>
          <p:cNvSpPr/>
          <p:nvPr/>
        </p:nvSpPr>
        <p:spPr>
          <a:xfrm flipH="1">
            <a:off x="324000" y="6669000"/>
            <a:ext cx="864072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 flipV="1">
            <a:off x="8964720" y="260280"/>
            <a:ext cx="0" cy="640872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 flipH="1">
            <a:off x="179280" y="6742080"/>
            <a:ext cx="885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9"/>
          <p:cNvSpPr/>
          <p:nvPr/>
        </p:nvSpPr>
        <p:spPr>
          <a:xfrm flipV="1">
            <a:off x="9036000" y="188640"/>
            <a:ext cx="0" cy="655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Fontenehuset i Os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3" descr="E:\Bokstøtteprosjektet\Studieenhet\Bilder\huset.jpg"/>
          <p:cNvPicPr/>
          <p:nvPr/>
        </p:nvPicPr>
        <p:blipFill>
          <a:blip r:embed="rId3"/>
          <a:stretch/>
        </p:blipFill>
        <p:spPr>
          <a:xfrm>
            <a:off x="609480" y="1117440"/>
            <a:ext cx="7696440" cy="513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3465360"/>
                <a:gridCol w="2511720"/>
                <a:gridCol w="225252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 (from Ju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ly attend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 wo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3rd ye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479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ny of the students achieved their educational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tudents experienced support at all levels – at any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utual support between the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he study unit: social and pop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he daily attendance in the Study unit represented 20 % of the whole clubhouse’ daily atten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419076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ff33cc"/>
                </a:solidFill>
                <a:latin typeface="Arial"/>
              </a:rPr>
              <a:t>The Study Unit was a succes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E:\Bokstøtteprosjektet\Studieenhet\Bilder\DSCN227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How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FiO experienced during 2005 –200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A lot of newco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With focus on finding a job/completing their studies – wanted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Therefore little participation in W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Resu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In spite of large daily attendance we had problems getting the work 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tudy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The partnership model did not wor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Staff did all the work” be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members of the unit where occupied with own work and not clubhous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Unit had to be organised differently. Possible solu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Members from other units should come and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Study support should be organised as part of all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Fontenehuset i Oslo deci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o close down the study unit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We want members – not 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We want to work side by side – not work as a service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We want study support to be an offer to our members as part of their rehabilitation process at the Club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Project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Criterias for success – to achieve educational go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1. Support to clarify if one is ready to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2. Support to figure out what to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3. Support during th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Someone to talk to whenever neccess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Social network in general, and with other student especi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Study techn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Structure and pl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Wake up c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Safe environ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13 % of students in Norway have mental proble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FiO can not serve them all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Universities and high schools have the responsibiltit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Study support at Fontenehuset i Oslo</a:t>
            </a:r>
            <a:br>
              <a:rPr sz="2800"/>
            </a:b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in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Work unit responsi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Part of MUS (Member supervis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Clarify if one is ready to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Support to find out what to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Support during the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ocial network at the Club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Reading ro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Computer 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8244000" y="5589720"/>
          <a:ext cx="73476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44000" y="5589720"/>
                    <a:ext cx="73476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Line 3"/>
          <p:cNvSpPr/>
          <p:nvPr/>
        </p:nvSpPr>
        <p:spPr>
          <a:xfrm flipH="1">
            <a:off x="324000" y="6669000"/>
            <a:ext cx="864072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"/>
          <p:cNvSpPr/>
          <p:nvPr/>
        </p:nvSpPr>
        <p:spPr>
          <a:xfrm flipV="1">
            <a:off x="8964720" y="260280"/>
            <a:ext cx="0" cy="640872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 flipH="1">
            <a:off x="179280" y="6742080"/>
            <a:ext cx="885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V="1">
            <a:off x="9036000" y="188640"/>
            <a:ext cx="0" cy="655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Project: Bokstøtten 2004-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A wish to do more for students with mental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Inspired by Fountain House, Copenhagen (Bogstott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Project 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Make it possible to continue studies in spite of mental probl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Make it possible to start/restart studies in spite of mental probl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Help students with mental problems identify or reconsider study-/carrierer-pl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arget group, students in Oslo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Mental problems that seriously affected their stud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Difficulties in completing thesis’, in concentrating on their reading, anxiety before exams, 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Problems with handling the social life at university or h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1st ye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Part of SAS-unit (Study, work and maintain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Project leader followed up student members and members considering to become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perience from this ye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Students did not take part in unit meeting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Students felt alienated/not inclu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Students did not get an understanding of the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Students were not included soci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2nd year: Establishing a study un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Reasons to become a separate un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Include students in the clubhouse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velop relationships among the stud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ke the students responsible for unit 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Cleaning and tidying own r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Unit stat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Developing the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Mail correspo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Support each 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Unit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28" descr="E:\Medlemsmapper\Siv =)\Fontenehuset\DSC00376.JPG"/>
          <p:cNvPicPr/>
          <p:nvPr/>
        </p:nvPicPr>
        <p:blipFill>
          <a:blip r:embed="rId1"/>
          <a:stretch/>
        </p:blipFill>
        <p:spPr>
          <a:xfrm>
            <a:off x="533520" y="666720"/>
            <a:ext cx="75438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Library/meeting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E:\Medlemsmapper\Siv =)\Fontenehuset\DSC00383.JPG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Unit meeting with c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E:\Medlemsmapper\Siv =)\Fontenehuset\DSC00824.JPG"/>
          <p:cNvPicPr/>
          <p:nvPr/>
        </p:nvPicPr>
        <p:blipFill>
          <a:blip r:embed="rId1"/>
          <a:stretch/>
        </p:blipFill>
        <p:spPr>
          <a:xfrm>
            <a:off x="1046160" y="838080"/>
            <a:ext cx="705024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Unit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Unit base (with 2 comput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1 computer lab (5 comput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2 study ro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Small library/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2 staff members responsible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Superv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Find studies and information about different schools/univers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How to fill in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Make a study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Motivate a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Guidance on written pa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Study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Support during meeting/oral exams at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Running the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Other clubhouse responsibilites;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Informal support during the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 of what our students stud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ass in logist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rench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thematics at high school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igh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rpenter train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hysics at bachelor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achelor of 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vanced diploma in Lighting and stage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achelor of Library and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achelor of Lit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achelor of Socia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achelor of Philoso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achelor of Agricul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lticultural 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ster of Political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ster of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ster of 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3T08:13:56Z</dcterms:created>
  <dc:creator>bidgjest</dc:creator>
  <dc:description/>
  <dc:language>en-US</dc:language>
  <cp:lastModifiedBy>Ville Grönberg</cp:lastModifiedBy>
  <dcterms:modified xsi:type="dcterms:W3CDTF">2008-06-10T11:19:31Z</dcterms:modified>
  <cp:revision>13</cp:revision>
  <dc:subject/>
  <dc:title>PowerPoint-presentasjon</dc:title>
</cp:coreProperties>
</file>