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230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AC5-9A6A-4BE5-AD87-2F032C3C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92360" y="384120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016-471A-428B-8F31-828B0B7C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512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CFB-5EED-417D-8207-F0788C31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2984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6732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9236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2984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6732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923-3CAB-48B7-AFED-0EE77BBB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8CC6-28C0-448D-B2AC-C523AE3E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5E5C-DE3C-4F2E-8FDE-63330F6E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85D7-D5B3-4A32-8105-0ADB162B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5C60-A1E6-4891-8519-E7B78D3A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AE99-2211-40B8-B4F1-E1391C54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92360" y="880560"/>
            <a:ext cx="691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8E8F-C782-4C51-8D5E-3D1273CE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1B03-AECE-4FCE-89A6-4AFDAE1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BE6-D2F6-4384-9614-9B75A58F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512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64AA-8C90-4D9B-B168-9BA87AD7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04CB-D733-4A6B-AC61-9C66E8BE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92360" y="384120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1CF1-1450-4F5C-83FF-13034FF4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512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49D4-F764-48F3-9890-AAA1AFA5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2984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6732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9236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2984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6732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18FB-3162-4D11-BF5B-955CE2F4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E38-E515-4917-BAD3-586C3F8B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05F-44DD-40C2-86C0-2775E901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827-0047-47F3-A1F7-5DA682FB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92360" y="880560"/>
            <a:ext cx="691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8B5-E350-420A-87DE-A10ADCB3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639-2A9C-42FD-943B-355AD23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512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DEE-2920-4FA4-8952-ED49DED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FAE-43B4-4C22-9C79-31B828F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ts val="27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284400">
              <a:lnSpc>
                <a:spcPts val="2798"/>
              </a:lnSpc>
              <a:spcBef>
                <a:spcPts val="1624"/>
              </a:spcBef>
              <a:buClr>
                <a:srgbClr val="00958e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84400" indent="-284400">
              <a:lnSpc>
                <a:spcPts val="2798"/>
              </a:lnSpc>
              <a:spcBef>
                <a:spcPts val="1624"/>
              </a:spcBef>
              <a:buClr>
                <a:srgbClr val="fbaa2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84400" indent="-284400">
              <a:lnSpc>
                <a:spcPts val="2798"/>
              </a:lnSpc>
              <a:spcBef>
                <a:spcPts val="1624"/>
              </a:spcBef>
              <a:buClr>
                <a:srgbClr val="00958e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84400" indent="-284400">
              <a:lnSpc>
                <a:spcPts val="2798"/>
              </a:lnSpc>
              <a:spcBef>
                <a:spcPts val="1624"/>
              </a:spcBef>
              <a:buClr>
                <a:srgbClr val="fbaa2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84400" indent="-284400">
              <a:lnSpc>
                <a:spcPts val="2798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84400" indent="-284400">
              <a:lnSpc>
                <a:spcPts val="2798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Stakes_rgb"/>
          <p:cNvPicPr/>
          <p:nvPr/>
        </p:nvPicPr>
        <p:blipFill>
          <a:blip r:embed="rId2"/>
          <a:stretch/>
        </p:blipFill>
        <p:spPr>
          <a:xfrm>
            <a:off x="214200" y="6237360"/>
            <a:ext cx="1258920" cy="31752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1692360" y="6237360"/>
            <a:ext cx="56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Research and Development Centre for Welfar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812000" y="6279840"/>
            <a:ext cx="105408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12000" y="6492960"/>
            <a:ext cx="1079640" cy="5076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50920" y="185760"/>
            <a:ext cx="252072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Knowledge for welfare and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98920" y="18540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11640" y="18540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1BCE-3FDE-4630-B391-0B83D03AA4C1}" type="slidenum">
              <a:rPr b="1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50920" y="185760"/>
            <a:ext cx="252072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Knowledge for welfare and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Stakes_rgb"/>
          <p:cNvPicPr/>
          <p:nvPr/>
        </p:nvPicPr>
        <p:blipFill>
          <a:blip r:embed="rId2"/>
          <a:stretch/>
        </p:blipFill>
        <p:spPr>
          <a:xfrm>
            <a:off x="214200" y="6237360"/>
            <a:ext cx="1258920" cy="317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692360" y="6237360"/>
            <a:ext cx="56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Research and Development Centre for Welfar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7812000" y="6492960"/>
            <a:ext cx="1079640" cy="5076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ts val="27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284400">
              <a:lnSpc>
                <a:spcPts val="2798"/>
              </a:lnSpc>
              <a:spcBef>
                <a:spcPts val="1624"/>
              </a:spcBef>
              <a:buClr>
                <a:srgbClr val="00958e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84400" indent="-284400">
              <a:lnSpc>
                <a:spcPts val="2798"/>
              </a:lnSpc>
              <a:spcBef>
                <a:spcPts val="1624"/>
              </a:spcBef>
              <a:buClr>
                <a:srgbClr val="fbaa2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84400" indent="-284400">
              <a:lnSpc>
                <a:spcPts val="2798"/>
              </a:lnSpc>
              <a:spcBef>
                <a:spcPts val="1624"/>
              </a:spcBef>
              <a:buClr>
                <a:srgbClr val="00958e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84400" indent="-284400">
              <a:lnSpc>
                <a:spcPts val="2798"/>
              </a:lnSpc>
              <a:spcBef>
                <a:spcPts val="1624"/>
              </a:spcBef>
              <a:buClr>
                <a:srgbClr val="fbaa2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84400" indent="-284400">
              <a:lnSpc>
                <a:spcPts val="2798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84400" indent="-284400">
              <a:lnSpc>
                <a:spcPts val="2798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698920" y="18540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7824960" y="6279840"/>
            <a:ext cx="105408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811640" y="18540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33D1-D923-4747-A10B-5D4A85C51CA1}" type="slidenum">
              <a:rPr b="1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ville.gronberg@stakes.fi" TargetMode="External"/><Relationship Id="rId2" Type="http://schemas.openxmlformats.org/officeDocument/2006/relationships/hyperlink" Target="mailto:mirva.piispa@stakes.f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900" spc="-1" strike="noStrike">
                <a:solidFill>
                  <a:srgbClr val="ffffff"/>
                </a:solidFill>
                <a:latin typeface="Arial"/>
              </a:rPr>
              <a:t>ELECT Project 2007-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D963-BBF3-4807-ABF7-2164583EA593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360" y="235692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CT- </a:t>
            </a:r>
            <a:br>
              <a:rPr sz="3200"/>
            </a:b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ropean </a:t>
            </a: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arning </a:t>
            </a: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mmunities for </a:t>
            </a: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raining of people with Mental Ilness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57200" y="45874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-CONSORTIUM  MEETIN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nchen 3-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v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lle Grö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98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GRONBERG_VILLE\Desktop\DEF flag-logoeac-LLP_EN.tif"/>
          <p:cNvPicPr/>
          <p:nvPr/>
        </p:nvPicPr>
        <p:blipFill>
          <a:blip r:embed="rId1"/>
          <a:stretch/>
        </p:blipFill>
        <p:spPr>
          <a:xfrm>
            <a:off x="938160" y="687240"/>
            <a:ext cx="3419640" cy="138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643280" y="928800"/>
          <a:ext cx="4071960" cy="128592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285920"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is project has been funded with support from the European Commiss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is publication reflects the views only of the author, and the Commission cannot be held responsible for any use which may be made of the information contained there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greement: 2007 - 3453 / 001 – 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360" y="907920"/>
            <a:ext cx="6913440" cy="9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41852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45680" indent="-445680">
              <a:lnSpc>
                <a:spcPts val="2798"/>
              </a:lnSpc>
              <a:spcBef>
                <a:spcPts val="1125"/>
              </a:spcBef>
              <a:buClr>
                <a:srgbClr val="fbaa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LECT project has to submit two reports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rogres report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Progres report has now been submit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ts val="2798"/>
              </a:lnSpc>
              <a:spcBef>
                <a:spcPts val="1125"/>
              </a:spcBef>
              <a:buClr>
                <a:srgbClr val="fbaa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ogres report reporting period  is1.11.2007-30.9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ts val="2798"/>
              </a:lnSpc>
              <a:spcBef>
                <a:spcPts val="1125"/>
              </a:spcBef>
              <a:buClr>
                <a:srgbClr val="fbaa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port includes: 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Confidential part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Public part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outcomes/results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ts val="2798"/>
              </a:lnSpc>
              <a:spcBef>
                <a:spcPts val="1125"/>
              </a:spcBef>
              <a:buClr>
                <a:srgbClr val="fbaa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Both reports will be evaluated by the Commission. The rating values run fron 0 to10. Values 5-6 are acceptable, 7-8 Good, 9-10 Very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ts val="2798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utcomes and results of the ELECT project 1.11.2007-30.9.2008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92360" y="2298240"/>
            <a:ext cx="691344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ment Work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anet solution - Elect blo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 steering group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onsortium meeting 1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onsortium meeting 2 (facilitating detailed project plan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greement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tion and Motivation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vey of existing study practices in Clubhouses (questionnaire, results + analy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house member trainees' educational needs and goals (questionnaire + resu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Methods for Education and Training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study support methods (questionnaire + sum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consultations on mental health and studying (two le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latunnisteen paikkamerkki 3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900" spc="-1" strike="noStrike">
                <a:solidFill>
                  <a:srgbClr val="ffffff"/>
                </a:solidFill>
                <a:latin typeface="Arial"/>
              </a:rPr>
              <a:t>Elect Project 2007-200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n numeron paikkamerkki 4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63E-CE3B-4DEE-BAFB-8061BF1E15AD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utcomes and results of the ELECT project 1.11.2007-30.9.2008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92360" y="2298240"/>
            <a:ext cx="691344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of trainers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of the pilot course (draft program, application 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and Evaluation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m 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semination and Explo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website and statistics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brochures (seven language vers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newsletter 1/2008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newsletter 2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 in the Mental Health Europe news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 article in Icelandic 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to the Mental Health Europe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latunnisteen paikkamerkki 3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n numeron paikkamerkki 4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950-90B4-4B29-B85A-9AA27632DCEC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hallenges for the second half of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92360" y="2298240"/>
            <a:ext cx="691344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ment Work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lanning of the ELECT 2 project (by 27.2.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roject 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tion and Motivation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SCL courses (2) +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Report of good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embers educational goals and needs repor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earning pathways and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Final report of the workpackage (summary of activities &amp; resu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latunnisteen paikkamerkki 3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ian numeron paikkamerkki 4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138D-06BB-4953-9372-06C637830C52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hallenges for the second half of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92360" y="2298240"/>
            <a:ext cx="691344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Methods for Education and Training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peration with educ. instit.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ilot CHs in each country)  + excursions to educational insti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report (support meth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of trainers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ilot Course + feedback, Curriculum of the Supported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and Evaluation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ng information, Fin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semination and Explo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letters (3 &amp; 4), participating to the Clubhouse seminars and other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latunnisteen paikkamerkki 3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n numeron paikkamerkki 4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35B4-97F6-49AC-9890-2BA0A0C3C0CE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latunnisteen paikkamerkki 4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D70D-2529-448C-B2DD-18E5AC8C6813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88056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CT-project contact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8720" y="2565000"/>
            <a:ext cx="3527280" cy="32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ment/Coordin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lle Grö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Employment initiatives –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O Box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intulahdenkuja 4 – street add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-00531 Helsin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+358 400 259 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. +358 9 3967 2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. +358 9 3967 2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007ac2"/>
                </a:solidFill>
                <a:uFillTx/>
                <a:latin typeface="Arial"/>
                <a:hlinkClick r:id="rId1"/>
              </a:rPr>
              <a:t>ville.gronberg@stakes.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861080" y="2565360"/>
            <a:ext cx="3527280" cy="32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s &amp; pay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 Laakk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secretary (1.10.2008-28.2.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Employment initiatives –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O Box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intulahdenkuja 4 – street add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-00531 Helsinki,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. +358 9 3967 26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. +358 9 3967 2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anu.laakkonen</a:t>
            </a:r>
            <a:r>
              <a:rPr b="0" lang="en-US" sz="1400" spc="-1" strike="noStrike" u="sng">
                <a:solidFill>
                  <a:srgbClr val="007ac2"/>
                </a:solidFill>
                <a:uFillTx/>
                <a:latin typeface="Arial"/>
                <a:hlinkClick r:id="rId2"/>
              </a:rPr>
              <a:t>@stakes.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7:13:38Z</dcterms:created>
  <dc:creator>GRONBERG_VILLE</dc:creator>
  <dc:description/>
  <dc:language>en-US</dc:language>
  <cp:lastModifiedBy>Ville Grönberg</cp:lastModifiedBy>
  <dcterms:modified xsi:type="dcterms:W3CDTF">2008-10-31T09:18:35Z</dcterms:modified>
  <cp:revision>37</cp:revision>
  <dc:subject/>
  <dc:title>ELECT-project  steering group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zVerID">
    <vt:lpwstr>003</vt:lpwstr>
  </property>
</Properties>
</file>