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23088" cy="10083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10F5-FB0A-4132-A015-12EC00201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92360" y="88056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92360" y="2168640"/>
            <a:ext cx="69134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92360" y="3841200"/>
            <a:ext cx="69134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2FE4-49DE-496C-9D20-7AEB47D6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92360" y="88056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92360" y="2168640"/>
            <a:ext cx="337356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35120" y="2168640"/>
            <a:ext cx="337356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92360" y="3841200"/>
            <a:ext cx="337356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35120" y="3841200"/>
            <a:ext cx="337356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4257-1E75-4E8F-B401-14408FC93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92360" y="88056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92360" y="2168640"/>
            <a:ext cx="22258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29840" y="2168640"/>
            <a:ext cx="22258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67320" y="2168640"/>
            <a:ext cx="22258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92360" y="3841200"/>
            <a:ext cx="22258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29840" y="3841200"/>
            <a:ext cx="22258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67320" y="3841200"/>
            <a:ext cx="22258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DD98-AAB0-407B-BD08-A665E728F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185C-1052-440C-B945-29113708A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92360" y="88056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692360" y="2168640"/>
            <a:ext cx="6913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B1C8-EEB5-4D90-BABE-11C07B26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92360" y="88056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92360" y="2168640"/>
            <a:ext cx="691344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00DD-396F-4919-85C4-4483FEBB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92360" y="88056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92360" y="2168640"/>
            <a:ext cx="337356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5120" y="2168640"/>
            <a:ext cx="337356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86EF-275B-4B34-BEDE-B007D07F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92360" y="88056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AE12-8F24-4177-A297-291E0EF3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692360" y="880560"/>
            <a:ext cx="691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B3C5-B190-41C4-8CA8-F138EC65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92360" y="88056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92360" y="2168640"/>
            <a:ext cx="337356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35120" y="2168640"/>
            <a:ext cx="337356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92360" y="3841200"/>
            <a:ext cx="337356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D09E-18DF-47AE-BFAD-0BFFCEEC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92360" y="88056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92360" y="2168640"/>
            <a:ext cx="6913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40DD-4E0B-479D-B4A6-0EFFDB3E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92360" y="88056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92360" y="2168640"/>
            <a:ext cx="337356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35120" y="2168640"/>
            <a:ext cx="337356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35120" y="3841200"/>
            <a:ext cx="337356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C61F-3DD2-4269-B388-E6B8D437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92360" y="88056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92360" y="2168640"/>
            <a:ext cx="337356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35120" y="2168640"/>
            <a:ext cx="337356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92360" y="3841200"/>
            <a:ext cx="69134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46CF-72E4-46A4-9376-0305C563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92360" y="88056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92360" y="2168640"/>
            <a:ext cx="69134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692360" y="3841200"/>
            <a:ext cx="69134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FE984-2BE9-44D8-8B92-6A3640EF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92360" y="88056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92360" y="2168640"/>
            <a:ext cx="337356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35120" y="2168640"/>
            <a:ext cx="337356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692360" y="3841200"/>
            <a:ext cx="337356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35120" y="3841200"/>
            <a:ext cx="337356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FBBFC-34D8-4674-8E45-6E766BF9B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92360" y="88056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92360" y="2168640"/>
            <a:ext cx="22258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029840" y="2168640"/>
            <a:ext cx="22258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67320" y="2168640"/>
            <a:ext cx="22258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692360" y="3841200"/>
            <a:ext cx="22258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029840" y="3841200"/>
            <a:ext cx="22258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67320" y="3841200"/>
            <a:ext cx="22258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4075-7270-4952-944A-B8EB67F33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92360" y="88056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92360" y="2168640"/>
            <a:ext cx="691344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C825-6C43-4E4A-872A-60FA96C3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2360" y="88056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92360" y="2168640"/>
            <a:ext cx="337356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5120" y="2168640"/>
            <a:ext cx="337356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1C42-E37F-4235-BAB1-778AA3D7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92360" y="88056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10F0-9BDD-4346-AAD9-A3BD0E47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692360" y="880560"/>
            <a:ext cx="691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2FA3-0855-44E1-8EDD-2021941C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2360" y="88056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92360" y="2168640"/>
            <a:ext cx="337356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5120" y="2168640"/>
            <a:ext cx="337356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92360" y="3841200"/>
            <a:ext cx="337356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B388-6F40-489E-BE69-532CE8DB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92360" y="88056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92360" y="2168640"/>
            <a:ext cx="337356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5120" y="2168640"/>
            <a:ext cx="337356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35120" y="3841200"/>
            <a:ext cx="337356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74B0-DA4E-4B60-9D9A-B29C3A61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92360" y="88056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92360" y="2168640"/>
            <a:ext cx="337356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5120" y="2168640"/>
            <a:ext cx="337356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92360" y="3841200"/>
            <a:ext cx="69134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ts val="2798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959D-883A-4CEB-802F-0C2C9351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360" y="88056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92360" y="2168640"/>
            <a:ext cx="691344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ts val="2798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284400" indent="-284400">
              <a:lnSpc>
                <a:spcPts val="2798"/>
              </a:lnSpc>
              <a:spcBef>
                <a:spcPts val="1624"/>
              </a:spcBef>
              <a:buClr>
                <a:srgbClr val="00958e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84400" indent="-284400">
              <a:lnSpc>
                <a:spcPts val="2798"/>
              </a:lnSpc>
              <a:spcBef>
                <a:spcPts val="1624"/>
              </a:spcBef>
              <a:buClr>
                <a:srgbClr val="fbaa29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284400" indent="-284400">
              <a:lnSpc>
                <a:spcPts val="2798"/>
              </a:lnSpc>
              <a:spcBef>
                <a:spcPts val="1624"/>
              </a:spcBef>
              <a:buClr>
                <a:srgbClr val="00958e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84400" indent="-284400">
              <a:lnSpc>
                <a:spcPts val="2798"/>
              </a:lnSpc>
              <a:spcBef>
                <a:spcPts val="1624"/>
              </a:spcBef>
              <a:buClr>
                <a:srgbClr val="fbaa29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84400" indent="-284400">
              <a:lnSpc>
                <a:spcPts val="2798"/>
              </a:lnSpc>
              <a:spcBef>
                <a:spcPts val="1624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84400" indent="-284400">
              <a:lnSpc>
                <a:spcPts val="2798"/>
              </a:lnSpc>
              <a:spcBef>
                <a:spcPts val="1624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Stakes_rgb"/>
          <p:cNvPicPr/>
          <p:nvPr/>
        </p:nvPicPr>
        <p:blipFill>
          <a:blip r:embed="rId2"/>
          <a:stretch/>
        </p:blipFill>
        <p:spPr>
          <a:xfrm>
            <a:off x="214200" y="6237360"/>
            <a:ext cx="1258920" cy="317520"/>
          </a:xfrm>
          <a:prstGeom prst="rect">
            <a:avLst/>
          </a:prstGeom>
          <a:ln w="0">
            <a:noFill/>
          </a:ln>
        </p:spPr>
      </p:pic>
      <p:sp>
        <p:nvSpPr>
          <p:cNvPr id="3" name="Text Box 5"/>
          <p:cNvSpPr/>
          <p:nvPr/>
        </p:nvSpPr>
        <p:spPr>
          <a:xfrm>
            <a:off x="1692360" y="6237360"/>
            <a:ext cx="565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Research and Development Centre for Welfare and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812000" y="6279840"/>
            <a:ext cx="105408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812000" y="6492960"/>
            <a:ext cx="1079640" cy="50760"/>
          </a:xfrm>
          <a:prstGeom prst="rect">
            <a:avLst/>
          </a:prstGeom>
          <a:solidFill>
            <a:srgbClr val="0095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250920" y="185760"/>
            <a:ext cx="2520720" cy="315720"/>
          </a:xfrm>
          <a:prstGeom prst="rect">
            <a:avLst/>
          </a:prstGeom>
          <a:solidFill>
            <a:srgbClr val="0095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Knowledge for welfare and heal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698920" y="185400"/>
            <a:ext cx="5186160" cy="315720"/>
          </a:xfrm>
          <a:prstGeom prst="rect">
            <a:avLst/>
          </a:prstGeom>
          <a:solidFill>
            <a:srgbClr val="00958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811640" y="185400"/>
            <a:ext cx="1081080" cy="315720"/>
          </a:xfrm>
          <a:prstGeom prst="rect">
            <a:avLst/>
          </a:prstGeom>
          <a:solidFill>
            <a:srgbClr val="00958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AE0F-2E69-43A9-A855-D7AC32521854}" type="slidenum">
              <a:rPr b="1" lang="en-GB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250920" y="185760"/>
            <a:ext cx="2520720" cy="315720"/>
          </a:xfrm>
          <a:prstGeom prst="rect">
            <a:avLst/>
          </a:prstGeom>
          <a:solidFill>
            <a:srgbClr val="0095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Knowledge for welfare and heal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Stakes_rgb"/>
          <p:cNvPicPr/>
          <p:nvPr/>
        </p:nvPicPr>
        <p:blipFill>
          <a:blip r:embed="rId2"/>
          <a:stretch/>
        </p:blipFill>
        <p:spPr>
          <a:xfrm>
            <a:off x="214200" y="6237360"/>
            <a:ext cx="1258920" cy="3175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1692360" y="6237360"/>
            <a:ext cx="565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Research and Development Centre for Welfare and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7812000" y="6492960"/>
            <a:ext cx="1079640" cy="50760"/>
          </a:xfrm>
          <a:prstGeom prst="rect">
            <a:avLst/>
          </a:prstGeom>
          <a:solidFill>
            <a:srgbClr val="0095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92360" y="88056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692360" y="2168640"/>
            <a:ext cx="691344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ts val="2798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284400" indent="-284400">
              <a:lnSpc>
                <a:spcPts val="2798"/>
              </a:lnSpc>
              <a:spcBef>
                <a:spcPts val="1624"/>
              </a:spcBef>
              <a:buClr>
                <a:srgbClr val="00958e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84400" indent="-284400">
              <a:lnSpc>
                <a:spcPts val="2798"/>
              </a:lnSpc>
              <a:spcBef>
                <a:spcPts val="1624"/>
              </a:spcBef>
              <a:buClr>
                <a:srgbClr val="fbaa29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284400" indent="-284400">
              <a:lnSpc>
                <a:spcPts val="2798"/>
              </a:lnSpc>
              <a:spcBef>
                <a:spcPts val="1624"/>
              </a:spcBef>
              <a:buClr>
                <a:srgbClr val="00958e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84400" indent="-284400">
              <a:lnSpc>
                <a:spcPts val="2798"/>
              </a:lnSpc>
              <a:spcBef>
                <a:spcPts val="1624"/>
              </a:spcBef>
              <a:buClr>
                <a:srgbClr val="fbaa29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84400" indent="-284400">
              <a:lnSpc>
                <a:spcPts val="2798"/>
              </a:lnSpc>
              <a:spcBef>
                <a:spcPts val="1624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84400" indent="-284400">
              <a:lnSpc>
                <a:spcPts val="2798"/>
              </a:lnSpc>
              <a:spcBef>
                <a:spcPts val="1624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4"/>
          </p:nvPr>
        </p:nvSpPr>
        <p:spPr>
          <a:xfrm>
            <a:off x="2698920" y="185400"/>
            <a:ext cx="5186160" cy="315720"/>
          </a:xfrm>
          <a:prstGeom prst="rect">
            <a:avLst/>
          </a:prstGeom>
          <a:solidFill>
            <a:srgbClr val="00958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5"/>
          </p:nvPr>
        </p:nvSpPr>
        <p:spPr>
          <a:xfrm>
            <a:off x="7824960" y="6279840"/>
            <a:ext cx="105408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811640" y="185400"/>
            <a:ext cx="1081080" cy="315720"/>
          </a:xfrm>
          <a:prstGeom prst="rect">
            <a:avLst/>
          </a:prstGeom>
          <a:solidFill>
            <a:srgbClr val="00958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477B-E152-498C-A0EB-5C4C80387A31}" type="slidenum">
              <a:rPr b="1" lang="en-GB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ville.gronberg@stakes.fi" TargetMode="External"/><Relationship Id="rId2" Type="http://schemas.openxmlformats.org/officeDocument/2006/relationships/hyperlink" Target="mailto:mirva.piispa@stakes.fi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2698920" y="185760"/>
            <a:ext cx="5186160" cy="315720"/>
          </a:xfrm>
          <a:prstGeom prst="rect">
            <a:avLst/>
          </a:prstGeom>
          <a:solidFill>
            <a:srgbClr val="0095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900" spc="-1" strike="noStrike">
                <a:solidFill>
                  <a:srgbClr val="ffffff"/>
                </a:solidFill>
                <a:latin typeface="Arial"/>
              </a:rPr>
              <a:t>ELECT Project 2007-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7812000" y="185760"/>
            <a:ext cx="1081080" cy="315720"/>
          </a:xfrm>
          <a:prstGeom prst="rect">
            <a:avLst/>
          </a:prstGeom>
          <a:solidFill>
            <a:srgbClr val="0095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4B7F-1388-4E19-98EF-8CFE6CC1DF01}" type="slidenum">
              <a:rPr b="1" lang="en-GB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7360" y="2356920"/>
            <a:ext cx="7772400" cy="200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ELECT- </a:t>
            </a:r>
            <a:br>
              <a:rPr sz="3200"/>
            </a:br>
            <a:r>
              <a:rPr b="1" lang="fi-FI" sz="24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uropean </a:t>
            </a:r>
            <a:r>
              <a:rPr b="1" lang="fi-FI" sz="24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earning </a:t>
            </a:r>
            <a:r>
              <a:rPr b="1" lang="fi-FI" sz="24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ommunities for </a:t>
            </a:r>
            <a:r>
              <a:rPr b="1" lang="fi-FI" sz="24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raining of people with Mental Ilness 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57200" y="4587480"/>
            <a:ext cx="6400800" cy="10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-CONSORTIUM  MEETING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nchen 3-5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Novemb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lle Grönbe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1998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C:\Users\GRONBERG_VILLE\Desktop\DEF flag-logoeac-LLP_EN.tif"/>
          <p:cNvPicPr/>
          <p:nvPr/>
        </p:nvPicPr>
        <p:blipFill>
          <a:blip r:embed="rId1"/>
          <a:stretch/>
        </p:blipFill>
        <p:spPr>
          <a:xfrm>
            <a:off x="938160" y="687240"/>
            <a:ext cx="3419640" cy="138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4643280" y="928800"/>
          <a:ext cx="4071960" cy="1285920"/>
        </p:xfrm>
        <a:graphic>
          <a:graphicData uri="http://schemas.openxmlformats.org/drawingml/2006/table">
            <a:tbl>
              <a:tblPr/>
              <a:tblGrid>
                <a:gridCol w="4071960"/>
              </a:tblGrid>
              <a:tr h="1285920">
                <a:tc>
                  <a:txBody>
                    <a:bodyPr lIns="89640" rIns="89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his project has been funded with support from the European Commission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his publication reflects the views only of the author, and the Commission cannot be held responsible for any use which may be made of the information contained therein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t agreement: 2007 - 3453 / 001 – 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92360" y="907920"/>
            <a:ext cx="6913440" cy="92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Progress repo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3920" y="1999800"/>
            <a:ext cx="7418520" cy="32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45680" indent="-445680">
              <a:lnSpc>
                <a:spcPts val="2798"/>
              </a:lnSpc>
              <a:spcBef>
                <a:spcPts val="1125"/>
              </a:spcBef>
              <a:buClr>
                <a:srgbClr val="fbaa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ELECT project has to submit two reports: 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progres report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fi-FI" sz="1800" spc="-1" strike="noStrike">
                <a:solidFill>
                  <a:srgbClr val="000000"/>
                </a:solidFill>
                <a:latin typeface="Arial"/>
              </a:rPr>
              <a:t>final report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. Progres report has now been submitt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5680" indent="-445680">
              <a:lnSpc>
                <a:spcPts val="2798"/>
              </a:lnSpc>
              <a:spcBef>
                <a:spcPts val="1125"/>
              </a:spcBef>
              <a:buClr>
                <a:srgbClr val="fbaa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Progres report reporting period  is1.11.2007-30.9.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5680" indent="-445680">
              <a:lnSpc>
                <a:spcPts val="2798"/>
              </a:lnSpc>
              <a:spcBef>
                <a:spcPts val="1125"/>
              </a:spcBef>
              <a:buClr>
                <a:srgbClr val="fbaa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Report includes: </a:t>
            </a:r>
            <a:r>
              <a:rPr b="0" lang="fi-FI" sz="1800" spc="-1" strike="noStrike" u="sng">
                <a:solidFill>
                  <a:srgbClr val="000000"/>
                </a:solidFill>
                <a:uFillTx/>
                <a:latin typeface="Arial"/>
              </a:rPr>
              <a:t>Confidential part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i-FI" sz="1800" spc="-1" strike="noStrike" u="sng">
                <a:solidFill>
                  <a:srgbClr val="000000"/>
                </a:solidFill>
                <a:uFillTx/>
                <a:latin typeface="Arial"/>
              </a:rPr>
              <a:t>Public part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fi-FI" sz="1800" spc="-1" strike="noStrike" u="sng">
                <a:solidFill>
                  <a:srgbClr val="000000"/>
                </a:solidFill>
                <a:uFillTx/>
                <a:latin typeface="Arial"/>
              </a:rPr>
              <a:t>outcomes/results 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of the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5680" indent="-445680">
              <a:lnSpc>
                <a:spcPts val="2798"/>
              </a:lnSpc>
              <a:spcBef>
                <a:spcPts val="1125"/>
              </a:spcBef>
              <a:buClr>
                <a:srgbClr val="fbaa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Both reports will be evaluated by the Commission. The rating values run fron 0 to10. Values 5-6 are acceptable, 7-8 Good, 9-10 Very g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5680" indent="0">
              <a:lnSpc>
                <a:spcPts val="2798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92360" y="88056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Outcomes and results of the ELECT project 1.11.2007-30.9.2008 </a:t>
            </a: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92360" y="2298240"/>
            <a:ext cx="6913440" cy="32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nagement Work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anet solution - Elect blo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 steering group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consortium meeting 1</a:t>
            </a: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consortium meeting 2 (facilitating detailed project plann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ner agreement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ation and Motivation W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rvey of existing study practices in Clubhouses (questionnaire, results + analy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bhouse member trainees' educational needs and goals (questionnaire + resul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pport Methods for Education and Training W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ing study support methods (questionnaire + summa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rt consultations on mental health and studying (two lectu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latunnisteen paikkamerkki 3"/>
          <p:cNvSpPr/>
          <p:nvPr/>
        </p:nvSpPr>
        <p:spPr>
          <a:xfrm>
            <a:off x="2698920" y="185760"/>
            <a:ext cx="5186160" cy="315720"/>
          </a:xfrm>
          <a:prstGeom prst="rect">
            <a:avLst/>
          </a:prstGeom>
          <a:solidFill>
            <a:srgbClr val="0095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900" spc="-1" strike="noStrike">
                <a:solidFill>
                  <a:srgbClr val="ffffff"/>
                </a:solidFill>
                <a:latin typeface="Arial"/>
              </a:rPr>
              <a:t>Elect Project 2007-2009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ian numeron paikkamerkki 4"/>
          <p:cNvSpPr/>
          <p:nvPr/>
        </p:nvSpPr>
        <p:spPr>
          <a:xfrm>
            <a:off x="7812000" y="185760"/>
            <a:ext cx="1081080" cy="315720"/>
          </a:xfrm>
          <a:prstGeom prst="rect">
            <a:avLst/>
          </a:prstGeom>
          <a:solidFill>
            <a:srgbClr val="0095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01B5-BFEA-4FFE-BCCD-A46E1782B85A}" type="slidenum">
              <a:rPr b="1" lang="en-GB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92360" y="88056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Outcomes and results of the ELECT project 1.11.2007-30.9.2008 </a:t>
            </a: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692360" y="2298240"/>
            <a:ext cx="6913440" cy="32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ining of trainers W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 of the pilot course (draft program, application fo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ality and Evaluation W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im re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semination and Explo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ject website and statistics</a:t>
            </a: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brochures (seven language vers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ject newsletter 1/2008</a:t>
            </a: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ject newsletter 2/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ticle in the Mental Health Europe news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spaper article in Icelandic News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ibution to the Mental Health Europe semin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latunnisteen paikkamerkki 3"/>
          <p:cNvSpPr/>
          <p:nvPr/>
        </p:nvSpPr>
        <p:spPr>
          <a:xfrm>
            <a:off x="2698920" y="185760"/>
            <a:ext cx="5186160" cy="315720"/>
          </a:xfrm>
          <a:prstGeom prst="rect">
            <a:avLst/>
          </a:prstGeom>
          <a:solidFill>
            <a:srgbClr val="0095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ian numeron paikkamerkki 4"/>
          <p:cNvSpPr/>
          <p:nvPr/>
        </p:nvSpPr>
        <p:spPr>
          <a:xfrm>
            <a:off x="7812000" y="185760"/>
            <a:ext cx="1081080" cy="315720"/>
          </a:xfrm>
          <a:prstGeom prst="rect">
            <a:avLst/>
          </a:prstGeom>
          <a:solidFill>
            <a:srgbClr val="0095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BE8A-6630-4AA0-9CF3-A20B4F206734}" type="slidenum">
              <a:rPr b="1" lang="en-GB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2360" y="88056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Challenges for the second half of the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692360" y="2298240"/>
            <a:ext cx="6913440" cy="32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nagement Work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Planning of the ELECT 2 project (by 27.2.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Project mee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Final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ation and Motivation W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CSCL courses (2) +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Report of good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Members educational goals and needs report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Learning pathways and pl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Final report of the workpackage (summary of activities &amp; resul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latunnisteen paikkamerkki 3"/>
          <p:cNvSpPr/>
          <p:nvPr/>
        </p:nvSpPr>
        <p:spPr>
          <a:xfrm>
            <a:off x="2698920" y="185760"/>
            <a:ext cx="5186160" cy="315720"/>
          </a:xfrm>
          <a:prstGeom prst="rect">
            <a:avLst/>
          </a:prstGeom>
          <a:solidFill>
            <a:srgbClr val="0095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ian numeron paikkamerkki 4"/>
          <p:cNvSpPr/>
          <p:nvPr/>
        </p:nvSpPr>
        <p:spPr>
          <a:xfrm>
            <a:off x="7812000" y="185760"/>
            <a:ext cx="1081080" cy="315720"/>
          </a:xfrm>
          <a:prstGeom prst="rect">
            <a:avLst/>
          </a:prstGeom>
          <a:solidFill>
            <a:srgbClr val="0095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E99C-FEFF-43C1-A8C8-B256E645AD14}" type="slidenum">
              <a:rPr b="1" lang="en-GB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92360" y="88056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Arial"/>
              </a:rPr>
              <a:t>Challenges for the second half of the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692360" y="2298240"/>
            <a:ext cx="6913440" cy="32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pport Methods for Education and Training W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peration with educ. instit.</a:t>
            </a: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pilot CHs in each country)  + excursions to educational institit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nal report (support metho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ining of trainers W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Pilot Course + feedback, Curriculum of the Supported educ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ality and Evaluation W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ing information, Final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semination and Explo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sletters (3 &amp; 4), participating to the Clubhouse seminars and other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latunnisteen paikkamerkki 3"/>
          <p:cNvSpPr/>
          <p:nvPr/>
        </p:nvSpPr>
        <p:spPr>
          <a:xfrm>
            <a:off x="2698920" y="185760"/>
            <a:ext cx="5186160" cy="315720"/>
          </a:xfrm>
          <a:prstGeom prst="rect">
            <a:avLst/>
          </a:prstGeom>
          <a:solidFill>
            <a:srgbClr val="0095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ian numeron paikkamerkki 4"/>
          <p:cNvSpPr/>
          <p:nvPr/>
        </p:nvSpPr>
        <p:spPr>
          <a:xfrm>
            <a:off x="7812000" y="185760"/>
            <a:ext cx="1081080" cy="315720"/>
          </a:xfrm>
          <a:prstGeom prst="rect">
            <a:avLst/>
          </a:prstGeom>
          <a:solidFill>
            <a:srgbClr val="0095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CEA5-AD71-4727-8B9C-C737240179D6}" type="slidenum">
              <a:rPr b="1" lang="en-GB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latunnisteen paikkamerkki 4"/>
          <p:cNvSpPr/>
          <p:nvPr/>
        </p:nvSpPr>
        <p:spPr>
          <a:xfrm>
            <a:off x="2698920" y="185760"/>
            <a:ext cx="5186160" cy="315720"/>
          </a:xfrm>
          <a:prstGeom prst="rect">
            <a:avLst/>
          </a:prstGeom>
          <a:solidFill>
            <a:srgbClr val="0095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ian numeron paikkamerkki 5"/>
          <p:cNvSpPr/>
          <p:nvPr/>
        </p:nvSpPr>
        <p:spPr>
          <a:xfrm>
            <a:off x="7812000" y="185760"/>
            <a:ext cx="1081080" cy="315720"/>
          </a:xfrm>
          <a:prstGeom prst="rect">
            <a:avLst/>
          </a:prstGeom>
          <a:solidFill>
            <a:srgbClr val="0095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92AD-8DC4-403F-A030-668B4A3719D7}" type="slidenum">
              <a:rPr b="1" lang="en-GB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42560" y="880560"/>
            <a:ext cx="691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Arial"/>
              </a:rPr>
              <a:t>ELECT-project contact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8720" y="2565000"/>
            <a:ext cx="3527280" cy="320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agement/Coordin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lle Grönbe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tive Employment initiatives –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.O Box 2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Lintulahdenkuja 4 – street addres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-00531 Helsin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bile +358 400 259 0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. +358 9 3967 2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x. +358 9 3967 22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1400" spc="-1" strike="noStrike" u="sng">
                <a:solidFill>
                  <a:srgbClr val="007ac2"/>
                </a:solidFill>
                <a:uFillTx/>
                <a:latin typeface="Arial"/>
                <a:hlinkClick r:id="rId1"/>
              </a:rPr>
              <a:t>ville.gronberg@stakes.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4861080" y="2565360"/>
            <a:ext cx="3527280" cy="320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orts &amp; pay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u Laakko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ancial secretary (1.10.2008-28.2.200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novative Employment initiatives –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.O Box 2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Lintulahdenkuja 4 – street addres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-00531 Helsinki, Fin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. +358 9 3967 26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x. +358 9 3967 22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1400" spc="-1" strike="noStrike" u="sng">
                <a:solidFill>
                  <a:srgbClr val="0070c0"/>
                </a:solidFill>
                <a:uFillTx/>
                <a:latin typeface="Arial"/>
              </a:rPr>
              <a:t>anu.laakkonen</a:t>
            </a:r>
            <a:r>
              <a:rPr b="0" lang="en-US" sz="1400" spc="-1" strike="noStrike" u="sng">
                <a:solidFill>
                  <a:srgbClr val="007ac2"/>
                </a:solidFill>
                <a:uFillTx/>
                <a:latin typeface="Arial"/>
                <a:hlinkClick r:id="rId2"/>
              </a:rPr>
              <a:t>@stakes.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07:13:38Z</dcterms:created>
  <dc:creator>GRONBERG_VILLE</dc:creator>
  <dc:description/>
  <dc:language>en-US</dc:language>
  <cp:lastModifiedBy>Ville Grönberg</cp:lastModifiedBy>
  <dcterms:modified xsi:type="dcterms:W3CDTF">2008-10-31T09:18:35Z</dcterms:modified>
  <cp:revision>37</cp:revision>
  <dc:subject/>
  <dc:title>ELECT-project  steering group mee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zVerID">
    <vt:lpwstr>003</vt:lpwstr>
  </property>
</Properties>
</file>