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29D0-4971-49FB-8A36-9E5FE0C3FAA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F3B3-E37B-4C36-9CFB-910959AEC65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3419-B98D-45B3-8CC3-9AAD7D21CA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orts, cooking, communication,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DCC-08BD-4B4B-9D15-3F41839F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78D-0CCC-4DE1-B235-165B8703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96A-DC40-4854-BE8B-47F110F5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A63-A1F6-4C77-B69E-E3FF23CD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7B7-A6EB-41CF-A9CA-05C83EAA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5EF-4F33-4C82-AB90-952FF88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4E1-7B7E-464D-B0B6-115998A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ADA-A49E-4D3E-AD9A-E6A51A18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C11-C3C0-4088-AD46-4259ED08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A3E-8C1F-4D4A-AA68-8A357BD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978-1744-4826-A880-754C879A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9A8-EE8A-4E33-AD4A-4C88C46F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560A-DED0-46FC-93DE-53DFE6143D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latunnisteen paikkamerkki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harly Kahl-Gortan; Vera Hah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8469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ow do you motivate your members to lear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valuation of the questionnaire no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offer courses for intermedi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1024"/>
          <p:cNvGraphicFramePr/>
          <p:nvPr/>
        </p:nvGraphicFramePr>
        <p:xfrm>
          <a:off x="1619280" y="1844640"/>
          <a:ext cx="581040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58104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Any options to repeat the less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f yes, wha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ssons are individually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pying scri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peat the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pends on the course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sonal support from teacher or other particip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 about the last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1024"/>
          <p:cNvGraphicFramePr/>
          <p:nvPr/>
        </p:nvGraphicFramePr>
        <p:xfrm>
          <a:off x="-1044720" y="2205000"/>
          <a:ext cx="576108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44720" y="2205000"/>
                    <a:ext cx="576108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o offers the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olunt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eachers from out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ents which are doing their pracitcal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1342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Learning opportunities during the Work Ordered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38098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ing h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ling drinks/sn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 training and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ndling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in the ga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wering th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3280" y="1773360"/>
            <a:ext cx="38102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to organize the spar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cussions about how to live th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w to make fil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eaning/hygien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ook keeping/to manage the cashier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of new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o all members have a mentor/ mentor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0"/>
          <p:cNvGraphicFramePr/>
          <p:nvPr/>
        </p:nvGraphicFramePr>
        <p:xfrm>
          <a:off x="68580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s 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st of them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me of them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in particular, but multiple relations are taking place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found a functioning structure yet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cause the CH has just started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 every member is ready to be a mentor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r members ask for special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349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ory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udy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3280" y="2349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ifferent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conomy/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lax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Job apply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ell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support members in taking courses apart from club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iving inform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ooking for schools and visit th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alking with student counsel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early every support they ne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Good contacts with different educational instit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ducational exhibition once/y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elping to solve problems with social security iss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of members‘ carreer/rehabiliation plan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nou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y a certain amount of the courses or train ticke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have documentations about members‘ whishes of special learning subjec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3809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ords from house/policy 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oal planning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rvey made by a student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king members‘ interests and then try to organize a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st of whishes an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643280" y="2349360"/>
          <a:ext cx="381024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349360"/>
                    <a:ext cx="381024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o you follow up things members learn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3573000"/>
            <a:ext cx="38098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ion plans/goal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nner self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 follow up (needs more at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0"/>
          <p:cNvGraphicFramePr/>
          <p:nvPr/>
        </p:nvGraphicFramePr>
        <p:xfrm>
          <a:off x="4019400" y="2773440"/>
          <a:ext cx="476280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9400" y="2773440"/>
                    <a:ext cx="476280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Who decides in the Clubhouse about the courses to be offer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use/polic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f money is concerned the last responsibility lays with the director (teachers from outs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ducational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ull time teachers together with th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708120" y="83016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Return of the questionna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1628640"/>
            <a:ext cx="77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im:     45% return of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sult: 62% return of questionnaires (out of 3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914400" y="1981080"/>
          <a:ext cx="7559640" cy="54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5596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Return of questionna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7"/>
          <p:cNvGraphicFramePr/>
          <p:nvPr/>
        </p:nvGraphicFramePr>
        <p:xfrm>
          <a:off x="684360" y="1989000"/>
          <a:ext cx="6840360" cy="38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6840360" cy="38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n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wed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s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on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a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29200" y="2819160"/>
            <a:ext cx="2286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495680" y="3429000"/>
            <a:ext cx="350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286000" y="2438280"/>
            <a:ext cx="373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9"/>
          <p:cNvGraphicFramePr/>
          <p:nvPr/>
        </p:nvGraphicFramePr>
        <p:xfrm>
          <a:off x="2987640" y="2492280"/>
          <a:ext cx="47242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92280"/>
                    <a:ext cx="47242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Computer sk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CDL (1st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3962520" y="2666880"/>
          <a:ext cx="4724280" cy="34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666880"/>
                    <a:ext cx="472428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Something else, wh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orts (yoga, n.walk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y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rformance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ing newspa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related men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reer gu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od hygienic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16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ption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nackbar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e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ily li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ilosophy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id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municatio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flict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s (drum/guitar course needle work, music, photo workshop, writing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personally ask and </a:t>
            </a:r>
            <a:r>
              <a:rPr b="1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motivate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the members to participate in a cour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1981080" y="2666880"/>
          <a:ext cx="5470560" cy="34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666880"/>
                    <a:ext cx="547056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How do you draw attention to the cours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ning-/ House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ion through members and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s in the clubhouse 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nouncements at info 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udy program leaf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nal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lling th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ak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Do you offer courses for beginn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3"/>
          <p:cNvGraphicFramePr/>
          <p:nvPr/>
        </p:nvGraphicFramePr>
        <p:xfrm>
          <a:off x="1295280" y="1876320"/>
          <a:ext cx="658188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76320"/>
                    <a:ext cx="658188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09:55:13Z</dcterms:created>
  <dc:creator>Charly Kahl-Gortan</dc:creator>
  <dc:description/>
  <dc:language>en-US</dc:language>
  <cp:lastModifiedBy>Ville Grönberg</cp:lastModifiedBy>
  <dcterms:modified xsi:type="dcterms:W3CDTF">2008-08-20T13:18:38Z</dcterms:modified>
  <cp:revision>76</cp:revision>
  <dc:subject/>
  <dc:title>PowerPoint-Präsentation</dc:title>
</cp:coreProperties>
</file>