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17BD-4EDA-4C02-855D-3D4E6E94A6D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B49C-629D-4CF1-897B-776986AE58F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3DAF-0C7F-43EE-B0D8-09FBE915C9C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ports, cooking, communication,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7D7-757D-4C7E-BA56-F4747B4E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D71-0CDC-4B7E-AA9B-6887F88D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F36-1671-4C14-AC03-3397369F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3073-563C-4E0C-8EB5-37293976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007-D56C-45F4-BDA2-F917223B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5E6-2EE4-4903-A553-71BE5FB8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BEA-9169-4808-88EA-32125E2F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D84-2C2C-482F-96E9-D5338B5C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86C-3166-4BE2-9509-D7171E89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ED3-7C55-4743-98E4-F82C2443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A862-D571-4E63-B282-DBF3A2E0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5F0-C8D2-48F4-B824-A4B520EF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2417-F4A4-4E52-B9DF-E6429F74AEE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latunnisteen paikkamerkki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harly Kahl-Gortan; Vera Hah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8469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How do you motivate your members to lear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valuation of the questionnaire no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Do you offer courses for intermedi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024"/>
          <p:cNvGraphicFramePr/>
          <p:nvPr/>
        </p:nvGraphicFramePr>
        <p:xfrm>
          <a:off x="1619280" y="1844640"/>
          <a:ext cx="581040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44640"/>
                    <a:ext cx="581040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y options to repeat the less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f yes, w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ssons are individually 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pying 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eat the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pends on the course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onal support from teacher or other particip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 about the last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1024"/>
          <p:cNvGraphicFramePr/>
          <p:nvPr/>
        </p:nvGraphicFramePr>
        <p:xfrm>
          <a:off x="-1044720" y="2205000"/>
          <a:ext cx="5761080" cy="36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4720" y="2205000"/>
                    <a:ext cx="576108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Who offers the cour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achers from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udents which are doing their pracitcal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1342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Learning opportunities during the Work Ordered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uter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ndling hand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lling drinks/sn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munication training and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ndling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 in the g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wering th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3280" y="1773360"/>
            <a:ext cx="38102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w to organize the spare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cussions about how to live th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w to make fil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eaning/hygiene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ook keeping/to manage the cashier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of new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o all members have a mentor/ mentorro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0"/>
          <p:cNvGraphicFramePr/>
          <p:nvPr/>
        </p:nvGraphicFramePr>
        <p:xfrm>
          <a:off x="68580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es 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st of them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me of them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t in particular, but multiple relations are taking place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t found a functioning structure yet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cause the CH has just started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t every member is ready to be a mentor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Do your members ask for special cour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349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fferent 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mory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udy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3280" y="2349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fferent 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fferent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conomy/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lax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ob app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ll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o you support members in taking courses apart from clubhou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iving inform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pply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ooking for schools and visit th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alking with student counsel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early every support they ne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ood contacts with different educational instit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ducational exhibition once/y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elping to solve problems with social security issu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rt of members‘ carreer/rehabiliatio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y a certain amount of the courses or train ticke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o you have documentations about members‘ whishes of special learning subjec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ords from house/policy 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oal planning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rvey made by a student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king members‘ interests and then try to organize a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st of whishes and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4643280" y="2349360"/>
          <a:ext cx="381024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349360"/>
                    <a:ext cx="38102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o you follow up things members learn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3573000"/>
            <a:ext cx="380988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tion plans/goal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ner self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 follow up (needs more atten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0"/>
          <p:cNvGraphicFramePr/>
          <p:nvPr/>
        </p:nvGraphicFramePr>
        <p:xfrm>
          <a:off x="4019400" y="2773440"/>
          <a:ext cx="4762800" cy="36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9400" y="2773440"/>
                    <a:ext cx="476280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Who decides in the Clubhouse about the courses to be offer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use/policy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f money is concerned the last responsibility lays with the director (teachers from outs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ducational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ll time teachers together with th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708120" y="830160"/>
            <a:ext cx="69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57200" y="380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Return of the questionna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628640"/>
            <a:ext cx="7710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im:     45% return of ques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ult: 62% return of questionnaires (out of 3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6"/>
          <p:cNvGraphicFramePr/>
          <p:nvPr/>
        </p:nvGraphicFramePr>
        <p:xfrm>
          <a:off x="914400" y="1981080"/>
          <a:ext cx="7559640" cy="54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5596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Return of questionna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7"/>
          <p:cNvGraphicFramePr/>
          <p:nvPr/>
        </p:nvGraphicFramePr>
        <p:xfrm>
          <a:off x="684360" y="1989000"/>
          <a:ext cx="6840360" cy="38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6840360" cy="38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n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wed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us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on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al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9200" y="2819160"/>
            <a:ext cx="2286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95680" y="3429000"/>
            <a:ext cx="350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86000" y="2438280"/>
            <a:ext cx="373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9"/>
          <p:cNvGraphicFramePr/>
          <p:nvPr/>
        </p:nvGraphicFramePr>
        <p:xfrm>
          <a:off x="2987640" y="2492280"/>
          <a:ext cx="47242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492280"/>
                    <a:ext cx="47242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Computer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CDL (1st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6"/>
          <p:cNvGraphicFramePr/>
          <p:nvPr/>
        </p:nvGraphicFramePr>
        <p:xfrm>
          <a:off x="3962520" y="2666880"/>
          <a:ext cx="47242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666880"/>
                    <a:ext cx="47242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omething else,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orts (yoga, n.walk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udying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formance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ing news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related men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reer gu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od hygienic 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1640" y="12193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eption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nackbar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ily l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ilosoph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rst aid 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municatio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flict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s (drum/guitar course needle work, music, photo workshop, writing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Do you personally ask and </a:t>
            </a:r>
            <a:r>
              <a:rPr b="1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motivate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the members to participate in a cour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1981080" y="2666880"/>
          <a:ext cx="547056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666880"/>
                    <a:ext cx="547056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How do you draw attention to the cour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ning-/ House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ivation through members and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s in the clubhouse news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nouncements at info 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udy program leaf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nal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lling the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ak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Do you offer courses for beginn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3"/>
          <p:cNvGraphicFramePr/>
          <p:nvPr/>
        </p:nvGraphicFramePr>
        <p:xfrm>
          <a:off x="1295280" y="1876320"/>
          <a:ext cx="658188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76320"/>
                    <a:ext cx="658188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09:55:13Z</dcterms:created>
  <dc:creator>Charly Kahl-Gortan</dc:creator>
  <dc:description/>
  <dc:language>en-US</dc:language>
  <cp:lastModifiedBy>Ville Grönberg</cp:lastModifiedBy>
  <dcterms:modified xsi:type="dcterms:W3CDTF">2008-08-20T13:18:38Z</dcterms:modified>
  <cp:revision>76</cp:revision>
  <dc:subject/>
  <dc:title>PowerPoint-Präsentation</dc:title>
</cp:coreProperties>
</file>